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3F9-408B-431A-8434-D37C6634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1337-1CEC-40F8-A537-A1D79071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0307-3063-4AEE-ACFC-02CD0AEC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1B0-4F21-4A45-9246-A5037169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ACBF-49E9-40BF-A988-15D45A1A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AD4-03F3-476D-A472-E4352A78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752-C6A3-485C-8920-A8EF5FCA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3E44-151A-497A-95A6-0032065F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DDE-B9F8-4080-907C-8154EE1C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8D18-555C-4A7E-8BCA-BCB14E79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0B3-0F32-42F7-A0C1-0DDD6623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529-A1C7-42A4-B73E-191ECF04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9B12-8680-4730-B4D5-38DA71B27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webcalc.com.br/matematica/" TargetMode="External"/><Relationship Id="rId2" Type="http://schemas.openxmlformats.org/officeDocument/2006/relationships/hyperlink" Target="http://www.mat.ufrgs.br/~edumatec/atividades/ativ25/CabriJava/tra.htm" TargetMode="External"/><Relationship Id="rId3" Type="http://schemas.openxmlformats.org/officeDocument/2006/relationships/hyperlink" Target="http://www.eduardochaves.uaivip.com.br/figuras%20planas.htm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739000">
            <a:off x="-265320" y="5065560"/>
            <a:ext cx="3276720" cy="1222200"/>
          </a:xfrm>
          <a:custGeom>
            <a:avLst/>
            <a:gdLst>
              <a:gd name="textAreaLeft" fmla="*/ 865800 w 3276720"/>
              <a:gd name="textAreaRight" fmla="*/ 2410920 w 3276720"/>
              <a:gd name="textAreaTop" fmla="*/ 322920 h 1222200"/>
              <a:gd name="textAreaBottom" fmla="*/ 89928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76" y="21600"/>
                </a:lnTo>
                <a:lnTo>
                  <a:pt x="7124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18735000">
            <a:off x="6440040" y="5065200"/>
            <a:ext cx="3276720" cy="1222560"/>
          </a:xfrm>
          <a:custGeom>
            <a:avLst/>
            <a:gdLst>
              <a:gd name="textAreaLeft" fmla="*/ 865800 w 3276720"/>
              <a:gd name="textAreaRight" fmla="*/ 2410920 w 3276720"/>
              <a:gd name="textAreaTop" fmla="*/ 322920 h 1222560"/>
              <a:gd name="textAreaBottom" fmla="*/ 89964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76" y="21600"/>
                </a:lnTo>
                <a:lnTo>
                  <a:pt x="712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7444200">
            <a:off x="-533520" y="533160"/>
            <a:ext cx="3276360" cy="1222560"/>
          </a:xfrm>
          <a:custGeom>
            <a:avLst/>
            <a:gdLst>
              <a:gd name="textAreaLeft" fmla="*/ 865800 w 3276360"/>
              <a:gd name="textAreaRight" fmla="*/ 2410560 w 3276360"/>
              <a:gd name="textAreaTop" fmla="*/ 322920 h 1222560"/>
              <a:gd name="textAreaBottom" fmla="*/ 89964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76" y="21600"/>
                </a:lnTo>
                <a:lnTo>
                  <a:pt x="7124" y="21600"/>
                </a:lnTo>
                <a:close/>
              </a:path>
            </a:pathLst>
          </a:custGeom>
          <a:solidFill>
            <a:srgbClr val="c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4058600">
            <a:off x="6440400" y="493560"/>
            <a:ext cx="3276720" cy="1222560"/>
          </a:xfrm>
          <a:custGeom>
            <a:avLst/>
            <a:gdLst>
              <a:gd name="textAreaLeft" fmla="*/ 865800 w 3276720"/>
              <a:gd name="textAreaRight" fmla="*/ 2410920 w 3276720"/>
              <a:gd name="textAreaTop" fmla="*/ 322920 h 1222560"/>
              <a:gd name="textAreaBottom" fmla="*/ 89964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76" y="21600"/>
                </a:lnTo>
                <a:lnTo>
                  <a:pt x="7124" y="21600"/>
                </a:lnTo>
                <a:close/>
              </a:path>
            </a:pathLst>
          </a:custGeom>
          <a:solidFill>
            <a:srgbClr val="c7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38280" y="1828800"/>
            <a:ext cx="40388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7cc00"/>
                    </a:gs>
                    <a:gs pos="100000">
                      <a:srgbClr val="ca0000"/>
                    </a:gs>
                  </a:gsLst>
                  <a:lin ang="10800000"/>
                </a:gradFill>
                <a:latin typeface="Arial Black"/>
              </a:rPr>
              <a:t>Trapézi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c7cc00"/>
                  </a:gs>
                  <a:gs pos="100000">
                    <a:srgbClr val="ca0000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38280" y="3276720"/>
            <a:ext cx="4038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Down">
              <a:avLst>
                <a:gd name="adj" fmla="val 24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10800000"/>
                </a:gradFill>
                <a:latin typeface="Arial Black"/>
              </a:rPr>
              <a:t>e seus elemento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1089000"/>
            <a:ext cx="3276360" cy="58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c-a = Bt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+ Bt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Bt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+ Bt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= Bt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Comic Sans MS"/>
              </a:rPr>
              <a:t>1 +2</a:t>
            </a: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c-a = Bt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Comic Sans MS"/>
              </a:rPr>
              <a:t>1+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h(c-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hc-ha+2h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hc+h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9120" y="228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Vejamos a transformação da fórmula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03360" y="3292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3048120"/>
            <a:ext cx="2666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 =            + h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03360" y="5029200"/>
            <a:ext cx="16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784760"/>
            <a:ext cx="2666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 =      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03360" y="61880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5943600"/>
            <a:ext cx="2666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 =      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99072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91440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Fatorando.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46760" y="28414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2597040"/>
            <a:ext cx="2666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 =      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2384280"/>
            <a:ext cx="1752480" cy="22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(a+c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(a+c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4359240"/>
            <a:ext cx="24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114800"/>
            <a:ext cx="2666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 =      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49920" y="3962520"/>
            <a:ext cx="38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35520" y="4327560"/>
            <a:ext cx="381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86200"/>
            <a:ext cx="3352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Fazendo o M.M.C..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962520"/>
            <a:ext cx="221004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4572000" y="0"/>
            <a:ext cx="4572000" cy="6858000"/>
          </a:xfrm>
          <a:custGeom>
            <a:avLst/>
            <a:gdLst>
              <a:gd name="textAreaLeft" fmla="*/ 296280 w 4572000"/>
              <a:gd name="textAreaRight" fmla="*/ 4275720 w 4572000"/>
              <a:gd name="textAreaTop" fmla="*/ 296280 h 6858000"/>
              <a:gd name="textAreaBottom" fmla="*/ 6561720 h 6858000"/>
            </a:gdLst>
            <a:ahLst/>
            <a:rect l="textAreaLeft" t="textAreaTop" r="textAreaRight" b="textAreaBottom"/>
            <a:pathLst>
              <a:path w="21600" h="32399">
                <a:moveTo>
                  <a:pt x="0" y="0"/>
                </a:moveTo>
                <a:lnTo>
                  <a:pt x="21600" y="0"/>
                </a:lnTo>
                <a:lnTo>
                  <a:pt x="21600" y="32399"/>
                </a:lnTo>
                <a:lnTo>
                  <a:pt x="0" y="32399"/>
                </a:lnTo>
                <a:close/>
              </a:path>
              <a:path fill="lightenLess" w="21600" h="323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9">
                <a:moveTo>
                  <a:pt x="21600" y="0"/>
                </a:moveTo>
                <a:lnTo>
                  <a:pt x="21600" y="32399"/>
                </a:lnTo>
                <a:lnTo>
                  <a:pt x="20200" y="30999"/>
                </a:lnTo>
                <a:lnTo>
                  <a:pt x="20200" y="1400"/>
                </a:lnTo>
                <a:close/>
              </a:path>
              <a:path fill="darkenLess" w="21600" h="32399">
                <a:moveTo>
                  <a:pt x="21600" y="32399"/>
                </a:moveTo>
                <a:lnTo>
                  <a:pt x="0" y="32399"/>
                </a:lnTo>
                <a:lnTo>
                  <a:pt x="1400" y="30999"/>
                </a:lnTo>
                <a:lnTo>
                  <a:pt x="20200" y="30999"/>
                </a:lnTo>
                <a:close/>
              </a:path>
              <a:path fill="lighten" w="21600" h="32399">
                <a:moveTo>
                  <a:pt x="0" y="3239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0" y="0"/>
            <a:ext cx="4495680" cy="6858000"/>
          </a:xfrm>
          <a:custGeom>
            <a:avLst/>
            <a:gdLst>
              <a:gd name="textAreaLeft" fmla="*/ 291240 w 4495680"/>
              <a:gd name="textAreaRight" fmla="*/ 4204440 w 4495680"/>
              <a:gd name="textAreaTop" fmla="*/ 291240 h 6858000"/>
              <a:gd name="textAreaBottom" fmla="*/ 6566760 h 6858000"/>
            </a:gdLst>
            <a:ahLst/>
            <a:rect l="textAreaLeft" t="textAreaTop" r="textAreaRight" b="textAreaBottom"/>
            <a:pathLst>
              <a:path w="21600" h="32949">
                <a:moveTo>
                  <a:pt x="0" y="0"/>
                </a:moveTo>
                <a:lnTo>
                  <a:pt x="21600" y="0"/>
                </a:lnTo>
                <a:lnTo>
                  <a:pt x="21600" y="32949"/>
                </a:lnTo>
                <a:lnTo>
                  <a:pt x="0" y="32949"/>
                </a:lnTo>
                <a:close/>
              </a:path>
              <a:path fill="lightenLess" w="21600" h="329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49">
                <a:moveTo>
                  <a:pt x="21600" y="0"/>
                </a:moveTo>
                <a:lnTo>
                  <a:pt x="21600" y="32949"/>
                </a:lnTo>
                <a:lnTo>
                  <a:pt x="20200" y="31549"/>
                </a:lnTo>
                <a:lnTo>
                  <a:pt x="20200" y="1400"/>
                </a:lnTo>
                <a:close/>
              </a:path>
              <a:path fill="darkenLess" w="21600" h="32949">
                <a:moveTo>
                  <a:pt x="21600" y="32949"/>
                </a:moveTo>
                <a:lnTo>
                  <a:pt x="0" y="32949"/>
                </a:lnTo>
                <a:lnTo>
                  <a:pt x="1400" y="31549"/>
                </a:lnTo>
                <a:lnTo>
                  <a:pt x="20200" y="31549"/>
                </a:lnTo>
                <a:close/>
              </a:path>
              <a:path fill="lighten" w="21600" h="32949">
                <a:moveTo>
                  <a:pt x="0" y="32949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49120" y="228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Vamos para a segunda fórmula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1944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trapezio3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00600" cy="1679400"/>
          </a:xfrm>
          <a:prstGeom prst="rect">
            <a:avLst/>
          </a:prstGeom>
          <a:ln w="0">
            <a:noFill/>
          </a:ln>
        </p:spPr>
      </p:pic>
      <p:pic>
        <p:nvPicPr>
          <p:cNvPr id="178" name="trapezio1" descr=""/>
          <p:cNvPicPr/>
          <p:nvPr/>
        </p:nvPicPr>
        <p:blipFill>
          <a:blip r:embed="rId2"/>
          <a:stretch/>
        </p:blipFill>
        <p:spPr>
          <a:xfrm>
            <a:off x="2940120" y="3581280"/>
            <a:ext cx="3460680" cy="266220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4572000" y="0"/>
            <a:ext cx="4572000" cy="6858000"/>
          </a:xfrm>
          <a:custGeom>
            <a:avLst/>
            <a:gdLst>
              <a:gd name="textAreaLeft" fmla="*/ 296280 w 4572000"/>
              <a:gd name="textAreaRight" fmla="*/ 4275720 w 4572000"/>
              <a:gd name="textAreaTop" fmla="*/ 296280 h 6858000"/>
              <a:gd name="textAreaBottom" fmla="*/ 6561720 h 6858000"/>
            </a:gdLst>
            <a:ahLst/>
            <a:rect l="textAreaLeft" t="textAreaTop" r="textAreaRight" b="textAreaBottom"/>
            <a:pathLst>
              <a:path w="21600" h="32399">
                <a:moveTo>
                  <a:pt x="0" y="0"/>
                </a:moveTo>
                <a:lnTo>
                  <a:pt x="21600" y="0"/>
                </a:lnTo>
                <a:lnTo>
                  <a:pt x="21600" y="32399"/>
                </a:lnTo>
                <a:lnTo>
                  <a:pt x="0" y="32399"/>
                </a:lnTo>
                <a:close/>
              </a:path>
              <a:path fill="lightenLess" w="21600" h="323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9">
                <a:moveTo>
                  <a:pt x="21600" y="0"/>
                </a:moveTo>
                <a:lnTo>
                  <a:pt x="21600" y="32399"/>
                </a:lnTo>
                <a:lnTo>
                  <a:pt x="20200" y="30999"/>
                </a:lnTo>
                <a:lnTo>
                  <a:pt x="20200" y="1400"/>
                </a:lnTo>
                <a:close/>
              </a:path>
              <a:path fill="darkenLess" w="21600" h="32399">
                <a:moveTo>
                  <a:pt x="21600" y="32399"/>
                </a:moveTo>
                <a:lnTo>
                  <a:pt x="0" y="32399"/>
                </a:lnTo>
                <a:lnTo>
                  <a:pt x="1400" y="30999"/>
                </a:lnTo>
                <a:lnTo>
                  <a:pt x="20200" y="30999"/>
                </a:lnTo>
                <a:close/>
              </a:path>
              <a:path fill="lighten" w="21600" h="32399">
                <a:moveTo>
                  <a:pt x="0" y="3239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0" y="0"/>
            <a:ext cx="4495680" cy="6858000"/>
          </a:xfrm>
          <a:custGeom>
            <a:avLst/>
            <a:gdLst>
              <a:gd name="textAreaLeft" fmla="*/ 291240 w 4495680"/>
              <a:gd name="textAreaRight" fmla="*/ 4204440 w 4495680"/>
              <a:gd name="textAreaTop" fmla="*/ 291240 h 6858000"/>
              <a:gd name="textAreaBottom" fmla="*/ 6566760 h 6858000"/>
            </a:gdLst>
            <a:ahLst/>
            <a:rect l="textAreaLeft" t="textAreaTop" r="textAreaRight" b="textAreaBottom"/>
            <a:pathLst>
              <a:path w="21600" h="32949">
                <a:moveTo>
                  <a:pt x="0" y="0"/>
                </a:moveTo>
                <a:lnTo>
                  <a:pt x="21600" y="0"/>
                </a:lnTo>
                <a:lnTo>
                  <a:pt x="21600" y="32949"/>
                </a:lnTo>
                <a:lnTo>
                  <a:pt x="0" y="32949"/>
                </a:lnTo>
                <a:close/>
              </a:path>
              <a:path fill="lightenLess" w="21600" h="329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49">
                <a:moveTo>
                  <a:pt x="21600" y="0"/>
                </a:moveTo>
                <a:lnTo>
                  <a:pt x="21600" y="32949"/>
                </a:lnTo>
                <a:lnTo>
                  <a:pt x="20200" y="31549"/>
                </a:lnTo>
                <a:lnTo>
                  <a:pt x="20200" y="1400"/>
                </a:lnTo>
                <a:close/>
              </a:path>
              <a:path fill="darkenLess" w="21600" h="32949">
                <a:moveTo>
                  <a:pt x="21600" y="32949"/>
                </a:moveTo>
                <a:lnTo>
                  <a:pt x="0" y="32949"/>
                </a:lnTo>
                <a:lnTo>
                  <a:pt x="1400" y="31549"/>
                </a:lnTo>
                <a:lnTo>
                  <a:pt x="20200" y="31549"/>
                </a:lnTo>
                <a:close/>
              </a:path>
              <a:path fill="lighten" w="21600" h="32949">
                <a:moveTo>
                  <a:pt x="0" y="32949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49120" y="76320"/>
            <a:ext cx="8610840" cy="30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Vamos entendê-la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começar tenho que explicar o que é sen (sen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 triângulo retângulo existe o “sen” de um ângulo que é dado pela fórm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429000"/>
            <a:ext cx="2590920" cy="27432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894760" y="5603040"/>
            <a:ext cx="609480" cy="113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75" y="681"/>
                </a:moveTo>
                <a:arcTo wR="10800" hR="10800" stAng="-4172339" swAng="4172339"/>
                <a:lnTo>
                  <a:pt x="10800" y="10800"/>
                </a:lnTo>
                <a:close/>
              </a:path>
              <a:path fill="none" w="21600" h="21600">
                <a:moveTo>
                  <a:pt x="14575" y="681"/>
                </a:moveTo>
                <a:arcTo wR="10800" hR="10800" stAng="-4172339" swAng="417233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556272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465880"/>
            <a:ext cx="4572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3927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Ǿ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19920" y="3657600"/>
            <a:ext cx="10666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41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2120" y="4862520"/>
            <a:ext cx="6094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562720"/>
            <a:ext cx="51814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.: 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teto oposto) é o cateto oposto ao ângulo. Se for o outro ângulo, 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é ou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13240" y="3851280"/>
            <a:ext cx="457200" cy="20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4572000" y="0"/>
            <a:ext cx="4572000" cy="6858000"/>
          </a:xfrm>
          <a:custGeom>
            <a:avLst/>
            <a:gdLst>
              <a:gd name="textAreaLeft" fmla="*/ 296280 w 4572000"/>
              <a:gd name="textAreaRight" fmla="*/ 4275720 w 4572000"/>
              <a:gd name="textAreaTop" fmla="*/ 296280 h 6858000"/>
              <a:gd name="textAreaBottom" fmla="*/ 6561720 h 6858000"/>
            </a:gdLst>
            <a:ahLst/>
            <a:rect l="textAreaLeft" t="textAreaTop" r="textAreaRight" b="textAreaBottom"/>
            <a:pathLst>
              <a:path w="21600" h="32399">
                <a:moveTo>
                  <a:pt x="0" y="0"/>
                </a:moveTo>
                <a:lnTo>
                  <a:pt x="21600" y="0"/>
                </a:lnTo>
                <a:lnTo>
                  <a:pt x="21600" y="32399"/>
                </a:lnTo>
                <a:lnTo>
                  <a:pt x="0" y="32399"/>
                </a:lnTo>
                <a:close/>
              </a:path>
              <a:path fill="lightenLess" w="21600" h="323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9">
                <a:moveTo>
                  <a:pt x="21600" y="0"/>
                </a:moveTo>
                <a:lnTo>
                  <a:pt x="21600" y="32399"/>
                </a:lnTo>
                <a:lnTo>
                  <a:pt x="20200" y="30999"/>
                </a:lnTo>
                <a:lnTo>
                  <a:pt x="20200" y="1400"/>
                </a:lnTo>
                <a:close/>
              </a:path>
              <a:path fill="darkenLess" w="21600" h="32399">
                <a:moveTo>
                  <a:pt x="21600" y="32399"/>
                </a:moveTo>
                <a:lnTo>
                  <a:pt x="0" y="32399"/>
                </a:lnTo>
                <a:lnTo>
                  <a:pt x="1400" y="30999"/>
                </a:lnTo>
                <a:lnTo>
                  <a:pt x="20200" y="30999"/>
                </a:lnTo>
                <a:close/>
              </a:path>
              <a:path fill="lighten" w="21600" h="32399">
                <a:moveTo>
                  <a:pt x="0" y="3239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0" y="0"/>
            <a:ext cx="4495680" cy="6858000"/>
          </a:xfrm>
          <a:custGeom>
            <a:avLst/>
            <a:gdLst>
              <a:gd name="textAreaLeft" fmla="*/ 291240 w 4495680"/>
              <a:gd name="textAreaRight" fmla="*/ 4204440 w 4495680"/>
              <a:gd name="textAreaTop" fmla="*/ 291240 h 6858000"/>
              <a:gd name="textAreaBottom" fmla="*/ 6566760 h 6858000"/>
            </a:gdLst>
            <a:ahLst/>
            <a:rect l="textAreaLeft" t="textAreaTop" r="textAreaRight" b="textAreaBottom"/>
            <a:pathLst>
              <a:path w="21600" h="32949">
                <a:moveTo>
                  <a:pt x="0" y="0"/>
                </a:moveTo>
                <a:lnTo>
                  <a:pt x="21600" y="0"/>
                </a:lnTo>
                <a:lnTo>
                  <a:pt x="21600" y="32949"/>
                </a:lnTo>
                <a:lnTo>
                  <a:pt x="0" y="32949"/>
                </a:lnTo>
                <a:close/>
              </a:path>
              <a:path fill="lightenLess" w="21600" h="329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49">
                <a:moveTo>
                  <a:pt x="21600" y="0"/>
                </a:moveTo>
                <a:lnTo>
                  <a:pt x="21600" y="32949"/>
                </a:lnTo>
                <a:lnTo>
                  <a:pt x="20200" y="31549"/>
                </a:lnTo>
                <a:lnTo>
                  <a:pt x="20200" y="1400"/>
                </a:lnTo>
                <a:close/>
              </a:path>
              <a:path fill="darkenLess" w="21600" h="32949">
                <a:moveTo>
                  <a:pt x="21600" y="32949"/>
                </a:moveTo>
                <a:lnTo>
                  <a:pt x="0" y="32949"/>
                </a:lnTo>
                <a:lnTo>
                  <a:pt x="1400" y="31549"/>
                </a:lnTo>
                <a:lnTo>
                  <a:pt x="20200" y="31549"/>
                </a:lnTo>
                <a:close/>
              </a:path>
              <a:path fill="lighten" w="21600" h="32949">
                <a:moveTo>
                  <a:pt x="0" y="32949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49120" y="212760"/>
            <a:ext cx="8610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ara saber o seno, só consultando uma tabela ou uma calculadora que tenha seno. Veja uma tabela com os senos dos 5 principais ângulo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523880" y="2616120"/>
          <a:ext cx="6096240" cy="189396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85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8098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37339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876920" y="358092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528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37339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867280" y="358092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4572000" y="0"/>
            <a:ext cx="4572000" cy="6858000"/>
          </a:xfrm>
          <a:custGeom>
            <a:avLst/>
            <a:gdLst>
              <a:gd name="textAreaLeft" fmla="*/ 296280 w 4572000"/>
              <a:gd name="textAreaRight" fmla="*/ 4275720 w 4572000"/>
              <a:gd name="textAreaTop" fmla="*/ 296280 h 6858000"/>
              <a:gd name="textAreaBottom" fmla="*/ 6561720 h 6858000"/>
            </a:gdLst>
            <a:ahLst/>
            <a:rect l="textAreaLeft" t="textAreaTop" r="textAreaRight" b="textAreaBottom"/>
            <a:pathLst>
              <a:path w="21600" h="32399">
                <a:moveTo>
                  <a:pt x="0" y="0"/>
                </a:moveTo>
                <a:lnTo>
                  <a:pt x="21600" y="0"/>
                </a:lnTo>
                <a:lnTo>
                  <a:pt x="21600" y="32399"/>
                </a:lnTo>
                <a:lnTo>
                  <a:pt x="0" y="32399"/>
                </a:lnTo>
                <a:close/>
              </a:path>
              <a:path fill="lightenLess" w="21600" h="323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9">
                <a:moveTo>
                  <a:pt x="21600" y="0"/>
                </a:moveTo>
                <a:lnTo>
                  <a:pt x="21600" y="32399"/>
                </a:lnTo>
                <a:lnTo>
                  <a:pt x="20200" y="30999"/>
                </a:lnTo>
                <a:lnTo>
                  <a:pt x="20200" y="1400"/>
                </a:lnTo>
                <a:close/>
              </a:path>
              <a:path fill="darkenLess" w="21600" h="32399">
                <a:moveTo>
                  <a:pt x="21600" y="32399"/>
                </a:moveTo>
                <a:lnTo>
                  <a:pt x="0" y="32399"/>
                </a:lnTo>
                <a:lnTo>
                  <a:pt x="1400" y="30999"/>
                </a:lnTo>
                <a:lnTo>
                  <a:pt x="20200" y="30999"/>
                </a:lnTo>
                <a:close/>
              </a:path>
              <a:path fill="lighten" w="21600" h="32399">
                <a:moveTo>
                  <a:pt x="0" y="3239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0" y="0"/>
            <a:ext cx="4495680" cy="6858000"/>
          </a:xfrm>
          <a:custGeom>
            <a:avLst/>
            <a:gdLst>
              <a:gd name="textAreaLeft" fmla="*/ 291240 w 4495680"/>
              <a:gd name="textAreaRight" fmla="*/ 4204440 w 4495680"/>
              <a:gd name="textAreaTop" fmla="*/ 291240 h 6858000"/>
              <a:gd name="textAreaBottom" fmla="*/ 6566760 h 6858000"/>
            </a:gdLst>
            <a:ahLst/>
            <a:rect l="textAreaLeft" t="textAreaTop" r="textAreaRight" b="textAreaBottom"/>
            <a:pathLst>
              <a:path w="21600" h="32949">
                <a:moveTo>
                  <a:pt x="0" y="0"/>
                </a:moveTo>
                <a:lnTo>
                  <a:pt x="21600" y="0"/>
                </a:lnTo>
                <a:lnTo>
                  <a:pt x="21600" y="32949"/>
                </a:lnTo>
                <a:lnTo>
                  <a:pt x="0" y="32949"/>
                </a:lnTo>
                <a:close/>
              </a:path>
              <a:path fill="lightenLess" w="21600" h="329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49">
                <a:moveTo>
                  <a:pt x="21600" y="0"/>
                </a:moveTo>
                <a:lnTo>
                  <a:pt x="21600" y="32949"/>
                </a:lnTo>
                <a:lnTo>
                  <a:pt x="20200" y="31549"/>
                </a:lnTo>
                <a:lnTo>
                  <a:pt x="20200" y="1400"/>
                </a:lnTo>
                <a:close/>
              </a:path>
              <a:path fill="darkenLess" w="21600" h="32949">
                <a:moveTo>
                  <a:pt x="21600" y="32949"/>
                </a:moveTo>
                <a:lnTo>
                  <a:pt x="0" y="32949"/>
                </a:lnTo>
                <a:lnTo>
                  <a:pt x="1400" y="31549"/>
                </a:lnTo>
                <a:lnTo>
                  <a:pt x="20200" y="31549"/>
                </a:lnTo>
                <a:close/>
              </a:path>
              <a:path fill="lighten" w="21600" h="32949">
                <a:moveTo>
                  <a:pt x="0" y="32949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19320" y="212760"/>
            <a:ext cx="63244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gora tá fácil, né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xiste uma fórmula para calcular a área de qualquer quadrilátero que é baseada na área de dois triângulo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590920" y="2819160"/>
            <a:ext cx="3962160" cy="1676160"/>
          </a:xfrm>
          <a:custGeom>
            <a:avLst/>
            <a:gdLst>
              <a:gd name="textAreaLeft" fmla="*/ 871200 w 3962160"/>
              <a:gd name="textAreaRight" fmla="*/ 3090960 w 3962160"/>
              <a:gd name="textAreaTop" fmla="*/ 368640 h 1676160"/>
              <a:gd name="textAreaBottom" fmla="*/ 1307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2819520"/>
            <a:ext cx="29718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5424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5715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5257800"/>
            <a:ext cx="121932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+ 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52680" y="5257800"/>
            <a:ext cx="221004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3276720"/>
            <a:ext cx="533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2819520"/>
            <a:ext cx="5335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581280"/>
            <a:ext cx="5335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105520" y="281952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2819520"/>
            <a:ext cx="106668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65372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6384960"/>
            <a:ext cx="251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Ângulo re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37080" y="29163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02360" y="36021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4572000" y="0"/>
            <a:ext cx="4572000" cy="6858000"/>
          </a:xfrm>
          <a:custGeom>
            <a:avLst/>
            <a:gdLst>
              <a:gd name="textAreaLeft" fmla="*/ 296280 w 4572000"/>
              <a:gd name="textAreaRight" fmla="*/ 4275720 w 4572000"/>
              <a:gd name="textAreaTop" fmla="*/ 296280 h 6858000"/>
              <a:gd name="textAreaBottom" fmla="*/ 6561720 h 6858000"/>
            </a:gdLst>
            <a:ahLst/>
            <a:rect l="textAreaLeft" t="textAreaTop" r="textAreaRight" b="textAreaBottom"/>
            <a:pathLst>
              <a:path w="21600" h="32399">
                <a:moveTo>
                  <a:pt x="0" y="0"/>
                </a:moveTo>
                <a:lnTo>
                  <a:pt x="21600" y="0"/>
                </a:lnTo>
                <a:lnTo>
                  <a:pt x="21600" y="32399"/>
                </a:lnTo>
                <a:lnTo>
                  <a:pt x="0" y="32399"/>
                </a:lnTo>
                <a:close/>
              </a:path>
              <a:path fill="lightenLess" w="21600" h="323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9">
                <a:moveTo>
                  <a:pt x="21600" y="0"/>
                </a:moveTo>
                <a:lnTo>
                  <a:pt x="21600" y="32399"/>
                </a:lnTo>
                <a:lnTo>
                  <a:pt x="20200" y="30999"/>
                </a:lnTo>
                <a:lnTo>
                  <a:pt x="20200" y="1400"/>
                </a:lnTo>
                <a:close/>
              </a:path>
              <a:path fill="darkenLess" w="21600" h="32399">
                <a:moveTo>
                  <a:pt x="21600" y="32399"/>
                </a:moveTo>
                <a:lnTo>
                  <a:pt x="0" y="32399"/>
                </a:lnTo>
                <a:lnTo>
                  <a:pt x="1400" y="30999"/>
                </a:lnTo>
                <a:lnTo>
                  <a:pt x="20200" y="30999"/>
                </a:lnTo>
                <a:close/>
              </a:path>
              <a:path fill="lighten" w="21600" h="32399">
                <a:moveTo>
                  <a:pt x="0" y="3239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previousslide"/>
          </p:cNvPr>
          <p:cNvSpPr/>
          <p:nvPr/>
        </p:nvSpPr>
        <p:spPr>
          <a:xfrm>
            <a:off x="0" y="0"/>
            <a:ext cx="4495680" cy="6858000"/>
          </a:xfrm>
          <a:custGeom>
            <a:avLst/>
            <a:gdLst>
              <a:gd name="textAreaLeft" fmla="*/ 291240 w 4495680"/>
              <a:gd name="textAreaRight" fmla="*/ 4204440 w 4495680"/>
              <a:gd name="textAreaTop" fmla="*/ 291240 h 6858000"/>
              <a:gd name="textAreaBottom" fmla="*/ 6566760 h 6858000"/>
            </a:gdLst>
            <a:ahLst/>
            <a:rect l="textAreaLeft" t="textAreaTop" r="textAreaRight" b="textAreaBottom"/>
            <a:pathLst>
              <a:path w="21600" h="32949">
                <a:moveTo>
                  <a:pt x="0" y="0"/>
                </a:moveTo>
                <a:lnTo>
                  <a:pt x="21600" y="0"/>
                </a:lnTo>
                <a:lnTo>
                  <a:pt x="21600" y="32949"/>
                </a:lnTo>
                <a:lnTo>
                  <a:pt x="0" y="32949"/>
                </a:lnTo>
                <a:close/>
              </a:path>
              <a:path fill="lightenLess" w="21600" h="329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49">
                <a:moveTo>
                  <a:pt x="21600" y="0"/>
                </a:moveTo>
                <a:lnTo>
                  <a:pt x="21600" y="32949"/>
                </a:lnTo>
                <a:lnTo>
                  <a:pt x="20200" y="31549"/>
                </a:lnTo>
                <a:lnTo>
                  <a:pt x="20200" y="1400"/>
                </a:lnTo>
                <a:close/>
              </a:path>
              <a:path fill="darkenLess" w="21600" h="32949">
                <a:moveTo>
                  <a:pt x="21600" y="32949"/>
                </a:moveTo>
                <a:lnTo>
                  <a:pt x="0" y="32949"/>
                </a:lnTo>
                <a:lnTo>
                  <a:pt x="1400" y="31549"/>
                </a:lnTo>
                <a:lnTo>
                  <a:pt x="20200" y="31549"/>
                </a:lnTo>
                <a:close/>
              </a:path>
              <a:path fill="lighten" w="21600" h="32949">
                <a:moveTo>
                  <a:pt x="0" y="32949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 flipV="1">
            <a:off x="1676520" y="4723200"/>
            <a:ext cx="5486400" cy="2057400"/>
          </a:xfrm>
          <a:custGeom>
            <a:avLst/>
            <a:gdLst>
              <a:gd name="textAreaLeft" fmla="*/ 1206360 w 5486400"/>
              <a:gd name="textAreaRight" fmla="*/ 4280040 w 5486400"/>
              <a:gd name="textAreaTop" fmla="*/ 452160 h 2057400"/>
              <a:gd name="textAreaBottom" fmla="*/ 16052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676520" y="4723920"/>
            <a:ext cx="4114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3048120" y="4723920"/>
            <a:ext cx="4114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76320"/>
            <a:ext cx="647676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Quando você calcula o sen Ǿ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d, você está calculando:  sen Ǿ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d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+ sen Ǿ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Sd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, como eu já disse, sen x =         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4648320"/>
            <a:ext cx="12193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d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5927760"/>
            <a:ext cx="9903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d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961800" y="5254200"/>
            <a:ext cx="30420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75" y="681"/>
                </a:moveTo>
                <a:arcTo wR="10800" hR="10800" stAng="-4172339" swAng="4172339"/>
                <a:lnTo>
                  <a:pt x="10800" y="10800"/>
                </a:lnTo>
                <a:close/>
              </a:path>
              <a:path fill="none" w="21600" h="21600">
                <a:moveTo>
                  <a:pt x="14575" y="681"/>
                </a:moveTo>
                <a:arcTo wR="10800" hR="10800" stAng="-4172339" swAng="417233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520236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5126040"/>
            <a:ext cx="4572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457200"/>
            <a:ext cx="4572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57200"/>
            <a:ext cx="4572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1262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48520" y="784080"/>
            <a:ext cx="60948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6040" y="2303640"/>
            <a:ext cx="868680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Isolando C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 fica assim: C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= sen x 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Não sei se vocês já perceberam, mas os C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 são o h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 e h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 da fórmula da área de qualquer quadriláter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Provando que as fórmulas                     e                       são igua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105160" y="47242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76520" y="4723920"/>
            <a:ext cx="144756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trapezio3" descr=""/>
          <p:cNvPicPr/>
          <p:nvPr/>
        </p:nvPicPr>
        <p:blipFill>
          <a:blip r:embed="rId1"/>
          <a:stretch/>
        </p:blipFill>
        <p:spPr>
          <a:xfrm>
            <a:off x="5257800" y="3252960"/>
            <a:ext cx="4800600" cy="16794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04920" y="1600200"/>
            <a:ext cx="6858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Obs: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Sd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e Sd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são 2 hipotenus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5715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4876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3843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4133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00600" y="3676680"/>
            <a:ext cx="12193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5257800"/>
            <a:ext cx="990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5181480"/>
            <a:ext cx="990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2" action="ppaction://hlinksldjump"/>
          </p:cNvPr>
          <p:cNvSpPr/>
          <p:nvPr/>
        </p:nvSpPr>
        <p:spPr>
          <a:xfrm>
            <a:off x="4572000" y="0"/>
            <a:ext cx="4572000" cy="6858000"/>
          </a:xfrm>
          <a:custGeom>
            <a:avLst/>
            <a:gdLst>
              <a:gd name="textAreaLeft" fmla="*/ 296280 w 4572000"/>
              <a:gd name="textAreaRight" fmla="*/ 4275720 w 4572000"/>
              <a:gd name="textAreaTop" fmla="*/ 296280 h 6858000"/>
              <a:gd name="textAreaBottom" fmla="*/ 6561720 h 6858000"/>
            </a:gdLst>
            <a:ahLst/>
            <a:rect l="textAreaLeft" t="textAreaTop" r="textAreaRight" b="textAreaBottom"/>
            <a:pathLst>
              <a:path w="21600" h="32399">
                <a:moveTo>
                  <a:pt x="0" y="0"/>
                </a:moveTo>
                <a:lnTo>
                  <a:pt x="21600" y="0"/>
                </a:lnTo>
                <a:lnTo>
                  <a:pt x="21600" y="32399"/>
                </a:lnTo>
                <a:lnTo>
                  <a:pt x="0" y="32399"/>
                </a:lnTo>
                <a:close/>
              </a:path>
              <a:path fill="lightenLess" w="21600" h="323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9">
                <a:moveTo>
                  <a:pt x="21600" y="0"/>
                </a:moveTo>
                <a:lnTo>
                  <a:pt x="21600" y="32399"/>
                </a:lnTo>
                <a:lnTo>
                  <a:pt x="20200" y="30999"/>
                </a:lnTo>
                <a:lnTo>
                  <a:pt x="20200" y="1400"/>
                </a:lnTo>
                <a:close/>
              </a:path>
              <a:path fill="darkenLess" w="21600" h="32399">
                <a:moveTo>
                  <a:pt x="21600" y="32399"/>
                </a:moveTo>
                <a:lnTo>
                  <a:pt x="0" y="32399"/>
                </a:lnTo>
                <a:lnTo>
                  <a:pt x="1400" y="30999"/>
                </a:lnTo>
                <a:lnTo>
                  <a:pt x="20200" y="30999"/>
                </a:lnTo>
                <a:close/>
              </a:path>
              <a:path fill="lighten" w="21600" h="32399">
                <a:moveTo>
                  <a:pt x="0" y="3239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0" y="0"/>
            <a:ext cx="4495680" cy="6858000"/>
          </a:xfrm>
          <a:custGeom>
            <a:avLst/>
            <a:gdLst>
              <a:gd name="textAreaLeft" fmla="*/ 291240 w 4495680"/>
              <a:gd name="textAreaRight" fmla="*/ 4204440 w 4495680"/>
              <a:gd name="textAreaTop" fmla="*/ 291240 h 6858000"/>
              <a:gd name="textAreaBottom" fmla="*/ 6566760 h 6858000"/>
            </a:gdLst>
            <a:ahLst/>
            <a:rect l="textAreaLeft" t="textAreaTop" r="textAreaRight" b="textAreaBottom"/>
            <a:pathLst>
              <a:path w="21600" h="32949">
                <a:moveTo>
                  <a:pt x="0" y="0"/>
                </a:moveTo>
                <a:lnTo>
                  <a:pt x="21600" y="0"/>
                </a:lnTo>
                <a:lnTo>
                  <a:pt x="21600" y="32949"/>
                </a:lnTo>
                <a:lnTo>
                  <a:pt x="0" y="32949"/>
                </a:lnTo>
                <a:close/>
              </a:path>
              <a:path fill="lightenLess" w="21600" h="329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49">
                <a:moveTo>
                  <a:pt x="21600" y="0"/>
                </a:moveTo>
                <a:lnTo>
                  <a:pt x="21600" y="32949"/>
                </a:lnTo>
                <a:lnTo>
                  <a:pt x="20200" y="31549"/>
                </a:lnTo>
                <a:lnTo>
                  <a:pt x="20200" y="1400"/>
                </a:lnTo>
                <a:close/>
              </a:path>
              <a:path fill="darkenLess" w="21600" h="32949">
                <a:moveTo>
                  <a:pt x="21600" y="32949"/>
                </a:moveTo>
                <a:lnTo>
                  <a:pt x="0" y="32949"/>
                </a:lnTo>
                <a:lnTo>
                  <a:pt x="1400" y="31549"/>
                </a:lnTo>
                <a:lnTo>
                  <a:pt x="20200" y="31549"/>
                </a:lnTo>
                <a:close/>
              </a:path>
              <a:path fill="lighten" w="21600" h="32949">
                <a:moveTo>
                  <a:pt x="0" y="32949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590920" y="30492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7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cc66"/>
                </a:solidFill>
                <a:latin typeface="Arial Black"/>
              </a:rPr>
              <a:t>Teorema de</a:t>
            </a:r>
            <a:endParaRPr b="1" lang="en-US" sz="2400" spc="1" strike="noStrike">
              <a:ln w="0">
                <a:noFill/>
              </a:ln>
              <a:solidFill>
                <a:srgbClr val="00cc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cc66"/>
                </a:solidFill>
                <a:latin typeface="Arial Black"/>
              </a:rPr>
              <a:t>Pitágoras</a:t>
            </a:r>
            <a:endParaRPr b="1" lang="en-US" sz="2400" spc="1" strike="noStrike">
              <a:ln w="0">
                <a:noFill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2438280"/>
            <a:ext cx="67816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ara fazer alguns exercícios podemos precisar do Teorema de Pitágoras. Com ele podemos calcular um cateto ou uma hipotenusa, sabendo as outras duas medidas. Veja a fórmula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5181480"/>
            <a:ext cx="27432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+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5105520"/>
            <a:ext cx="23623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276720" y="380880"/>
            <a:ext cx="28954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7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a0000"/>
                </a:solidFill>
                <a:latin typeface="Arial Black"/>
              </a:rPr>
              <a:t>Sites</a:t>
            </a:r>
            <a:endParaRPr b="1" lang="en-US" sz="2400" spc="1" strike="noStrike">
              <a:ln w="0">
                <a:noFill/>
              </a:ln>
              <a:solidFill>
                <a:srgbClr val="ca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a0000"/>
                </a:solidFill>
                <a:latin typeface="Arial Black"/>
              </a:rPr>
              <a:t>utilizados</a:t>
            </a:r>
            <a:endParaRPr b="1" lang="en-US" sz="2400" spc="1" strike="noStrike">
              <a:ln w="0">
                <a:noFill/>
              </a:ln>
              <a:solidFill>
                <a:srgbClr val="ca0000"/>
              </a:solidFill>
              <a:latin typeface="Arial Black"/>
              <a:ea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3429000"/>
            <a:ext cx="914400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http://www.webcalc.com.br/matematica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http://www.mat.ufrgs.br/~edumatec/atividades/ativ25/CabriJava/tra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http://www.eduardochaves.uaivip.com.br/figuras%20planas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duc.fc.ul.pt/icm/icm2002/icm109/propriedadesdostrapezios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352680" y="152280"/>
            <a:ext cx="3276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7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ffcc"/>
                </a:solidFill>
                <a:latin typeface="Arial Black"/>
              </a:rPr>
              <a:t>Leitura</a:t>
            </a:r>
            <a:endParaRPr b="1" lang="en-US" sz="2400" spc="1" strike="noStrike">
              <a:ln w="0">
                <a:noFill/>
              </a:ln>
              <a:solidFill>
                <a:srgbClr val="00ff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ffcc"/>
                </a:solidFill>
                <a:latin typeface="Arial Black"/>
              </a:rPr>
              <a:t>complementar</a:t>
            </a:r>
            <a:endParaRPr b="1" lang="en-US" sz="2400" spc="1" strike="noStrike">
              <a:ln w="0">
                <a:noFill/>
              </a:ln>
              <a:solidFill>
                <a:srgbClr val="00ffcc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325440" y="2133720"/>
            <a:ext cx="8458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m algumas comunidades agrícolas do Brasil é usada uma fórmula de calcular a área (S) de terrenos na forma  de um quadrilátero. Veja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4038480"/>
            <a:ext cx="617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4267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3809880"/>
            <a:ext cx="37339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 + b     c + 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           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4267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422604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866920" y="38862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457200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010280" y="4343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655308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3962520"/>
            <a:ext cx="381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4632480"/>
            <a:ext cx="381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3733920"/>
            <a:ext cx="38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72200" y="4784760"/>
            <a:ext cx="38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5622840"/>
            <a:ext cx="8458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orém, essa fórmula não dá muito certo, mas existe outras que dão. Como aquela que eu já expliquei. Qual!?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4572000" cy="6858000"/>
          </a:xfrm>
          <a:custGeom>
            <a:avLst/>
            <a:gdLst>
              <a:gd name="textAreaLeft" fmla="*/ 296280 w 4572000"/>
              <a:gd name="textAreaRight" fmla="*/ 4275720 w 4572000"/>
              <a:gd name="textAreaTop" fmla="*/ 296280 h 6858000"/>
              <a:gd name="textAreaBottom" fmla="*/ 6561720 h 6858000"/>
            </a:gdLst>
            <a:ahLst/>
            <a:rect l="textAreaLeft" t="textAreaTop" r="textAreaRight" b="textAreaBottom"/>
            <a:pathLst>
              <a:path w="21600" h="32399">
                <a:moveTo>
                  <a:pt x="0" y="0"/>
                </a:moveTo>
                <a:lnTo>
                  <a:pt x="21600" y="0"/>
                </a:lnTo>
                <a:lnTo>
                  <a:pt x="21600" y="32399"/>
                </a:lnTo>
                <a:lnTo>
                  <a:pt x="0" y="32399"/>
                </a:lnTo>
                <a:close/>
              </a:path>
              <a:path fill="lightenLess" w="21600" h="323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9">
                <a:moveTo>
                  <a:pt x="21600" y="0"/>
                </a:moveTo>
                <a:lnTo>
                  <a:pt x="21600" y="32399"/>
                </a:lnTo>
                <a:lnTo>
                  <a:pt x="20200" y="30999"/>
                </a:lnTo>
                <a:lnTo>
                  <a:pt x="20200" y="1400"/>
                </a:lnTo>
                <a:close/>
              </a:path>
              <a:path fill="darkenLess" w="21600" h="32399">
                <a:moveTo>
                  <a:pt x="21600" y="32399"/>
                </a:moveTo>
                <a:lnTo>
                  <a:pt x="0" y="32399"/>
                </a:lnTo>
                <a:lnTo>
                  <a:pt x="1400" y="30999"/>
                </a:lnTo>
                <a:lnTo>
                  <a:pt x="20200" y="30999"/>
                </a:lnTo>
                <a:close/>
              </a:path>
              <a:path fill="lighten" w="21600" h="32399">
                <a:moveTo>
                  <a:pt x="0" y="3239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4572000" y="0"/>
            <a:ext cx="4572000" cy="6858000"/>
          </a:xfrm>
          <a:custGeom>
            <a:avLst/>
            <a:gdLst>
              <a:gd name="textAreaLeft" fmla="*/ 296280 w 4572000"/>
              <a:gd name="textAreaRight" fmla="*/ 4275720 w 4572000"/>
              <a:gd name="textAreaTop" fmla="*/ 296280 h 6858000"/>
              <a:gd name="textAreaBottom" fmla="*/ 6561720 h 6858000"/>
            </a:gdLst>
            <a:ahLst/>
            <a:rect l="textAreaLeft" t="textAreaTop" r="textAreaRight" b="textAreaBottom"/>
            <a:pathLst>
              <a:path w="21600" h="32399">
                <a:moveTo>
                  <a:pt x="0" y="0"/>
                </a:moveTo>
                <a:lnTo>
                  <a:pt x="21600" y="0"/>
                </a:lnTo>
                <a:lnTo>
                  <a:pt x="21600" y="32399"/>
                </a:lnTo>
                <a:lnTo>
                  <a:pt x="0" y="32399"/>
                </a:lnTo>
                <a:close/>
              </a:path>
              <a:path fill="lightenLess" w="21600" h="323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9">
                <a:moveTo>
                  <a:pt x="21600" y="0"/>
                </a:moveTo>
                <a:lnTo>
                  <a:pt x="21600" y="32399"/>
                </a:lnTo>
                <a:lnTo>
                  <a:pt x="20200" y="30999"/>
                </a:lnTo>
                <a:lnTo>
                  <a:pt x="20200" y="1400"/>
                </a:lnTo>
                <a:close/>
              </a:path>
              <a:path fill="darkenLess" w="21600" h="32399">
                <a:moveTo>
                  <a:pt x="21600" y="32399"/>
                </a:moveTo>
                <a:lnTo>
                  <a:pt x="0" y="32399"/>
                </a:lnTo>
                <a:lnTo>
                  <a:pt x="1400" y="30999"/>
                </a:lnTo>
                <a:lnTo>
                  <a:pt x="20200" y="30999"/>
                </a:lnTo>
                <a:close/>
              </a:path>
              <a:path fill="lighten" w="21600" h="32399">
                <a:moveTo>
                  <a:pt x="0" y="3239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rapezio3" descr=""/>
          <p:cNvPicPr/>
          <p:nvPr/>
        </p:nvPicPr>
        <p:blipFill>
          <a:blip r:embed="rId1"/>
          <a:stretch/>
        </p:blipFill>
        <p:spPr>
          <a:xfrm>
            <a:off x="1905120" y="4111560"/>
            <a:ext cx="4800600" cy="16797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25440" y="304920"/>
            <a:ext cx="8458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Lembra daquela que é baseada na área de dois triângulos e daquela que utiliza o seno? Aquelas mesmo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2757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1120" y="30481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2590920"/>
            <a:ext cx="12189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0" y="0"/>
            <a:ext cx="4419720" cy="6858000"/>
          </a:xfrm>
          <a:custGeom>
            <a:avLst/>
            <a:gdLst>
              <a:gd name="textAreaLeft" fmla="*/ 286200 w 4419720"/>
              <a:gd name="textAreaRight" fmla="*/ 4133520 w 4419720"/>
              <a:gd name="textAreaTop" fmla="*/ 286200 h 6858000"/>
              <a:gd name="textAreaBottom" fmla="*/ 6571800 h 6858000"/>
            </a:gdLst>
            <a:ahLst/>
            <a:rect l="textAreaLeft" t="textAreaTop" r="textAreaRight" b="textAreaBottom"/>
            <a:pathLst>
              <a:path w="21600" h="33515">
                <a:moveTo>
                  <a:pt x="0" y="0"/>
                </a:moveTo>
                <a:lnTo>
                  <a:pt x="21600" y="0"/>
                </a:lnTo>
                <a:lnTo>
                  <a:pt x="21600" y="33515"/>
                </a:lnTo>
                <a:lnTo>
                  <a:pt x="0" y="33515"/>
                </a:lnTo>
                <a:close/>
              </a:path>
              <a:path fill="lightenLess" w="21600" h="335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515">
                <a:moveTo>
                  <a:pt x="21600" y="0"/>
                </a:moveTo>
                <a:lnTo>
                  <a:pt x="21600" y="33515"/>
                </a:lnTo>
                <a:lnTo>
                  <a:pt x="20200" y="32115"/>
                </a:lnTo>
                <a:lnTo>
                  <a:pt x="20200" y="1400"/>
                </a:lnTo>
                <a:close/>
              </a:path>
              <a:path fill="darkenLess" w="21600" h="33515">
                <a:moveTo>
                  <a:pt x="21600" y="33515"/>
                </a:moveTo>
                <a:lnTo>
                  <a:pt x="0" y="33515"/>
                </a:lnTo>
                <a:lnTo>
                  <a:pt x="1400" y="32115"/>
                </a:lnTo>
                <a:lnTo>
                  <a:pt x="20200" y="32115"/>
                </a:lnTo>
                <a:close/>
              </a:path>
              <a:path fill="lighten" w="21600" h="33515">
                <a:moveTo>
                  <a:pt x="0" y="33515"/>
                </a:moveTo>
                <a:lnTo>
                  <a:pt x="0" y="0"/>
                </a:lnTo>
                <a:lnTo>
                  <a:pt x="1400" y="1400"/>
                </a:lnTo>
                <a:lnTo>
                  <a:pt x="1400" y="3211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0"/>
            <a:ext cx="4648320" cy="6858000"/>
          </a:xfrm>
          <a:custGeom>
            <a:avLst/>
            <a:gdLst>
              <a:gd name="textAreaLeft" fmla="*/ 300960 w 4648320"/>
              <a:gd name="textAreaRight" fmla="*/ 4347360 w 4648320"/>
              <a:gd name="textAreaTop" fmla="*/ 300960 h 6858000"/>
              <a:gd name="textAreaBottom" fmla="*/ 6557040 h 6858000"/>
            </a:gdLst>
            <a:ahLst/>
            <a:rect l="textAreaLeft" t="textAreaTop" r="textAreaRight" b="textAreaBottom"/>
            <a:pathLst>
              <a:path w="21600" h="31867">
                <a:moveTo>
                  <a:pt x="0" y="0"/>
                </a:moveTo>
                <a:lnTo>
                  <a:pt x="21600" y="0"/>
                </a:lnTo>
                <a:lnTo>
                  <a:pt x="21600" y="31867"/>
                </a:lnTo>
                <a:lnTo>
                  <a:pt x="0" y="31867"/>
                </a:lnTo>
                <a:close/>
              </a:path>
              <a:path fill="lightenLess" w="21600" h="3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867">
                <a:moveTo>
                  <a:pt x="21600" y="0"/>
                </a:moveTo>
                <a:lnTo>
                  <a:pt x="21600" y="31867"/>
                </a:lnTo>
                <a:lnTo>
                  <a:pt x="20200" y="30467"/>
                </a:lnTo>
                <a:lnTo>
                  <a:pt x="20200" y="1400"/>
                </a:lnTo>
                <a:close/>
              </a:path>
              <a:path fill="darkenLess" w="21600" h="31867">
                <a:moveTo>
                  <a:pt x="21600" y="31867"/>
                </a:moveTo>
                <a:lnTo>
                  <a:pt x="0" y="31867"/>
                </a:lnTo>
                <a:lnTo>
                  <a:pt x="1400" y="30467"/>
                </a:lnTo>
                <a:lnTo>
                  <a:pt x="20200" y="30467"/>
                </a:lnTo>
                <a:close/>
              </a:path>
              <a:path fill="lighten" w="21600" h="31867">
                <a:moveTo>
                  <a:pt x="0" y="3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3046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228600"/>
            <a:ext cx="2819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7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cc"/>
                </a:solidFill>
                <a:latin typeface="Arial Black"/>
              </a:rPr>
              <a:t>O que é </a:t>
            </a:r>
            <a:endParaRPr b="1" lang="en-US" sz="2400" spc="1" strike="noStrike">
              <a:ln w="0">
                <a:noFill/>
              </a:ln>
              <a:solidFill>
                <a:srgbClr val="33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cc"/>
                </a:solidFill>
                <a:latin typeface="Arial Black"/>
              </a:rPr>
              <a:t>trapézio?</a:t>
            </a:r>
            <a:endParaRPr b="1" lang="en-US" sz="2400" spc="1" strike="noStrike">
              <a:ln w="0">
                <a:noFill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400" y="2133720"/>
            <a:ext cx="4038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8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Onde fica os pontos médios 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das diagonais do trapézio?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724280" y="228600"/>
            <a:ext cx="40388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4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ccff"/>
                </a:solidFill>
                <a:latin typeface="Arial Black"/>
              </a:rPr>
              <a:t>Quais são as</a:t>
            </a:r>
            <a:endParaRPr b="1" lang="en-US" sz="2400" spc="1" strike="noStrike">
              <a:ln w="0">
                <a:noFill/>
              </a:ln>
              <a:solidFill>
                <a:srgbClr val="cc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ccff"/>
                </a:solidFill>
                <a:latin typeface="Arial Black"/>
              </a:rPr>
              <a:t>linhas notáveis de um trapézio?</a:t>
            </a:r>
            <a:endParaRPr b="1" lang="en-US" sz="2400" spc="1" strike="noStrike">
              <a:ln w="0">
                <a:noFill/>
              </a:ln>
              <a:solidFill>
                <a:srgbClr val="cccc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867280" y="2057400"/>
            <a:ext cx="32767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6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mo é calculada a 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área do trapézio?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2280" y="5943600"/>
            <a:ext cx="221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7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a0000"/>
                </a:solidFill>
                <a:latin typeface="Arial Black"/>
              </a:rPr>
              <a:t>Sites</a:t>
            </a:r>
            <a:endParaRPr b="1" lang="en-US" sz="2400" spc="1" strike="noStrike">
              <a:ln w="0">
                <a:noFill/>
              </a:ln>
              <a:solidFill>
                <a:srgbClr val="ca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a0000"/>
                </a:solidFill>
                <a:latin typeface="Arial Black"/>
              </a:rPr>
              <a:t>utilizados</a:t>
            </a:r>
            <a:endParaRPr b="1" lang="en-US" sz="2400" spc="1" strike="noStrike">
              <a:ln w="0">
                <a:noFill/>
              </a:ln>
              <a:solidFill>
                <a:srgbClr val="ca00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781680" y="5943600"/>
            <a:ext cx="221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Down">
              <a:avLst>
                <a:gd name="adj" fmla="val 26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7ecfec"/>
                </a:solidFill>
                <a:latin typeface="Arial Black"/>
              </a:rPr>
              <a:t>Créditos</a:t>
            </a:r>
            <a:endParaRPr b="1" lang="en-US" sz="2400" spc="1" strike="noStrike">
              <a:ln w="0">
                <a:noFill/>
              </a:ln>
              <a:solidFill>
                <a:srgbClr val="7ecfe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7ecfec"/>
                </a:solidFill>
                <a:latin typeface="Arial Black"/>
              </a:rPr>
              <a:t>finais</a:t>
            </a:r>
            <a:endParaRPr b="1" lang="en-US" sz="2400" spc="1" strike="noStrike">
              <a:ln w="0">
                <a:noFill/>
              </a:ln>
              <a:solidFill>
                <a:srgbClr val="7ecfec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05320" y="5562720"/>
            <a:ext cx="2361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7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7cc00"/>
                </a:solidFill>
                <a:latin typeface="Arial Black"/>
              </a:rPr>
              <a:t>Exercícios</a:t>
            </a:r>
            <a:endParaRPr b="1" lang="en-US" sz="2400" spc="1" strike="noStrike">
              <a:ln w="0">
                <a:noFill/>
              </a:ln>
              <a:solidFill>
                <a:srgbClr val="c7cc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657600" y="3809880"/>
            <a:ext cx="2819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7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cc66"/>
                </a:solidFill>
                <a:latin typeface="Arial Black"/>
              </a:rPr>
              <a:t>Teorema de</a:t>
            </a:r>
            <a:endParaRPr b="1" lang="en-US" sz="2400" spc="1" strike="noStrike">
              <a:ln w="0">
                <a:noFill/>
              </a:ln>
              <a:solidFill>
                <a:srgbClr val="00cc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cc66"/>
                </a:solidFill>
                <a:latin typeface="Arial Black"/>
              </a:rPr>
              <a:t>Pitágoras</a:t>
            </a:r>
            <a:endParaRPr b="1" lang="en-US" sz="2400" spc="1" strike="noStrike">
              <a:ln w="0">
                <a:noFill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3733920"/>
            <a:ext cx="28195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7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ffcc"/>
                </a:solidFill>
                <a:latin typeface="Arial Black"/>
              </a:rPr>
              <a:t>Leitura</a:t>
            </a:r>
            <a:endParaRPr b="1" lang="en-US" sz="2400" spc="1" strike="noStrike">
              <a:ln w="0">
                <a:noFill/>
              </a:ln>
              <a:solidFill>
                <a:srgbClr val="00ff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ffcc"/>
                </a:solidFill>
                <a:latin typeface="Arial Black"/>
              </a:rPr>
              <a:t>complementar</a:t>
            </a:r>
            <a:endParaRPr b="1" lang="en-US" sz="2400" spc="1" strike="noStrike">
              <a:ln w="0">
                <a:noFill/>
              </a:ln>
              <a:solidFill>
                <a:srgbClr val="00ff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581280" y="304920"/>
            <a:ext cx="2514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7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7cc00"/>
                </a:solidFill>
                <a:latin typeface="Arial Black"/>
              </a:rPr>
              <a:t>Exercícios</a:t>
            </a:r>
            <a:endParaRPr b="1" lang="en-US" sz="2400" spc="1" strike="noStrike">
              <a:ln w="0">
                <a:noFill/>
              </a:ln>
              <a:solidFill>
                <a:srgbClr val="c7cc00"/>
              </a:solidFill>
              <a:latin typeface="Arial Black"/>
              <a:ea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04156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lassifique como trapézio escaleno, isósceles ou retângul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371600" y="3048120"/>
            <a:ext cx="2362320" cy="1218960"/>
          </a:xfrm>
          <a:custGeom>
            <a:avLst/>
            <a:gdLst>
              <a:gd name="textAreaLeft" fmla="*/ 519480 w 2362320"/>
              <a:gd name="textAreaRight" fmla="*/ 1842840 w 2362320"/>
              <a:gd name="textAreaTop" fmla="*/ 267840 h 1218960"/>
              <a:gd name="textAreaBottom" fmla="*/ 951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35053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276360" y="35053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1904400" y="4647960"/>
            <a:ext cx="1371600" cy="1981080"/>
          </a:xfrm>
          <a:prstGeom prst="flowChartManualIn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6213600"/>
            <a:ext cx="7596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6095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19720" y="4343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267080" y="434340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7080" y="51814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5714640" y="43434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47920" y="35654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sósce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14800" y="463248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scalen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556272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Retângul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4419720" cy="6629400"/>
          </a:xfrm>
          <a:custGeom>
            <a:avLst/>
            <a:gdLst>
              <a:gd name="textAreaLeft" fmla="*/ 286200 w 4419720"/>
              <a:gd name="textAreaRight" fmla="*/ 4133520 w 4419720"/>
              <a:gd name="textAreaTop" fmla="*/ 286200 h 6629400"/>
              <a:gd name="textAreaBottom" fmla="*/ 6343200 h 6629400"/>
            </a:gdLst>
            <a:ahLst/>
            <a:rect l="textAreaLeft" t="textAreaTop" r="textAreaRight" b="textAreaBottom"/>
            <a:pathLst>
              <a:path w="21600" h="32398">
                <a:moveTo>
                  <a:pt x="0" y="0"/>
                </a:moveTo>
                <a:lnTo>
                  <a:pt x="21600" y="0"/>
                </a:lnTo>
                <a:lnTo>
                  <a:pt x="21600" y="32398"/>
                </a:lnTo>
                <a:lnTo>
                  <a:pt x="0" y="32398"/>
                </a:lnTo>
                <a:close/>
              </a:path>
              <a:path fill="lightenLess" w="21600" h="32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8">
                <a:moveTo>
                  <a:pt x="21600" y="0"/>
                </a:moveTo>
                <a:lnTo>
                  <a:pt x="21600" y="32398"/>
                </a:lnTo>
                <a:lnTo>
                  <a:pt x="20200" y="30998"/>
                </a:lnTo>
                <a:lnTo>
                  <a:pt x="20200" y="1400"/>
                </a:lnTo>
                <a:close/>
              </a:path>
              <a:path fill="darkenLess" w="21600" h="32398">
                <a:moveTo>
                  <a:pt x="21600" y="32398"/>
                </a:moveTo>
                <a:lnTo>
                  <a:pt x="0" y="32398"/>
                </a:lnTo>
                <a:lnTo>
                  <a:pt x="1400" y="30998"/>
                </a:lnTo>
                <a:lnTo>
                  <a:pt x="20200" y="30998"/>
                </a:lnTo>
                <a:close/>
              </a:path>
              <a:path fill="lighten" w="21600" h="32398">
                <a:moveTo>
                  <a:pt x="0" y="32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4495680" y="0"/>
            <a:ext cx="4648320" cy="6629400"/>
          </a:xfrm>
          <a:custGeom>
            <a:avLst/>
            <a:gdLst>
              <a:gd name="textAreaLeft" fmla="*/ 300960 w 4648320"/>
              <a:gd name="textAreaRight" fmla="*/ 4347360 w 4648320"/>
              <a:gd name="textAreaTop" fmla="*/ 300960 h 6629400"/>
              <a:gd name="textAreaBottom" fmla="*/ 6328440 h 6629400"/>
            </a:gdLst>
            <a:ahLst/>
            <a:rect l="textAreaLeft" t="textAreaTop" r="textAreaRight" b="textAreaBottom"/>
            <a:pathLst>
              <a:path w="21600" h="30805">
                <a:moveTo>
                  <a:pt x="0" y="0"/>
                </a:moveTo>
                <a:lnTo>
                  <a:pt x="21600" y="0"/>
                </a:lnTo>
                <a:lnTo>
                  <a:pt x="21600" y="30805"/>
                </a:lnTo>
                <a:lnTo>
                  <a:pt x="0" y="30805"/>
                </a:lnTo>
                <a:close/>
              </a:path>
              <a:path fill="lightenLess" w="21600" h="308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05">
                <a:moveTo>
                  <a:pt x="21600" y="0"/>
                </a:moveTo>
                <a:lnTo>
                  <a:pt x="21600" y="30805"/>
                </a:lnTo>
                <a:lnTo>
                  <a:pt x="20200" y="29405"/>
                </a:lnTo>
                <a:lnTo>
                  <a:pt x="20200" y="1400"/>
                </a:lnTo>
                <a:close/>
              </a:path>
              <a:path fill="darkenLess" w="21600" h="30805">
                <a:moveTo>
                  <a:pt x="21600" y="30805"/>
                </a:moveTo>
                <a:lnTo>
                  <a:pt x="0" y="30805"/>
                </a:lnTo>
                <a:lnTo>
                  <a:pt x="1400" y="29405"/>
                </a:lnTo>
                <a:lnTo>
                  <a:pt x="20200" y="29405"/>
                </a:lnTo>
                <a:close/>
              </a:path>
              <a:path fill="lighten" w="21600" h="30805">
                <a:moveTo>
                  <a:pt x="0" y="308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0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4120" y="2346480"/>
            <a:ext cx="32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- C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= 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28600"/>
            <a:ext cx="2971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alcule as áreas (medidas em c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990720" y="1980720"/>
            <a:ext cx="3504960" cy="1447920"/>
          </a:xfrm>
          <a:custGeom>
            <a:avLst/>
            <a:gdLst>
              <a:gd name="textAreaLeft" fmla="*/ 770760 w 3504960"/>
              <a:gd name="textAreaRight" fmla="*/ 2734200 w 3504960"/>
              <a:gd name="textAreaTop" fmla="*/ 318240 h 1447920"/>
              <a:gd name="textAreaBottom" fmla="*/ 11296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1981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49520" y="331164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52680" y="3200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14600" y="1600200"/>
            <a:ext cx="609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14600" y="3373560"/>
            <a:ext cx="609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2422440"/>
            <a:ext cx="609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422440"/>
            <a:ext cx="609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57400" y="4137120"/>
            <a:ext cx="3886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(11-5)   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670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28800" y="4137120"/>
            <a:ext cx="1371600" cy="990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124080" y="2422440"/>
            <a:ext cx="609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4425840"/>
            <a:ext cx="312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                 = 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5432400"/>
            <a:ext cx="2895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5 - 9 = 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 = 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32360" y="417528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     h(a+c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41840" y="440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41840" y="3892680"/>
            <a:ext cx="457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143680"/>
            <a:ext cx="403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     4(5+11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5372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4861080"/>
            <a:ext cx="457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60960" y="600408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32 c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4495680" y="0"/>
            <a:ext cx="4648320" cy="6629400"/>
          </a:xfrm>
          <a:custGeom>
            <a:avLst/>
            <a:gdLst>
              <a:gd name="textAreaLeft" fmla="*/ 300960 w 4648320"/>
              <a:gd name="textAreaRight" fmla="*/ 4347360 w 4648320"/>
              <a:gd name="textAreaTop" fmla="*/ 300960 h 6629400"/>
              <a:gd name="textAreaBottom" fmla="*/ 6328440 h 6629400"/>
            </a:gdLst>
            <a:ahLst/>
            <a:rect l="textAreaLeft" t="textAreaTop" r="textAreaRight" b="textAreaBottom"/>
            <a:pathLst>
              <a:path w="21600" h="30805">
                <a:moveTo>
                  <a:pt x="0" y="0"/>
                </a:moveTo>
                <a:lnTo>
                  <a:pt x="21600" y="0"/>
                </a:lnTo>
                <a:lnTo>
                  <a:pt x="21600" y="30805"/>
                </a:lnTo>
                <a:lnTo>
                  <a:pt x="0" y="30805"/>
                </a:lnTo>
                <a:close/>
              </a:path>
              <a:path fill="lightenLess" w="21600" h="308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05">
                <a:moveTo>
                  <a:pt x="21600" y="0"/>
                </a:moveTo>
                <a:lnTo>
                  <a:pt x="21600" y="30805"/>
                </a:lnTo>
                <a:lnTo>
                  <a:pt x="20200" y="29405"/>
                </a:lnTo>
                <a:lnTo>
                  <a:pt x="20200" y="1400"/>
                </a:lnTo>
                <a:close/>
              </a:path>
              <a:path fill="darkenLess" w="21600" h="30805">
                <a:moveTo>
                  <a:pt x="21600" y="30805"/>
                </a:moveTo>
                <a:lnTo>
                  <a:pt x="0" y="30805"/>
                </a:lnTo>
                <a:lnTo>
                  <a:pt x="1400" y="29405"/>
                </a:lnTo>
                <a:lnTo>
                  <a:pt x="20200" y="29405"/>
                </a:lnTo>
                <a:close/>
              </a:path>
              <a:path fill="lighten" w="21600" h="30805">
                <a:moveTo>
                  <a:pt x="0" y="308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0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previousslide"/>
          </p:cNvPr>
          <p:cNvSpPr/>
          <p:nvPr/>
        </p:nvSpPr>
        <p:spPr>
          <a:xfrm>
            <a:off x="0" y="0"/>
            <a:ext cx="4419720" cy="6629400"/>
          </a:xfrm>
          <a:custGeom>
            <a:avLst/>
            <a:gdLst>
              <a:gd name="textAreaLeft" fmla="*/ 286200 w 4419720"/>
              <a:gd name="textAreaRight" fmla="*/ 4133520 w 4419720"/>
              <a:gd name="textAreaTop" fmla="*/ 286200 h 6629400"/>
              <a:gd name="textAreaBottom" fmla="*/ 6343200 h 6629400"/>
            </a:gdLst>
            <a:ahLst/>
            <a:rect l="textAreaLeft" t="textAreaTop" r="textAreaRight" b="textAreaBottom"/>
            <a:pathLst>
              <a:path w="21600" h="32398">
                <a:moveTo>
                  <a:pt x="0" y="0"/>
                </a:moveTo>
                <a:lnTo>
                  <a:pt x="21600" y="0"/>
                </a:lnTo>
                <a:lnTo>
                  <a:pt x="21600" y="32398"/>
                </a:lnTo>
                <a:lnTo>
                  <a:pt x="0" y="32398"/>
                </a:lnTo>
                <a:close/>
              </a:path>
              <a:path fill="lightenLess" w="21600" h="32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8">
                <a:moveTo>
                  <a:pt x="21600" y="0"/>
                </a:moveTo>
                <a:lnTo>
                  <a:pt x="21600" y="32398"/>
                </a:lnTo>
                <a:lnTo>
                  <a:pt x="20200" y="30998"/>
                </a:lnTo>
                <a:lnTo>
                  <a:pt x="20200" y="1400"/>
                </a:lnTo>
                <a:close/>
              </a:path>
              <a:path fill="darkenLess" w="21600" h="32398">
                <a:moveTo>
                  <a:pt x="21600" y="32398"/>
                </a:moveTo>
                <a:lnTo>
                  <a:pt x="0" y="32398"/>
                </a:lnTo>
                <a:lnTo>
                  <a:pt x="1400" y="30998"/>
                </a:lnTo>
                <a:lnTo>
                  <a:pt x="20200" y="30998"/>
                </a:lnTo>
                <a:close/>
              </a:path>
              <a:path fill="lighten" w="21600" h="32398">
                <a:moveTo>
                  <a:pt x="0" y="32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rot="5400000">
            <a:off x="3924000" y="549000"/>
            <a:ext cx="1257480" cy="2933640"/>
          </a:xfrm>
          <a:prstGeom prst="flowChartManualIn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79880" y="2509920"/>
            <a:ext cx="7596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83040" y="23986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990720"/>
            <a:ext cx="609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2597040"/>
            <a:ext cx="609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62720" y="1752480"/>
            <a:ext cx="609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1812960"/>
            <a:ext cx="609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3886200"/>
            <a:ext cx="33526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C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= 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5 - 9 = 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 = 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52880" y="312408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32360" y="363528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     h(a+c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41840" y="386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41840" y="3352680"/>
            <a:ext cx="457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603680"/>
            <a:ext cx="403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     4(5+8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62720" y="4832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562720" y="4321080"/>
            <a:ext cx="457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60960" y="546408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26 c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0" y="0"/>
            <a:ext cx="4419720" cy="6629400"/>
          </a:xfrm>
          <a:custGeom>
            <a:avLst/>
            <a:gdLst>
              <a:gd name="textAreaLeft" fmla="*/ 286200 w 4419720"/>
              <a:gd name="textAreaRight" fmla="*/ 4133520 w 4419720"/>
              <a:gd name="textAreaTop" fmla="*/ 286200 h 6629400"/>
              <a:gd name="textAreaBottom" fmla="*/ 6343200 h 6629400"/>
            </a:gdLst>
            <a:ahLst/>
            <a:rect l="textAreaLeft" t="textAreaTop" r="textAreaRight" b="textAreaBottom"/>
            <a:pathLst>
              <a:path w="21600" h="32398">
                <a:moveTo>
                  <a:pt x="0" y="0"/>
                </a:moveTo>
                <a:lnTo>
                  <a:pt x="21600" y="0"/>
                </a:lnTo>
                <a:lnTo>
                  <a:pt x="21600" y="32398"/>
                </a:lnTo>
                <a:lnTo>
                  <a:pt x="0" y="32398"/>
                </a:lnTo>
                <a:close/>
              </a:path>
              <a:path fill="lightenLess" w="21600" h="32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8">
                <a:moveTo>
                  <a:pt x="21600" y="0"/>
                </a:moveTo>
                <a:lnTo>
                  <a:pt x="21600" y="32398"/>
                </a:lnTo>
                <a:lnTo>
                  <a:pt x="20200" y="30998"/>
                </a:lnTo>
                <a:lnTo>
                  <a:pt x="20200" y="1400"/>
                </a:lnTo>
                <a:close/>
              </a:path>
              <a:path fill="darkenLess" w="21600" h="32398">
                <a:moveTo>
                  <a:pt x="21600" y="32398"/>
                </a:moveTo>
                <a:lnTo>
                  <a:pt x="0" y="32398"/>
                </a:lnTo>
                <a:lnTo>
                  <a:pt x="1400" y="30998"/>
                </a:lnTo>
                <a:lnTo>
                  <a:pt x="20200" y="30998"/>
                </a:lnTo>
                <a:close/>
              </a:path>
              <a:path fill="lighten" w="21600" h="32398">
                <a:moveTo>
                  <a:pt x="0" y="32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4492800" y="0"/>
            <a:ext cx="4647960" cy="6629400"/>
          </a:xfrm>
          <a:custGeom>
            <a:avLst/>
            <a:gdLst>
              <a:gd name="textAreaLeft" fmla="*/ 300960 w 4647960"/>
              <a:gd name="textAreaRight" fmla="*/ 4347000 w 4647960"/>
              <a:gd name="textAreaTop" fmla="*/ 300960 h 6629400"/>
              <a:gd name="textAreaBottom" fmla="*/ 6328440 h 6629400"/>
            </a:gdLst>
            <a:ahLst/>
            <a:rect l="textAreaLeft" t="textAreaTop" r="textAreaRight" b="textAreaBottom"/>
            <a:pathLst>
              <a:path w="21600" h="30807">
                <a:moveTo>
                  <a:pt x="0" y="0"/>
                </a:moveTo>
                <a:lnTo>
                  <a:pt x="21600" y="0"/>
                </a:lnTo>
                <a:lnTo>
                  <a:pt x="21600" y="30807"/>
                </a:lnTo>
                <a:lnTo>
                  <a:pt x="0" y="30807"/>
                </a:lnTo>
                <a:close/>
              </a:path>
              <a:path fill="lightenLess" w="21600" h="30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07">
                <a:moveTo>
                  <a:pt x="21600" y="0"/>
                </a:moveTo>
                <a:lnTo>
                  <a:pt x="21600" y="30807"/>
                </a:lnTo>
                <a:lnTo>
                  <a:pt x="20200" y="29407"/>
                </a:lnTo>
                <a:lnTo>
                  <a:pt x="20200" y="1400"/>
                </a:lnTo>
                <a:close/>
              </a:path>
              <a:path fill="darkenLess" w="21600" h="30807">
                <a:moveTo>
                  <a:pt x="21600" y="30807"/>
                </a:moveTo>
                <a:lnTo>
                  <a:pt x="0" y="30807"/>
                </a:lnTo>
                <a:lnTo>
                  <a:pt x="1400" y="29407"/>
                </a:lnTo>
                <a:lnTo>
                  <a:pt x="20200" y="29407"/>
                </a:lnTo>
                <a:close/>
              </a:path>
              <a:path fill="lighten" w="21600" h="30807">
                <a:moveTo>
                  <a:pt x="0" y="30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0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362320" y="914400"/>
            <a:ext cx="4190760" cy="1981080"/>
          </a:xfrm>
          <a:custGeom>
            <a:avLst/>
            <a:gdLst>
              <a:gd name="textAreaLeft" fmla="*/ 1225080 w 4190760"/>
              <a:gd name="textAreaRight" fmla="*/ 2965680 w 4190760"/>
              <a:gd name="textAreaTop" fmla="*/ 578880 h 1981080"/>
              <a:gd name="textAreaBottom" fmla="*/ 14022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385" y="21600"/>
                </a:lnTo>
                <a:lnTo>
                  <a:pt x="8215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352680" y="914040"/>
            <a:ext cx="2210040" cy="1447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52680" y="91440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439880" y="89388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4305240" y="-343080"/>
            <a:ext cx="304920" cy="2210040"/>
          </a:xfrm>
          <a:custGeom>
            <a:avLst/>
            <a:gdLst>
              <a:gd name="textAreaLeft" fmla="*/ 0 w 304920"/>
              <a:gd name="textAreaRight" fmla="*/ 110160 w 304920"/>
              <a:gd name="textAreaTop" fmla="*/ 78840 h 2210040"/>
              <a:gd name="textAreaBottom" fmla="*/ 21312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33"/>
                  <a:pt x="10800" y="2465"/>
                </a:cubicBezTo>
                <a:lnTo>
                  <a:pt x="10800" y="8316"/>
                </a:lnTo>
                <a:cubicBezTo>
                  <a:pt x="10800" y="9549"/>
                  <a:pt x="16200" y="10781"/>
                  <a:pt x="21600" y="10781"/>
                </a:cubicBezTo>
                <a:cubicBezTo>
                  <a:pt x="16200" y="10781"/>
                  <a:pt x="10800" y="12014"/>
                  <a:pt x="10800" y="13246"/>
                </a:cubicBezTo>
                <a:lnTo>
                  <a:pt x="10800" y="19135"/>
                </a:lnTo>
                <a:cubicBezTo>
                  <a:pt x="10800" y="2036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212760"/>
            <a:ext cx="381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6200000">
            <a:off x="5905440" y="266400"/>
            <a:ext cx="304920" cy="990360"/>
          </a:xfrm>
          <a:custGeom>
            <a:avLst/>
            <a:gdLst>
              <a:gd name="textAreaLeft" fmla="*/ 0 w 304920"/>
              <a:gd name="textAreaRight" fmla="*/ 110160 w 304920"/>
              <a:gd name="textAreaTop" fmla="*/ 35280 h 990360"/>
              <a:gd name="textAreaBottom" fmla="*/ 9550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33"/>
                  <a:pt x="10800" y="2465"/>
                </a:cubicBezTo>
                <a:lnTo>
                  <a:pt x="10800" y="8316"/>
                </a:lnTo>
                <a:cubicBezTo>
                  <a:pt x="10800" y="9549"/>
                  <a:pt x="16200" y="10781"/>
                  <a:pt x="21600" y="10781"/>
                </a:cubicBezTo>
                <a:cubicBezTo>
                  <a:pt x="16200" y="10781"/>
                  <a:pt x="10800" y="12014"/>
                  <a:pt x="10800" y="13246"/>
                </a:cubicBezTo>
                <a:lnTo>
                  <a:pt x="10800" y="19135"/>
                </a:lnTo>
                <a:cubicBezTo>
                  <a:pt x="10800" y="2036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6200000">
            <a:off x="2705040" y="266400"/>
            <a:ext cx="304920" cy="990360"/>
          </a:xfrm>
          <a:custGeom>
            <a:avLst/>
            <a:gdLst>
              <a:gd name="textAreaLeft" fmla="*/ 0 w 304920"/>
              <a:gd name="textAreaRight" fmla="*/ 110160 w 304920"/>
              <a:gd name="textAreaTop" fmla="*/ 35280 h 990360"/>
              <a:gd name="textAreaBottom" fmla="*/ 9550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33"/>
                  <a:pt x="10800" y="2465"/>
                </a:cubicBezTo>
                <a:lnTo>
                  <a:pt x="10800" y="8316"/>
                </a:lnTo>
                <a:cubicBezTo>
                  <a:pt x="10800" y="9549"/>
                  <a:pt x="16200" y="10781"/>
                  <a:pt x="21600" y="10781"/>
                </a:cubicBezTo>
                <a:cubicBezTo>
                  <a:pt x="16200" y="10781"/>
                  <a:pt x="10800" y="12014"/>
                  <a:pt x="10800" y="13246"/>
                </a:cubicBezTo>
                <a:lnTo>
                  <a:pt x="10800" y="19135"/>
                </a:lnTo>
                <a:cubicBezTo>
                  <a:pt x="10800" y="2036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67280" y="212760"/>
            <a:ext cx="381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66880" y="212760"/>
            <a:ext cx="381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 rot="5400000">
            <a:off x="4305240" y="2551680"/>
            <a:ext cx="304920" cy="990360"/>
          </a:xfrm>
          <a:custGeom>
            <a:avLst/>
            <a:gdLst>
              <a:gd name="textAreaLeft" fmla="*/ 0 w 304920"/>
              <a:gd name="textAreaRight" fmla="*/ 110160 w 304920"/>
              <a:gd name="textAreaTop" fmla="*/ 35280 h 990360"/>
              <a:gd name="textAreaBottom" fmla="*/ 9550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33"/>
                  <a:pt x="10800" y="2465"/>
                </a:cubicBezTo>
                <a:lnTo>
                  <a:pt x="10800" y="8316"/>
                </a:lnTo>
                <a:cubicBezTo>
                  <a:pt x="10800" y="9549"/>
                  <a:pt x="16200" y="10781"/>
                  <a:pt x="21600" y="10781"/>
                </a:cubicBezTo>
                <a:cubicBezTo>
                  <a:pt x="16200" y="10781"/>
                  <a:pt x="10800" y="12014"/>
                  <a:pt x="10800" y="13246"/>
                </a:cubicBezTo>
                <a:lnTo>
                  <a:pt x="10800" y="19135"/>
                </a:lnTo>
                <a:cubicBezTo>
                  <a:pt x="10800" y="2036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67080" y="3184560"/>
            <a:ext cx="381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33720" y="914400"/>
            <a:ext cx="304560" cy="1447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6520" y="1432080"/>
            <a:ext cx="38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33720" y="2362320"/>
            <a:ext cx="228600" cy="533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76520" y="2422440"/>
            <a:ext cx="38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0" y="2895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38280" y="3962520"/>
            <a:ext cx="3276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S =     h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Comic Sans MS"/>
              </a:rPr>
              <a:t>tra</a:t>
            </a: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(a+c) -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8120" y="3733920"/>
            <a:ext cx="304776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1                  bh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Comic Sans MS"/>
              </a:rPr>
              <a:t>t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2                    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29200" y="4211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38280" y="5127480"/>
            <a:ext cx="3962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    5(3+(2+4+2)) -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48120" y="5356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8120" y="4898880"/>
            <a:ext cx="3581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1                         4 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2                           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5376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17220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19,5 c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0" y="0"/>
            <a:ext cx="4419720" cy="6629400"/>
          </a:xfrm>
          <a:custGeom>
            <a:avLst/>
            <a:gdLst>
              <a:gd name="textAreaLeft" fmla="*/ 286200 w 4419720"/>
              <a:gd name="textAreaRight" fmla="*/ 4133520 w 4419720"/>
              <a:gd name="textAreaTop" fmla="*/ 286200 h 6629400"/>
              <a:gd name="textAreaBottom" fmla="*/ 6343200 h 6629400"/>
            </a:gdLst>
            <a:ahLst/>
            <a:rect l="textAreaLeft" t="textAreaTop" r="textAreaRight" b="textAreaBottom"/>
            <a:pathLst>
              <a:path w="21600" h="32398">
                <a:moveTo>
                  <a:pt x="0" y="0"/>
                </a:moveTo>
                <a:lnTo>
                  <a:pt x="21600" y="0"/>
                </a:lnTo>
                <a:lnTo>
                  <a:pt x="21600" y="32398"/>
                </a:lnTo>
                <a:lnTo>
                  <a:pt x="0" y="32398"/>
                </a:lnTo>
                <a:close/>
              </a:path>
              <a:path fill="lightenLess" w="21600" h="32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8">
                <a:moveTo>
                  <a:pt x="21600" y="0"/>
                </a:moveTo>
                <a:lnTo>
                  <a:pt x="21600" y="32398"/>
                </a:lnTo>
                <a:lnTo>
                  <a:pt x="20200" y="30998"/>
                </a:lnTo>
                <a:lnTo>
                  <a:pt x="20200" y="1400"/>
                </a:lnTo>
                <a:close/>
              </a:path>
              <a:path fill="darkenLess" w="21600" h="32398">
                <a:moveTo>
                  <a:pt x="21600" y="32398"/>
                </a:moveTo>
                <a:lnTo>
                  <a:pt x="0" y="32398"/>
                </a:lnTo>
                <a:lnTo>
                  <a:pt x="1400" y="30998"/>
                </a:lnTo>
                <a:lnTo>
                  <a:pt x="20200" y="30998"/>
                </a:lnTo>
                <a:close/>
              </a:path>
              <a:path fill="lighten" w="21600" h="32398">
                <a:moveTo>
                  <a:pt x="0" y="32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4492800" y="0"/>
            <a:ext cx="4647960" cy="6629400"/>
          </a:xfrm>
          <a:custGeom>
            <a:avLst/>
            <a:gdLst>
              <a:gd name="textAreaLeft" fmla="*/ 300960 w 4647960"/>
              <a:gd name="textAreaRight" fmla="*/ 4347000 w 4647960"/>
              <a:gd name="textAreaTop" fmla="*/ 300960 h 6629400"/>
              <a:gd name="textAreaBottom" fmla="*/ 6328440 h 6629400"/>
            </a:gdLst>
            <a:ahLst/>
            <a:rect l="textAreaLeft" t="textAreaTop" r="textAreaRight" b="textAreaBottom"/>
            <a:pathLst>
              <a:path w="21600" h="30807">
                <a:moveTo>
                  <a:pt x="0" y="0"/>
                </a:moveTo>
                <a:lnTo>
                  <a:pt x="21600" y="0"/>
                </a:lnTo>
                <a:lnTo>
                  <a:pt x="21600" y="30807"/>
                </a:lnTo>
                <a:lnTo>
                  <a:pt x="0" y="30807"/>
                </a:lnTo>
                <a:close/>
              </a:path>
              <a:path fill="lightenLess" w="21600" h="30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07">
                <a:moveTo>
                  <a:pt x="21600" y="0"/>
                </a:moveTo>
                <a:lnTo>
                  <a:pt x="21600" y="30807"/>
                </a:lnTo>
                <a:lnTo>
                  <a:pt x="20200" y="29407"/>
                </a:lnTo>
                <a:lnTo>
                  <a:pt x="20200" y="1400"/>
                </a:lnTo>
                <a:close/>
              </a:path>
              <a:path fill="darkenLess" w="21600" h="30807">
                <a:moveTo>
                  <a:pt x="21600" y="30807"/>
                </a:moveTo>
                <a:lnTo>
                  <a:pt x="0" y="30807"/>
                </a:lnTo>
                <a:lnTo>
                  <a:pt x="1400" y="29407"/>
                </a:lnTo>
                <a:lnTo>
                  <a:pt x="20200" y="29407"/>
                </a:lnTo>
                <a:close/>
              </a:path>
              <a:path fill="lighten" w="21600" h="30807">
                <a:moveTo>
                  <a:pt x="0" y="30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0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 rot="5400000">
            <a:off x="3771360" y="-365040"/>
            <a:ext cx="1257480" cy="2933640"/>
          </a:xfrm>
          <a:prstGeom prst="flowChartManualIn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27240" y="159552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30400" y="1484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76320"/>
            <a:ext cx="609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91120" y="1682640"/>
            <a:ext cx="609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10080" y="838080"/>
            <a:ext cx="99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-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898560"/>
            <a:ext cx="609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2280" y="3276720"/>
            <a:ext cx="4648320" cy="27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C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= 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(x-2)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- (x-6)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= 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- 4x + 4 - (x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12x+ 36) = 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- 4x + 4 - x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+ 12x - 36 = 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 =   8x - 3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52880" y="25146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32360" y="30258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       8x - 32(a+c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41840" y="3254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41840" y="2743200"/>
            <a:ext cx="457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3994200"/>
            <a:ext cx="403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               (5+8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91320" y="4222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15000" y="3711600"/>
            <a:ext cx="1676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8x - 3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52880" y="4854600"/>
            <a:ext cx="352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  2x - 8 (1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144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61760" y="5562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685800" y="57146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095880" y="30481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6019560" y="320004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1911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638680" y="37339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9132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2720" y="51055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638680" y="48769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132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5470560"/>
            <a:ext cx="352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  169(2x - 8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62720" y="571500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638680" y="54864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91320" y="54864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32360" y="6156360"/>
            <a:ext cx="352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  338x - 1352  c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41840" y="63658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618160" y="61372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70440" y="6137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" action="ppaction://hlinkshowjump?jump=previousslide"/>
          </p:cNvPr>
          <p:cNvSpPr/>
          <p:nvPr/>
        </p:nvSpPr>
        <p:spPr>
          <a:xfrm>
            <a:off x="0" y="0"/>
            <a:ext cx="4419720" cy="6629400"/>
          </a:xfrm>
          <a:custGeom>
            <a:avLst/>
            <a:gdLst>
              <a:gd name="textAreaLeft" fmla="*/ 286200 w 4419720"/>
              <a:gd name="textAreaRight" fmla="*/ 4133520 w 4419720"/>
              <a:gd name="textAreaTop" fmla="*/ 286200 h 6629400"/>
              <a:gd name="textAreaBottom" fmla="*/ 6343200 h 6629400"/>
            </a:gdLst>
            <a:ahLst/>
            <a:rect l="textAreaLeft" t="textAreaTop" r="textAreaRight" b="textAreaBottom"/>
            <a:pathLst>
              <a:path w="21600" h="32398">
                <a:moveTo>
                  <a:pt x="0" y="0"/>
                </a:moveTo>
                <a:lnTo>
                  <a:pt x="21600" y="0"/>
                </a:lnTo>
                <a:lnTo>
                  <a:pt x="21600" y="32398"/>
                </a:lnTo>
                <a:lnTo>
                  <a:pt x="0" y="32398"/>
                </a:lnTo>
                <a:close/>
              </a:path>
              <a:path fill="lightenLess" w="21600" h="32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8">
                <a:moveTo>
                  <a:pt x="21600" y="0"/>
                </a:moveTo>
                <a:lnTo>
                  <a:pt x="21600" y="32398"/>
                </a:lnTo>
                <a:lnTo>
                  <a:pt x="20200" y="30998"/>
                </a:lnTo>
                <a:lnTo>
                  <a:pt x="20200" y="1400"/>
                </a:lnTo>
                <a:close/>
              </a:path>
              <a:path fill="darkenLess" w="21600" h="32398">
                <a:moveTo>
                  <a:pt x="21600" y="32398"/>
                </a:moveTo>
                <a:lnTo>
                  <a:pt x="0" y="32398"/>
                </a:lnTo>
                <a:lnTo>
                  <a:pt x="1400" y="30998"/>
                </a:lnTo>
                <a:lnTo>
                  <a:pt x="20200" y="30998"/>
                </a:lnTo>
                <a:close/>
              </a:path>
              <a:path fill="lighten" w="21600" h="32398">
                <a:moveTo>
                  <a:pt x="0" y="32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nextslide"/>
          </p:cNvPr>
          <p:cNvSpPr/>
          <p:nvPr/>
        </p:nvSpPr>
        <p:spPr>
          <a:xfrm>
            <a:off x="4492800" y="0"/>
            <a:ext cx="4647960" cy="6629400"/>
          </a:xfrm>
          <a:custGeom>
            <a:avLst/>
            <a:gdLst>
              <a:gd name="textAreaLeft" fmla="*/ 300960 w 4647960"/>
              <a:gd name="textAreaRight" fmla="*/ 4347000 w 4647960"/>
              <a:gd name="textAreaTop" fmla="*/ 300960 h 6629400"/>
              <a:gd name="textAreaBottom" fmla="*/ 6328440 h 6629400"/>
            </a:gdLst>
            <a:ahLst/>
            <a:rect l="textAreaLeft" t="textAreaTop" r="textAreaRight" b="textAreaBottom"/>
            <a:pathLst>
              <a:path w="21600" h="30807">
                <a:moveTo>
                  <a:pt x="0" y="0"/>
                </a:moveTo>
                <a:lnTo>
                  <a:pt x="21600" y="0"/>
                </a:lnTo>
                <a:lnTo>
                  <a:pt x="21600" y="30807"/>
                </a:lnTo>
                <a:lnTo>
                  <a:pt x="0" y="30807"/>
                </a:lnTo>
                <a:close/>
              </a:path>
              <a:path fill="lightenLess" w="21600" h="30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07">
                <a:moveTo>
                  <a:pt x="21600" y="0"/>
                </a:moveTo>
                <a:lnTo>
                  <a:pt x="21600" y="30807"/>
                </a:lnTo>
                <a:lnTo>
                  <a:pt x="20200" y="29407"/>
                </a:lnTo>
                <a:lnTo>
                  <a:pt x="20200" y="1400"/>
                </a:lnTo>
                <a:close/>
              </a:path>
              <a:path fill="darkenLess" w="21600" h="30807">
                <a:moveTo>
                  <a:pt x="21600" y="30807"/>
                </a:moveTo>
                <a:lnTo>
                  <a:pt x="0" y="30807"/>
                </a:lnTo>
                <a:lnTo>
                  <a:pt x="1400" y="29407"/>
                </a:lnTo>
                <a:lnTo>
                  <a:pt x="20200" y="29407"/>
                </a:lnTo>
                <a:close/>
              </a:path>
              <a:path fill="lighten" w="21600" h="30807">
                <a:moveTo>
                  <a:pt x="0" y="30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0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 flipV="1">
            <a:off x="2057400" y="700560"/>
            <a:ext cx="4419720" cy="1676520"/>
          </a:xfrm>
          <a:custGeom>
            <a:avLst/>
            <a:gdLst>
              <a:gd name="textAreaLeft" fmla="*/ 972000 w 4419720"/>
              <a:gd name="textAreaRight" fmla="*/ 3447720 w 4419720"/>
              <a:gd name="textAreaTop" fmla="*/ 368640 h 1676520"/>
              <a:gd name="textAreaBottom" fmla="*/ 1307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057400" y="1920600"/>
            <a:ext cx="4419720" cy="457200"/>
          </a:xfrm>
          <a:custGeom>
            <a:avLst/>
            <a:gdLst>
              <a:gd name="textAreaLeft" fmla="*/ 520920 w 4419720"/>
              <a:gd name="textAreaRight" fmla="*/ 3898800 w 441972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65" y="21600"/>
                </a:lnTo>
                <a:lnTo>
                  <a:pt x="1435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878520" y="1920960"/>
            <a:ext cx="152640" cy="457200"/>
          </a:xfrm>
          <a:custGeom>
            <a:avLst/>
            <a:gdLst>
              <a:gd name="textAreaLeft" fmla="*/ 97560 w 152640"/>
              <a:gd name="textAreaRight" fmla="*/ 15300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7009560" y="1886040"/>
            <a:ext cx="83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/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019920" y="1920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6496920" y="660240"/>
            <a:ext cx="228600" cy="1752840"/>
          </a:xfrm>
          <a:custGeom>
            <a:avLst/>
            <a:gdLst>
              <a:gd name="textAreaLeft" fmla="*/ 145800 w 228600"/>
              <a:gd name="textAreaRight" fmla="*/ 22860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95680" y="70164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553080" y="1311120"/>
            <a:ext cx="83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62520" y="304920"/>
            <a:ext cx="838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2520" y="2438280"/>
            <a:ext cx="838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0920" y="13111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5714640" y="13111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2743200"/>
            <a:ext cx="327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- C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= 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019920" y="23781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2039400">
            <a:off x="2285640" y="47304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752480" y="1006560"/>
            <a:ext cx="83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3581280"/>
            <a:ext cx="327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-           = 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66680" y="3825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69840" y="3349800"/>
            <a:ext cx="1143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9-5  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3444840"/>
            <a:ext cx="83808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4572000"/>
            <a:ext cx="327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49 - 4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= 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105520"/>
            <a:ext cx="327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 =  4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852480" y="5121360"/>
            <a:ext cx="61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5121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761760" y="527328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43200" y="3359160"/>
            <a:ext cx="3276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=          = 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3603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29000" y="3146400"/>
            <a:ext cx="2286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5 + 9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43200" y="4425840"/>
            <a:ext cx="3276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t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=         = 8   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81280" y="4670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25840" y="4213080"/>
            <a:ext cx="990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7 + 9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7432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29200" y="27432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590560" y="15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62520" y="1143000"/>
            <a:ext cx="533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5851440"/>
            <a:ext cx="32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 =        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6095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2280" y="5603760"/>
            <a:ext cx="533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430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5618160"/>
            <a:ext cx="685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23880" y="60958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676520" y="579096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75248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05520" y="2743200"/>
            <a:ext cx="32763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S =           h (m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Comic Sans MS"/>
              </a:rPr>
              <a:t>t2</a:t>
            </a: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 + c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1500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15000" y="2514600"/>
            <a:ext cx="380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248520" y="2514600"/>
            <a:ext cx="380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72200" y="2514600"/>
            <a:ext cx="76212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05520" y="3809880"/>
            <a:ext cx="32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S =               5  1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1500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72200" y="3581280"/>
            <a:ext cx="121932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15000" y="3527280"/>
            <a:ext cx="380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95880" y="3527280"/>
            <a:ext cx="685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761160" y="40384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913440" y="373356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8976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05520" y="4876920"/>
            <a:ext cx="32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17          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4852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4648320"/>
            <a:ext cx="121932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5880" y="4594320"/>
            <a:ext cx="685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61160" y="51055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913440" y="480024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98976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5867280"/>
            <a:ext cx="32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=         5  c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5956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506920" y="5584680"/>
            <a:ext cx="685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72200" y="60958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24480" y="579096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40080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1584360"/>
            <a:ext cx="533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" action="ppaction://hlinkshowjump?jump=previousslide"/>
          </p:cNvPr>
          <p:cNvSpPr/>
          <p:nvPr/>
        </p:nvSpPr>
        <p:spPr>
          <a:xfrm>
            <a:off x="0" y="0"/>
            <a:ext cx="4419720" cy="6629400"/>
          </a:xfrm>
          <a:custGeom>
            <a:avLst/>
            <a:gdLst>
              <a:gd name="textAreaLeft" fmla="*/ 286200 w 4419720"/>
              <a:gd name="textAreaRight" fmla="*/ 4133520 w 4419720"/>
              <a:gd name="textAreaTop" fmla="*/ 286200 h 6629400"/>
              <a:gd name="textAreaBottom" fmla="*/ 6343200 h 6629400"/>
            </a:gdLst>
            <a:ahLst/>
            <a:rect l="textAreaLeft" t="textAreaTop" r="textAreaRight" b="textAreaBottom"/>
            <a:pathLst>
              <a:path w="21600" h="32398">
                <a:moveTo>
                  <a:pt x="0" y="0"/>
                </a:moveTo>
                <a:lnTo>
                  <a:pt x="21600" y="0"/>
                </a:lnTo>
                <a:lnTo>
                  <a:pt x="21600" y="32398"/>
                </a:lnTo>
                <a:lnTo>
                  <a:pt x="0" y="32398"/>
                </a:lnTo>
                <a:close/>
              </a:path>
              <a:path fill="lightenLess" w="21600" h="32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8">
                <a:moveTo>
                  <a:pt x="21600" y="0"/>
                </a:moveTo>
                <a:lnTo>
                  <a:pt x="21600" y="32398"/>
                </a:lnTo>
                <a:lnTo>
                  <a:pt x="20200" y="30998"/>
                </a:lnTo>
                <a:lnTo>
                  <a:pt x="20200" y="1400"/>
                </a:lnTo>
                <a:close/>
              </a:path>
              <a:path fill="darkenLess" w="21600" h="32398">
                <a:moveTo>
                  <a:pt x="21600" y="32398"/>
                </a:moveTo>
                <a:lnTo>
                  <a:pt x="0" y="32398"/>
                </a:lnTo>
                <a:lnTo>
                  <a:pt x="1400" y="30998"/>
                </a:lnTo>
                <a:lnTo>
                  <a:pt x="20200" y="30998"/>
                </a:lnTo>
                <a:close/>
              </a:path>
              <a:path fill="lighten" w="21600" h="32398">
                <a:moveTo>
                  <a:pt x="0" y="32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4492800" y="0"/>
            <a:ext cx="4647960" cy="6629400"/>
          </a:xfrm>
          <a:custGeom>
            <a:avLst/>
            <a:gdLst>
              <a:gd name="textAreaLeft" fmla="*/ 300960 w 4647960"/>
              <a:gd name="textAreaRight" fmla="*/ 4347000 w 4647960"/>
              <a:gd name="textAreaTop" fmla="*/ 300960 h 6629400"/>
              <a:gd name="textAreaBottom" fmla="*/ 6328440 h 6629400"/>
            </a:gdLst>
            <a:ahLst/>
            <a:rect l="textAreaLeft" t="textAreaTop" r="textAreaRight" b="textAreaBottom"/>
            <a:pathLst>
              <a:path w="21600" h="30807">
                <a:moveTo>
                  <a:pt x="0" y="0"/>
                </a:moveTo>
                <a:lnTo>
                  <a:pt x="21600" y="0"/>
                </a:lnTo>
                <a:lnTo>
                  <a:pt x="21600" y="30807"/>
                </a:lnTo>
                <a:lnTo>
                  <a:pt x="0" y="30807"/>
                </a:lnTo>
                <a:close/>
              </a:path>
              <a:path fill="lightenLess" w="21600" h="30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07">
                <a:moveTo>
                  <a:pt x="21600" y="0"/>
                </a:moveTo>
                <a:lnTo>
                  <a:pt x="21600" y="30807"/>
                </a:lnTo>
                <a:lnTo>
                  <a:pt x="20200" y="29407"/>
                </a:lnTo>
                <a:lnTo>
                  <a:pt x="20200" y="1400"/>
                </a:lnTo>
                <a:close/>
              </a:path>
              <a:path fill="darkenLess" w="21600" h="30807">
                <a:moveTo>
                  <a:pt x="21600" y="30807"/>
                </a:moveTo>
                <a:lnTo>
                  <a:pt x="0" y="30807"/>
                </a:lnTo>
                <a:lnTo>
                  <a:pt x="1400" y="29407"/>
                </a:lnTo>
                <a:lnTo>
                  <a:pt x="20200" y="29407"/>
                </a:lnTo>
                <a:close/>
              </a:path>
              <a:path fill="lighten" w="21600" h="30807">
                <a:moveTo>
                  <a:pt x="0" y="30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0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5867280" y="1828800"/>
            <a:ext cx="457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" y="304920"/>
            <a:ext cx="8229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 figura representa um porta-retrato. Sabe-se que a largura da moldura é de 2,6 cm, o lado externo da moldura mede 7,7 cm e o lado interno 2,3. Qual é a área total da moldura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3520" y="2133720"/>
            <a:ext cx="4952880" cy="428292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23880" y="2911320"/>
            <a:ext cx="2971800" cy="2727360"/>
          </a:xfrm>
          <a:prstGeom prst="hexagon">
            <a:avLst>
              <a:gd name="adj" fmla="val 27241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257800" y="213372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    h(a+c)6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88160" y="23414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57800" y="32004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    2,6(2,3+7,7)6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88160" y="340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67280" y="2895480"/>
            <a:ext cx="457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57800" y="459432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2,6(10)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5848920" y="3620160"/>
            <a:ext cx="417960" cy="15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7982640" y="3371040"/>
            <a:ext cx="418320" cy="15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257800" y="508968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2,6(30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257800" y="554688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78 c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>
            <a:hlinkClick r:id="" action="ppaction://hlinkshowjump?jump=previousslide"/>
          </p:cNvPr>
          <p:cNvSpPr/>
          <p:nvPr/>
        </p:nvSpPr>
        <p:spPr>
          <a:xfrm>
            <a:off x="0" y="0"/>
            <a:ext cx="4419720" cy="6629400"/>
          </a:xfrm>
          <a:custGeom>
            <a:avLst/>
            <a:gdLst>
              <a:gd name="textAreaLeft" fmla="*/ 286200 w 4419720"/>
              <a:gd name="textAreaRight" fmla="*/ 4133520 w 4419720"/>
              <a:gd name="textAreaTop" fmla="*/ 286200 h 6629400"/>
              <a:gd name="textAreaBottom" fmla="*/ 6343200 h 6629400"/>
            </a:gdLst>
            <a:ahLst/>
            <a:rect l="textAreaLeft" t="textAreaTop" r="textAreaRight" b="textAreaBottom"/>
            <a:pathLst>
              <a:path w="21600" h="32398">
                <a:moveTo>
                  <a:pt x="0" y="0"/>
                </a:moveTo>
                <a:lnTo>
                  <a:pt x="21600" y="0"/>
                </a:lnTo>
                <a:lnTo>
                  <a:pt x="21600" y="32398"/>
                </a:lnTo>
                <a:lnTo>
                  <a:pt x="0" y="32398"/>
                </a:lnTo>
                <a:close/>
              </a:path>
              <a:path fill="lightenLess" w="21600" h="32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8">
                <a:moveTo>
                  <a:pt x="21600" y="0"/>
                </a:moveTo>
                <a:lnTo>
                  <a:pt x="21600" y="32398"/>
                </a:lnTo>
                <a:lnTo>
                  <a:pt x="20200" y="30998"/>
                </a:lnTo>
                <a:lnTo>
                  <a:pt x="20200" y="1400"/>
                </a:lnTo>
                <a:close/>
              </a:path>
              <a:path fill="darkenLess" w="21600" h="32398">
                <a:moveTo>
                  <a:pt x="21600" y="32398"/>
                </a:moveTo>
                <a:lnTo>
                  <a:pt x="0" y="32398"/>
                </a:lnTo>
                <a:lnTo>
                  <a:pt x="1400" y="30998"/>
                </a:lnTo>
                <a:lnTo>
                  <a:pt x="20200" y="30998"/>
                </a:lnTo>
                <a:close/>
              </a:path>
              <a:path fill="lighten" w="21600" h="32398">
                <a:moveTo>
                  <a:pt x="0" y="32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>
            <a:hlinkClick r:id="" action="ppaction://hlinkshowjump?jump=nextslide"/>
          </p:cNvPr>
          <p:cNvSpPr/>
          <p:nvPr/>
        </p:nvSpPr>
        <p:spPr>
          <a:xfrm>
            <a:off x="4495680" y="0"/>
            <a:ext cx="4648320" cy="6629400"/>
          </a:xfrm>
          <a:custGeom>
            <a:avLst/>
            <a:gdLst>
              <a:gd name="textAreaLeft" fmla="*/ 300960 w 4648320"/>
              <a:gd name="textAreaRight" fmla="*/ 4347360 w 4648320"/>
              <a:gd name="textAreaTop" fmla="*/ 300960 h 6629400"/>
              <a:gd name="textAreaBottom" fmla="*/ 6328440 h 6629400"/>
            </a:gdLst>
            <a:ahLst/>
            <a:rect l="textAreaLeft" t="textAreaTop" r="textAreaRight" b="textAreaBottom"/>
            <a:pathLst>
              <a:path w="21600" h="30805">
                <a:moveTo>
                  <a:pt x="0" y="0"/>
                </a:moveTo>
                <a:lnTo>
                  <a:pt x="21600" y="0"/>
                </a:lnTo>
                <a:lnTo>
                  <a:pt x="21600" y="30805"/>
                </a:lnTo>
                <a:lnTo>
                  <a:pt x="0" y="30805"/>
                </a:lnTo>
                <a:close/>
              </a:path>
              <a:path fill="lightenLess" w="21600" h="308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05">
                <a:moveTo>
                  <a:pt x="21600" y="0"/>
                </a:moveTo>
                <a:lnTo>
                  <a:pt x="21600" y="30805"/>
                </a:lnTo>
                <a:lnTo>
                  <a:pt x="20200" y="29405"/>
                </a:lnTo>
                <a:lnTo>
                  <a:pt x="20200" y="1400"/>
                </a:lnTo>
                <a:close/>
              </a:path>
              <a:path fill="darkenLess" w="21600" h="30805">
                <a:moveTo>
                  <a:pt x="21600" y="30805"/>
                </a:moveTo>
                <a:lnTo>
                  <a:pt x="0" y="30805"/>
                </a:lnTo>
                <a:lnTo>
                  <a:pt x="1400" y="29405"/>
                </a:lnTo>
                <a:lnTo>
                  <a:pt x="20200" y="29405"/>
                </a:lnTo>
                <a:close/>
              </a:path>
              <a:path fill="lighten" w="21600" h="30805">
                <a:moveTo>
                  <a:pt x="0" y="308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0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457200" y="974880"/>
            <a:ext cx="8229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alcule a área de um trapézio cuja base maior é o dobro da menor (x) e cuja altura é metade da base meno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9402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     h(a+c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95280" y="416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95280" y="3657600"/>
            <a:ext cx="457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52578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          x (x + 2x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95280" y="4975200"/>
            <a:ext cx="457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419720" y="483876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2880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28800" y="4975200"/>
            <a:ext cx="457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52480" y="4952880"/>
            <a:ext cx="762120" cy="10670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19720" y="39402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     x (3x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029200" y="416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029200" y="3657600"/>
            <a:ext cx="457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19720" y="5257800"/>
            <a:ext cx="16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2920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29200" y="4975200"/>
            <a:ext cx="9144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" action="ppaction://hlinkshowjump?jump=previousslide"/>
          </p:cNvPr>
          <p:cNvSpPr/>
          <p:nvPr/>
        </p:nvSpPr>
        <p:spPr>
          <a:xfrm>
            <a:off x="0" y="0"/>
            <a:ext cx="4419720" cy="6629400"/>
          </a:xfrm>
          <a:custGeom>
            <a:avLst/>
            <a:gdLst>
              <a:gd name="textAreaLeft" fmla="*/ 286200 w 4419720"/>
              <a:gd name="textAreaRight" fmla="*/ 4133520 w 4419720"/>
              <a:gd name="textAreaTop" fmla="*/ 286200 h 6629400"/>
              <a:gd name="textAreaBottom" fmla="*/ 6343200 h 6629400"/>
            </a:gdLst>
            <a:ahLst/>
            <a:rect l="textAreaLeft" t="textAreaTop" r="textAreaRight" b="textAreaBottom"/>
            <a:pathLst>
              <a:path w="21600" h="32398">
                <a:moveTo>
                  <a:pt x="0" y="0"/>
                </a:moveTo>
                <a:lnTo>
                  <a:pt x="21600" y="0"/>
                </a:lnTo>
                <a:lnTo>
                  <a:pt x="21600" y="32398"/>
                </a:lnTo>
                <a:lnTo>
                  <a:pt x="0" y="32398"/>
                </a:lnTo>
                <a:close/>
              </a:path>
              <a:path fill="lightenLess" w="21600" h="32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8">
                <a:moveTo>
                  <a:pt x="21600" y="0"/>
                </a:moveTo>
                <a:lnTo>
                  <a:pt x="21600" y="32398"/>
                </a:lnTo>
                <a:lnTo>
                  <a:pt x="20200" y="30998"/>
                </a:lnTo>
                <a:lnTo>
                  <a:pt x="20200" y="1400"/>
                </a:lnTo>
                <a:close/>
              </a:path>
              <a:path fill="darkenLess" w="21600" h="32398">
                <a:moveTo>
                  <a:pt x="21600" y="32398"/>
                </a:moveTo>
                <a:lnTo>
                  <a:pt x="0" y="32398"/>
                </a:lnTo>
                <a:lnTo>
                  <a:pt x="1400" y="30998"/>
                </a:lnTo>
                <a:lnTo>
                  <a:pt x="20200" y="30998"/>
                </a:lnTo>
                <a:close/>
              </a:path>
              <a:path fill="lighten" w="21600" h="32398">
                <a:moveTo>
                  <a:pt x="0" y="32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" action="ppaction://hlinkshowjump?jump=nextslide"/>
          </p:cNvPr>
          <p:cNvSpPr/>
          <p:nvPr/>
        </p:nvSpPr>
        <p:spPr>
          <a:xfrm>
            <a:off x="4492800" y="0"/>
            <a:ext cx="4647960" cy="6629400"/>
          </a:xfrm>
          <a:custGeom>
            <a:avLst/>
            <a:gdLst>
              <a:gd name="textAreaLeft" fmla="*/ 300960 w 4647960"/>
              <a:gd name="textAreaRight" fmla="*/ 4347000 w 4647960"/>
              <a:gd name="textAreaTop" fmla="*/ 300960 h 6629400"/>
              <a:gd name="textAreaBottom" fmla="*/ 6328440 h 6629400"/>
            </a:gdLst>
            <a:ahLst/>
            <a:rect l="textAreaLeft" t="textAreaTop" r="textAreaRight" b="textAreaBottom"/>
            <a:pathLst>
              <a:path w="21600" h="30807">
                <a:moveTo>
                  <a:pt x="0" y="0"/>
                </a:moveTo>
                <a:lnTo>
                  <a:pt x="21600" y="0"/>
                </a:lnTo>
                <a:lnTo>
                  <a:pt x="21600" y="30807"/>
                </a:lnTo>
                <a:lnTo>
                  <a:pt x="0" y="30807"/>
                </a:lnTo>
                <a:close/>
              </a:path>
              <a:path fill="lightenLess" w="21600" h="30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07">
                <a:moveTo>
                  <a:pt x="21600" y="0"/>
                </a:moveTo>
                <a:lnTo>
                  <a:pt x="21600" y="30807"/>
                </a:lnTo>
                <a:lnTo>
                  <a:pt x="20200" y="29407"/>
                </a:lnTo>
                <a:lnTo>
                  <a:pt x="20200" y="1400"/>
                </a:lnTo>
                <a:close/>
              </a:path>
              <a:path fill="darkenLess" w="21600" h="30807">
                <a:moveTo>
                  <a:pt x="21600" y="30807"/>
                </a:moveTo>
                <a:lnTo>
                  <a:pt x="0" y="30807"/>
                </a:lnTo>
                <a:lnTo>
                  <a:pt x="1400" y="29407"/>
                </a:lnTo>
                <a:lnTo>
                  <a:pt x="20200" y="29407"/>
                </a:lnTo>
                <a:close/>
              </a:path>
              <a:path fill="lighten" w="21600" h="30807">
                <a:moveTo>
                  <a:pt x="0" y="30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0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96840" y="76320"/>
            <a:ext cx="8915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alcule a superfície (S) dessa caixa de cartucho de impressor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57400" y="1752480"/>
            <a:ext cx="2833920" cy="2895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957400" y="1065600"/>
            <a:ext cx="2819520" cy="685800"/>
          </a:xfrm>
          <a:custGeom>
            <a:avLst/>
            <a:gdLst>
              <a:gd name="textAreaLeft" fmla="*/ 619920 w 2819520"/>
              <a:gd name="textAreaRight" fmla="*/ 2199600 w 281952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971800" y="3961800"/>
            <a:ext cx="2819520" cy="685800"/>
          </a:xfrm>
          <a:custGeom>
            <a:avLst/>
            <a:gdLst>
              <a:gd name="textAreaLeft" fmla="*/ 619920 w 2819520"/>
              <a:gd name="textAreaRight" fmla="*/ 2199600 w 281952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57400" y="4648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643200" y="990360"/>
            <a:ext cx="0" cy="2971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5091120" y="990360"/>
            <a:ext cx="0" cy="2971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90920" y="39625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00400" y="4079880"/>
            <a:ext cx="442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2819520" y="39625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819160" y="46483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62160" y="1066680"/>
            <a:ext cx="443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272200" y="1066680"/>
            <a:ext cx="442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267080" y="4586400"/>
            <a:ext cx="609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729400" y="2833560"/>
            <a:ext cx="595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67080" y="685800"/>
            <a:ext cx="443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4920" y="5159520"/>
            <a:ext cx="7010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2      3(8+11) + 2(4 ·10) + 11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0 + 8 ·1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19320" y="538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219320" y="4876920"/>
            <a:ext cx="457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219320" y="4876920"/>
            <a:ext cx="1600200" cy="990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6172200"/>
            <a:ext cx="7010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57 + 80 + 110 + 80 = 327 c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44792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4616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>
            <a:hlinkClick r:id="" action="ppaction://hlinkshowjump?jump=previousslide"/>
          </p:cNvPr>
          <p:cNvSpPr/>
          <p:nvPr/>
        </p:nvSpPr>
        <p:spPr>
          <a:xfrm>
            <a:off x="0" y="0"/>
            <a:ext cx="4419720" cy="6629400"/>
          </a:xfrm>
          <a:custGeom>
            <a:avLst/>
            <a:gdLst>
              <a:gd name="textAreaLeft" fmla="*/ 286200 w 4419720"/>
              <a:gd name="textAreaRight" fmla="*/ 4133520 w 4419720"/>
              <a:gd name="textAreaTop" fmla="*/ 286200 h 6629400"/>
              <a:gd name="textAreaBottom" fmla="*/ 6343200 h 6629400"/>
            </a:gdLst>
            <a:ahLst/>
            <a:rect l="textAreaLeft" t="textAreaTop" r="textAreaRight" b="textAreaBottom"/>
            <a:pathLst>
              <a:path w="21600" h="32398">
                <a:moveTo>
                  <a:pt x="0" y="0"/>
                </a:moveTo>
                <a:lnTo>
                  <a:pt x="21600" y="0"/>
                </a:lnTo>
                <a:lnTo>
                  <a:pt x="21600" y="32398"/>
                </a:lnTo>
                <a:lnTo>
                  <a:pt x="0" y="32398"/>
                </a:lnTo>
                <a:close/>
              </a:path>
              <a:path fill="lightenLess" w="21600" h="32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8">
                <a:moveTo>
                  <a:pt x="21600" y="0"/>
                </a:moveTo>
                <a:lnTo>
                  <a:pt x="21600" y="32398"/>
                </a:lnTo>
                <a:lnTo>
                  <a:pt x="20200" y="30998"/>
                </a:lnTo>
                <a:lnTo>
                  <a:pt x="20200" y="1400"/>
                </a:lnTo>
                <a:close/>
              </a:path>
              <a:path fill="darkenLess" w="21600" h="32398">
                <a:moveTo>
                  <a:pt x="21600" y="32398"/>
                </a:moveTo>
                <a:lnTo>
                  <a:pt x="0" y="32398"/>
                </a:lnTo>
                <a:lnTo>
                  <a:pt x="1400" y="30998"/>
                </a:lnTo>
                <a:lnTo>
                  <a:pt x="20200" y="30998"/>
                </a:lnTo>
                <a:close/>
              </a:path>
              <a:path fill="lighten" w="21600" h="32398">
                <a:moveTo>
                  <a:pt x="0" y="32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>
            <a:hlinkClick r:id="" action="ppaction://hlinkshowjump?jump=nextslide"/>
          </p:cNvPr>
          <p:cNvSpPr/>
          <p:nvPr/>
        </p:nvSpPr>
        <p:spPr>
          <a:xfrm>
            <a:off x="4492800" y="0"/>
            <a:ext cx="4647960" cy="6629400"/>
          </a:xfrm>
          <a:custGeom>
            <a:avLst/>
            <a:gdLst>
              <a:gd name="textAreaLeft" fmla="*/ 300960 w 4647960"/>
              <a:gd name="textAreaRight" fmla="*/ 4347000 w 4647960"/>
              <a:gd name="textAreaTop" fmla="*/ 300960 h 6629400"/>
              <a:gd name="textAreaBottom" fmla="*/ 6328440 h 6629400"/>
            </a:gdLst>
            <a:ahLst/>
            <a:rect l="textAreaLeft" t="textAreaTop" r="textAreaRight" b="textAreaBottom"/>
            <a:pathLst>
              <a:path w="21600" h="30807">
                <a:moveTo>
                  <a:pt x="0" y="0"/>
                </a:moveTo>
                <a:lnTo>
                  <a:pt x="21600" y="0"/>
                </a:lnTo>
                <a:lnTo>
                  <a:pt x="21600" y="30807"/>
                </a:lnTo>
                <a:lnTo>
                  <a:pt x="0" y="30807"/>
                </a:lnTo>
                <a:close/>
              </a:path>
              <a:path fill="lightenLess" w="21600" h="30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07">
                <a:moveTo>
                  <a:pt x="21600" y="0"/>
                </a:moveTo>
                <a:lnTo>
                  <a:pt x="21600" y="30807"/>
                </a:lnTo>
                <a:lnTo>
                  <a:pt x="20200" y="29407"/>
                </a:lnTo>
                <a:lnTo>
                  <a:pt x="20200" y="1400"/>
                </a:lnTo>
                <a:close/>
              </a:path>
              <a:path fill="darkenLess" w="21600" h="30807">
                <a:moveTo>
                  <a:pt x="21600" y="30807"/>
                </a:moveTo>
                <a:lnTo>
                  <a:pt x="0" y="30807"/>
                </a:lnTo>
                <a:lnTo>
                  <a:pt x="1400" y="29407"/>
                </a:lnTo>
                <a:lnTo>
                  <a:pt x="20200" y="29407"/>
                </a:lnTo>
                <a:close/>
              </a:path>
              <a:path fill="lighten" w="21600" h="30807">
                <a:moveTo>
                  <a:pt x="0" y="30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0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5562720" y="2860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" y="45720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Determine a área do hexágono (cm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47920" y="27590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47920" y="367344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352680" y="27590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1409760" y="1539360"/>
            <a:ext cx="647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704680" y="1539360"/>
            <a:ext cx="647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057040" y="1539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16200000">
            <a:off x="2282760" y="287316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3962520"/>
            <a:ext cx="838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29000" y="275904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05320" y="2987640"/>
            <a:ext cx="838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90720" y="1539720"/>
            <a:ext cx="228600" cy="2133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1143000" y="1539720"/>
            <a:ext cx="9907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1218960" y="36734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0880" y="2378160"/>
            <a:ext cx="83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81080" y="1143000"/>
            <a:ext cx="83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48320" y="1600200"/>
            <a:ext cx="4038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S =      h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(a+c)  + b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pt-BR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1828800"/>
            <a:ext cx="23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410080" y="1317600"/>
            <a:ext cx="233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8320" y="259092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     6(3 + 12)  + 12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0080" y="2819520"/>
            <a:ext cx="23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10080" y="2308320"/>
            <a:ext cx="233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8320" y="36576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3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15  + 12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8881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48320" y="432756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45  +  4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8320" y="493704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93 c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>
            <a:hlinkClick r:id="" action="ppaction://hlinkshowjump?jump=previousslide"/>
          </p:cNvPr>
          <p:cNvSpPr/>
          <p:nvPr/>
        </p:nvSpPr>
        <p:spPr>
          <a:xfrm>
            <a:off x="0" y="0"/>
            <a:ext cx="4419720" cy="6629400"/>
          </a:xfrm>
          <a:custGeom>
            <a:avLst/>
            <a:gdLst>
              <a:gd name="textAreaLeft" fmla="*/ 286200 w 4419720"/>
              <a:gd name="textAreaRight" fmla="*/ 4133520 w 4419720"/>
              <a:gd name="textAreaTop" fmla="*/ 286200 h 6629400"/>
              <a:gd name="textAreaBottom" fmla="*/ 6343200 h 6629400"/>
            </a:gdLst>
            <a:ahLst/>
            <a:rect l="textAreaLeft" t="textAreaTop" r="textAreaRight" b="textAreaBottom"/>
            <a:pathLst>
              <a:path w="21600" h="32398">
                <a:moveTo>
                  <a:pt x="0" y="0"/>
                </a:moveTo>
                <a:lnTo>
                  <a:pt x="21600" y="0"/>
                </a:lnTo>
                <a:lnTo>
                  <a:pt x="21600" y="32398"/>
                </a:lnTo>
                <a:lnTo>
                  <a:pt x="0" y="32398"/>
                </a:lnTo>
                <a:close/>
              </a:path>
              <a:path fill="lightenLess" w="21600" h="32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8">
                <a:moveTo>
                  <a:pt x="21600" y="0"/>
                </a:moveTo>
                <a:lnTo>
                  <a:pt x="21600" y="32398"/>
                </a:lnTo>
                <a:lnTo>
                  <a:pt x="20200" y="30998"/>
                </a:lnTo>
                <a:lnTo>
                  <a:pt x="20200" y="1400"/>
                </a:lnTo>
                <a:close/>
              </a:path>
              <a:path fill="darkenLess" w="21600" h="32398">
                <a:moveTo>
                  <a:pt x="21600" y="32398"/>
                </a:moveTo>
                <a:lnTo>
                  <a:pt x="0" y="32398"/>
                </a:lnTo>
                <a:lnTo>
                  <a:pt x="1400" y="30998"/>
                </a:lnTo>
                <a:lnTo>
                  <a:pt x="20200" y="30998"/>
                </a:lnTo>
                <a:close/>
              </a:path>
              <a:path fill="lighten" w="21600" h="32398">
                <a:moveTo>
                  <a:pt x="0" y="32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>
            <a:hlinkClick r:id="" action="ppaction://hlinkshowjump?jump=nextslide"/>
          </p:cNvPr>
          <p:cNvSpPr/>
          <p:nvPr/>
        </p:nvSpPr>
        <p:spPr>
          <a:xfrm>
            <a:off x="4492800" y="0"/>
            <a:ext cx="4647960" cy="6629400"/>
          </a:xfrm>
          <a:custGeom>
            <a:avLst/>
            <a:gdLst>
              <a:gd name="textAreaLeft" fmla="*/ 300960 w 4647960"/>
              <a:gd name="textAreaRight" fmla="*/ 4347000 w 4647960"/>
              <a:gd name="textAreaTop" fmla="*/ 300960 h 6629400"/>
              <a:gd name="textAreaBottom" fmla="*/ 6328440 h 6629400"/>
            </a:gdLst>
            <a:ahLst/>
            <a:rect l="textAreaLeft" t="textAreaTop" r="textAreaRight" b="textAreaBottom"/>
            <a:pathLst>
              <a:path w="21600" h="30807">
                <a:moveTo>
                  <a:pt x="0" y="0"/>
                </a:moveTo>
                <a:lnTo>
                  <a:pt x="21600" y="0"/>
                </a:lnTo>
                <a:lnTo>
                  <a:pt x="21600" y="30807"/>
                </a:lnTo>
                <a:lnTo>
                  <a:pt x="0" y="30807"/>
                </a:lnTo>
                <a:close/>
              </a:path>
              <a:path fill="lightenLess" w="21600" h="30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07">
                <a:moveTo>
                  <a:pt x="21600" y="0"/>
                </a:moveTo>
                <a:lnTo>
                  <a:pt x="21600" y="30807"/>
                </a:lnTo>
                <a:lnTo>
                  <a:pt x="20200" y="29407"/>
                </a:lnTo>
                <a:lnTo>
                  <a:pt x="20200" y="1400"/>
                </a:lnTo>
                <a:close/>
              </a:path>
              <a:path fill="darkenLess" w="21600" h="30807">
                <a:moveTo>
                  <a:pt x="21600" y="30807"/>
                </a:moveTo>
                <a:lnTo>
                  <a:pt x="0" y="30807"/>
                </a:lnTo>
                <a:lnTo>
                  <a:pt x="1400" y="29407"/>
                </a:lnTo>
                <a:lnTo>
                  <a:pt x="20200" y="29407"/>
                </a:lnTo>
                <a:close/>
              </a:path>
              <a:path fill="lighten" w="21600" h="30807">
                <a:moveTo>
                  <a:pt x="0" y="30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0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90920" y="228600"/>
            <a:ext cx="4419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7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cc"/>
                </a:solidFill>
                <a:latin typeface="Arial Black"/>
              </a:rPr>
              <a:t>O que é trapézio?</a:t>
            </a:r>
            <a:endParaRPr b="1" lang="en-US" sz="2400" spc="1" strike="noStrike">
              <a:ln w="0">
                <a:noFill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905120"/>
            <a:ext cx="868680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trapézio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é um quadrilátero com 1 par de lados paralelos (as bases do trapézio). Ele pode ser classificado com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Trapézio retângulo: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possui 1 e, conseqüentemente, 2 ângulos retos e não possui eixos de simetri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Trapézio isósceles: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ossui os dois lados, que não são bases, os ângulos de uma mesma base e as diagonais congruentes, possui 1 eixo de simetria., a mediana é paralela às bases e é igual à semi-soma das ba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Trapézio escaleno: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possui os dois lados, que não são bases, não congruentes e não possui eixos de simetri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2743200" y="457200"/>
            <a:ext cx="3657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Resolva os problem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04920" y="990720"/>
            <a:ext cx="8534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Num trapézio de altura 4 cm, a base maior tem o triplo da base menor. Determine as medidas dessas bases, sabendo que a área do trapézio é 12 c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95280" y="3178080"/>
            <a:ext cx="213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     h(a+c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947960" y="3406680"/>
            <a:ext cx="241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5120" y="2895480"/>
            <a:ext cx="241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295280" y="434340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2 =      4(x + 3x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76560" y="4572000"/>
            <a:ext cx="241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133720" y="4060800"/>
            <a:ext cx="241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34144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11440" y="436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876920" y="3124080"/>
            <a:ext cx="289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2 = 2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4x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876920" y="3597120"/>
            <a:ext cx="289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8x = 12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76920" y="4267080"/>
            <a:ext cx="289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 =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10080" y="4511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96040" y="4000680"/>
            <a:ext cx="241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4920" y="5699160"/>
            <a:ext cx="853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 base maior tem 9/2 cm e a base menor tem 3/2 c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" action="ppaction://hlinkshowjump?jump=previousslide"/>
          </p:cNvPr>
          <p:cNvSpPr/>
          <p:nvPr/>
        </p:nvSpPr>
        <p:spPr>
          <a:xfrm>
            <a:off x="0" y="0"/>
            <a:ext cx="4419720" cy="6629400"/>
          </a:xfrm>
          <a:custGeom>
            <a:avLst/>
            <a:gdLst>
              <a:gd name="textAreaLeft" fmla="*/ 286200 w 4419720"/>
              <a:gd name="textAreaRight" fmla="*/ 4133520 w 4419720"/>
              <a:gd name="textAreaTop" fmla="*/ 286200 h 6629400"/>
              <a:gd name="textAreaBottom" fmla="*/ 6343200 h 6629400"/>
            </a:gdLst>
            <a:ahLst/>
            <a:rect l="textAreaLeft" t="textAreaTop" r="textAreaRight" b="textAreaBottom"/>
            <a:pathLst>
              <a:path w="21600" h="32398">
                <a:moveTo>
                  <a:pt x="0" y="0"/>
                </a:moveTo>
                <a:lnTo>
                  <a:pt x="21600" y="0"/>
                </a:lnTo>
                <a:lnTo>
                  <a:pt x="21600" y="32398"/>
                </a:lnTo>
                <a:lnTo>
                  <a:pt x="0" y="32398"/>
                </a:lnTo>
                <a:close/>
              </a:path>
              <a:path fill="lightenLess" w="21600" h="32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8">
                <a:moveTo>
                  <a:pt x="21600" y="0"/>
                </a:moveTo>
                <a:lnTo>
                  <a:pt x="21600" y="32398"/>
                </a:lnTo>
                <a:lnTo>
                  <a:pt x="20200" y="30998"/>
                </a:lnTo>
                <a:lnTo>
                  <a:pt x="20200" y="1400"/>
                </a:lnTo>
                <a:close/>
              </a:path>
              <a:path fill="darkenLess" w="21600" h="32398">
                <a:moveTo>
                  <a:pt x="21600" y="32398"/>
                </a:moveTo>
                <a:lnTo>
                  <a:pt x="0" y="32398"/>
                </a:lnTo>
                <a:lnTo>
                  <a:pt x="1400" y="30998"/>
                </a:lnTo>
                <a:lnTo>
                  <a:pt x="20200" y="30998"/>
                </a:lnTo>
                <a:close/>
              </a:path>
              <a:path fill="lighten" w="21600" h="32398">
                <a:moveTo>
                  <a:pt x="0" y="32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4492800" y="0"/>
            <a:ext cx="4647960" cy="6629400"/>
          </a:xfrm>
          <a:custGeom>
            <a:avLst/>
            <a:gdLst>
              <a:gd name="textAreaLeft" fmla="*/ 300960 w 4647960"/>
              <a:gd name="textAreaRight" fmla="*/ 4347000 w 4647960"/>
              <a:gd name="textAreaTop" fmla="*/ 300960 h 6629400"/>
              <a:gd name="textAreaBottom" fmla="*/ 6328440 h 6629400"/>
            </a:gdLst>
            <a:ahLst/>
            <a:rect l="textAreaLeft" t="textAreaTop" r="textAreaRight" b="textAreaBottom"/>
            <a:pathLst>
              <a:path w="21600" h="30807">
                <a:moveTo>
                  <a:pt x="0" y="0"/>
                </a:moveTo>
                <a:lnTo>
                  <a:pt x="21600" y="0"/>
                </a:lnTo>
                <a:lnTo>
                  <a:pt x="21600" y="30807"/>
                </a:lnTo>
                <a:lnTo>
                  <a:pt x="0" y="30807"/>
                </a:lnTo>
                <a:close/>
              </a:path>
              <a:path fill="lightenLess" w="21600" h="30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07">
                <a:moveTo>
                  <a:pt x="21600" y="0"/>
                </a:moveTo>
                <a:lnTo>
                  <a:pt x="21600" y="30807"/>
                </a:lnTo>
                <a:lnTo>
                  <a:pt x="20200" y="29407"/>
                </a:lnTo>
                <a:lnTo>
                  <a:pt x="20200" y="1400"/>
                </a:lnTo>
                <a:close/>
              </a:path>
              <a:path fill="darkenLess" w="21600" h="30807">
                <a:moveTo>
                  <a:pt x="21600" y="30807"/>
                </a:moveTo>
                <a:lnTo>
                  <a:pt x="0" y="30807"/>
                </a:lnTo>
                <a:lnTo>
                  <a:pt x="1400" y="29407"/>
                </a:lnTo>
                <a:lnTo>
                  <a:pt x="20200" y="29407"/>
                </a:lnTo>
                <a:close/>
              </a:path>
              <a:path fill="lighten" w="21600" h="30807">
                <a:moveTo>
                  <a:pt x="0" y="30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0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304920" y="304920"/>
            <a:ext cx="8534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Num trapézio, a medida da base maior excede a medida da base menor em 3 cm. Sabendo que a altura relativa às bases mede 6 cm e que a área do trapézio é 45 c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 Determine as medidas de suas bas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143000" y="350532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45 =    6(x + (x + 3)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47960" y="3733920"/>
            <a:ext cx="241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05120" y="3222720"/>
            <a:ext cx="241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04920" y="5699160"/>
            <a:ext cx="853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s bases medem 6 cm e 9 c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19320" y="2286000"/>
            <a:ext cx="2133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     h(a+c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71640" y="2514600"/>
            <a:ext cx="241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828800" y="2003400"/>
            <a:ext cx="241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0368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36232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43000" y="477828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45 = 3(2x + 3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00600" y="228600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45 = 6x + 9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00600" y="350532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6x = 36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876920" y="4800600"/>
            <a:ext cx="3504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 = 6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>
            <a:hlinkClick r:id="" action="ppaction://hlinkshowjump?jump=previousslide"/>
          </p:cNvPr>
          <p:cNvSpPr/>
          <p:nvPr/>
        </p:nvSpPr>
        <p:spPr>
          <a:xfrm>
            <a:off x="0" y="0"/>
            <a:ext cx="4419720" cy="6629400"/>
          </a:xfrm>
          <a:custGeom>
            <a:avLst/>
            <a:gdLst>
              <a:gd name="textAreaLeft" fmla="*/ 286200 w 4419720"/>
              <a:gd name="textAreaRight" fmla="*/ 4133520 w 4419720"/>
              <a:gd name="textAreaTop" fmla="*/ 286200 h 6629400"/>
              <a:gd name="textAreaBottom" fmla="*/ 6343200 h 6629400"/>
            </a:gdLst>
            <a:ahLst/>
            <a:rect l="textAreaLeft" t="textAreaTop" r="textAreaRight" b="textAreaBottom"/>
            <a:pathLst>
              <a:path w="21600" h="32398">
                <a:moveTo>
                  <a:pt x="0" y="0"/>
                </a:moveTo>
                <a:lnTo>
                  <a:pt x="21600" y="0"/>
                </a:lnTo>
                <a:lnTo>
                  <a:pt x="21600" y="32398"/>
                </a:lnTo>
                <a:lnTo>
                  <a:pt x="0" y="32398"/>
                </a:lnTo>
                <a:close/>
              </a:path>
              <a:path fill="lightenLess" w="21600" h="32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8">
                <a:moveTo>
                  <a:pt x="21600" y="0"/>
                </a:moveTo>
                <a:lnTo>
                  <a:pt x="21600" y="32398"/>
                </a:lnTo>
                <a:lnTo>
                  <a:pt x="20200" y="30998"/>
                </a:lnTo>
                <a:lnTo>
                  <a:pt x="20200" y="1400"/>
                </a:lnTo>
                <a:close/>
              </a:path>
              <a:path fill="darkenLess" w="21600" h="32398">
                <a:moveTo>
                  <a:pt x="21600" y="32398"/>
                </a:moveTo>
                <a:lnTo>
                  <a:pt x="0" y="32398"/>
                </a:lnTo>
                <a:lnTo>
                  <a:pt x="1400" y="30998"/>
                </a:lnTo>
                <a:lnTo>
                  <a:pt x="20200" y="30998"/>
                </a:lnTo>
                <a:close/>
              </a:path>
              <a:path fill="lighten" w="21600" h="32398">
                <a:moveTo>
                  <a:pt x="0" y="32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492800" y="0"/>
            <a:ext cx="4647960" cy="6629400"/>
          </a:xfrm>
          <a:custGeom>
            <a:avLst/>
            <a:gdLst>
              <a:gd name="textAreaLeft" fmla="*/ 300960 w 4647960"/>
              <a:gd name="textAreaRight" fmla="*/ 4347000 w 4647960"/>
              <a:gd name="textAreaTop" fmla="*/ 300960 h 6629400"/>
              <a:gd name="textAreaBottom" fmla="*/ 6328440 h 6629400"/>
            </a:gdLst>
            <a:ahLst/>
            <a:rect l="textAreaLeft" t="textAreaTop" r="textAreaRight" b="textAreaBottom"/>
            <a:pathLst>
              <a:path w="21600" h="30807">
                <a:moveTo>
                  <a:pt x="0" y="0"/>
                </a:moveTo>
                <a:lnTo>
                  <a:pt x="21600" y="0"/>
                </a:lnTo>
                <a:lnTo>
                  <a:pt x="21600" y="30807"/>
                </a:lnTo>
                <a:lnTo>
                  <a:pt x="0" y="30807"/>
                </a:lnTo>
                <a:close/>
              </a:path>
              <a:path fill="lightenLess" w="21600" h="30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07">
                <a:moveTo>
                  <a:pt x="21600" y="0"/>
                </a:moveTo>
                <a:lnTo>
                  <a:pt x="21600" y="30807"/>
                </a:lnTo>
                <a:lnTo>
                  <a:pt x="20200" y="29407"/>
                </a:lnTo>
                <a:lnTo>
                  <a:pt x="20200" y="1400"/>
                </a:lnTo>
                <a:close/>
              </a:path>
              <a:path fill="darkenLess" w="21600" h="30807">
                <a:moveTo>
                  <a:pt x="21600" y="30807"/>
                </a:moveTo>
                <a:lnTo>
                  <a:pt x="0" y="30807"/>
                </a:lnTo>
                <a:lnTo>
                  <a:pt x="1400" y="29407"/>
                </a:lnTo>
                <a:lnTo>
                  <a:pt x="20200" y="29407"/>
                </a:lnTo>
                <a:close/>
              </a:path>
              <a:path fill="lighten" w="21600" h="30807">
                <a:moveTo>
                  <a:pt x="0" y="30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0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457200" y="-6095880"/>
            <a:ext cx="830592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45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10800000"/>
                </a:gradFill>
                <a:latin typeface="Arial Black"/>
              </a:rPr>
              <a:t>Trapézi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10800000"/>
                </a:gradFill>
                <a:latin typeface="Arial Black"/>
              </a:rPr>
              <a:t>e seus elemento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11" name=""/>
          <p:cNvSpPr/>
          <p:nvPr/>
        </p:nvSpPr>
        <p:spPr>
          <a:xfrm>
            <a:off x="2971800" y="-2971800"/>
            <a:ext cx="3581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r: Al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ré Sma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Gusta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aria In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ar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-175248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,G&amp;M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pyrigh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pt-BR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Todos os direitos reserv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0"/>
            <a:ext cx="4648320" cy="6858000"/>
          </a:xfrm>
          <a:custGeom>
            <a:avLst/>
            <a:gdLst>
              <a:gd name="textAreaLeft" fmla="*/ 300960 w 4648320"/>
              <a:gd name="textAreaRight" fmla="*/ 4347360 w 4648320"/>
              <a:gd name="textAreaTop" fmla="*/ 300960 h 6858000"/>
              <a:gd name="textAreaBottom" fmla="*/ 6557040 h 6858000"/>
            </a:gdLst>
            <a:ahLst/>
            <a:rect l="textAreaLeft" t="textAreaTop" r="textAreaRight" b="textAreaBottom"/>
            <a:pathLst>
              <a:path w="21600" h="31867">
                <a:moveTo>
                  <a:pt x="0" y="0"/>
                </a:moveTo>
                <a:lnTo>
                  <a:pt x="21600" y="0"/>
                </a:lnTo>
                <a:lnTo>
                  <a:pt x="21600" y="31867"/>
                </a:lnTo>
                <a:lnTo>
                  <a:pt x="0" y="31867"/>
                </a:lnTo>
                <a:close/>
              </a:path>
              <a:path fill="lightenLess" w="21600" h="3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867">
                <a:moveTo>
                  <a:pt x="21600" y="0"/>
                </a:moveTo>
                <a:lnTo>
                  <a:pt x="21600" y="31867"/>
                </a:lnTo>
                <a:lnTo>
                  <a:pt x="20200" y="30467"/>
                </a:lnTo>
                <a:lnTo>
                  <a:pt x="20200" y="1400"/>
                </a:lnTo>
                <a:close/>
              </a:path>
              <a:path fill="darkenLess" w="21600" h="31867">
                <a:moveTo>
                  <a:pt x="21600" y="31867"/>
                </a:moveTo>
                <a:lnTo>
                  <a:pt x="0" y="31867"/>
                </a:lnTo>
                <a:lnTo>
                  <a:pt x="1400" y="30467"/>
                </a:lnTo>
                <a:lnTo>
                  <a:pt x="20200" y="30467"/>
                </a:lnTo>
                <a:close/>
              </a:path>
              <a:path fill="lighten" w="21600" h="31867">
                <a:moveTo>
                  <a:pt x="0" y="3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3046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>
            <a:hlinkClick r:id="" action="ppaction://hlinkshowjump?jump=endshow"/>
          </p:cNvPr>
          <p:cNvSpPr/>
          <p:nvPr/>
        </p:nvSpPr>
        <p:spPr>
          <a:xfrm>
            <a:off x="4495680" y="0"/>
            <a:ext cx="4648320" cy="6858000"/>
          </a:xfrm>
          <a:custGeom>
            <a:avLst/>
            <a:gdLst>
              <a:gd name="textAreaLeft" fmla="*/ 300960 w 4648320"/>
              <a:gd name="textAreaRight" fmla="*/ 4347360 w 4648320"/>
              <a:gd name="textAreaTop" fmla="*/ 300960 h 6858000"/>
              <a:gd name="textAreaBottom" fmla="*/ 6557040 h 6858000"/>
            </a:gdLst>
            <a:ahLst/>
            <a:rect l="textAreaLeft" t="textAreaTop" r="textAreaRight" b="textAreaBottom"/>
            <a:pathLst>
              <a:path w="21600" h="31867">
                <a:moveTo>
                  <a:pt x="0" y="0"/>
                </a:moveTo>
                <a:lnTo>
                  <a:pt x="21600" y="0"/>
                </a:lnTo>
                <a:lnTo>
                  <a:pt x="21600" y="31867"/>
                </a:lnTo>
                <a:lnTo>
                  <a:pt x="0" y="31867"/>
                </a:lnTo>
                <a:close/>
              </a:path>
              <a:path fill="lightenLess" w="21600" h="3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867">
                <a:moveTo>
                  <a:pt x="21600" y="0"/>
                </a:moveTo>
                <a:lnTo>
                  <a:pt x="21600" y="31867"/>
                </a:lnTo>
                <a:lnTo>
                  <a:pt x="20200" y="30467"/>
                </a:lnTo>
                <a:lnTo>
                  <a:pt x="20200" y="1400"/>
                </a:lnTo>
                <a:close/>
              </a:path>
              <a:path fill="darkenLess" w="21600" h="31867">
                <a:moveTo>
                  <a:pt x="21600" y="31867"/>
                </a:moveTo>
                <a:lnTo>
                  <a:pt x="0" y="31867"/>
                </a:lnTo>
                <a:lnTo>
                  <a:pt x="1400" y="30467"/>
                </a:lnTo>
                <a:lnTo>
                  <a:pt x="20200" y="30467"/>
                </a:lnTo>
                <a:close/>
              </a:path>
              <a:path fill="lighten" w="21600" h="31867">
                <a:moveTo>
                  <a:pt x="0" y="3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3046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09680" y="304920"/>
            <a:ext cx="48769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4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ccff"/>
                </a:solidFill>
                <a:latin typeface="Arial Black"/>
              </a:rPr>
              <a:t>Quais são as</a:t>
            </a:r>
            <a:endParaRPr b="1" lang="en-US" sz="2400" spc="1" strike="noStrike">
              <a:ln w="0">
                <a:noFill/>
              </a:ln>
              <a:solidFill>
                <a:srgbClr val="cc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ccff"/>
                </a:solidFill>
                <a:latin typeface="Arial Black"/>
              </a:rPr>
              <a:t>linhas notáveis de um trapézio?</a:t>
            </a:r>
            <a:endParaRPr b="1" lang="en-US" sz="2400" spc="1" strike="noStrike">
              <a:ln w="0">
                <a:noFill/>
              </a:ln>
              <a:solidFill>
                <a:srgbClr val="cccc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851200"/>
            <a:ext cx="86104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as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de um trapézio são os lados opostos paralel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Diagonal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de um trapézio é o segmento de reta cujos extremos são dois vértices opostos do quadriláter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ltura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de um trapézio é o segmento de reta perpendicular às bases e compreendido entre el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Mediana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de um trapézio é o segmento de reta cujos extremos são os pontos médios dos lados opostos não paralel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133720" y="380880"/>
            <a:ext cx="51814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8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Onde fica os pontos médios 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das diagonais do trapézio?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581280"/>
            <a:ext cx="6096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Os pontos médios das diagonais dos trapézios ficam numa mesma reta que está na metade da altura do trapézio e paralela à bas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590920" y="304920"/>
            <a:ext cx="42670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6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mo é calculada a 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área do trapézio?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144360" y="2362320"/>
            <a:ext cx="8839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á algumas maneiras de calcular a área (S) desse polígono, mas eu vou explicar apenas duas. Vamos à primeira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4383000"/>
            <a:ext cx="3200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 =     h(a+c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52680" y="415440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4611600"/>
            <a:ext cx="533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4611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876920" y="4307040"/>
            <a:ext cx="1752480" cy="914400"/>
          </a:xfrm>
          <a:custGeom>
            <a:avLst/>
            <a:gdLst>
              <a:gd name="textAreaLeft" fmla="*/ 385200 w 1752480"/>
              <a:gd name="textAreaRight" fmla="*/ 1367280 w 17524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4307040"/>
            <a:ext cx="0" cy="9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9928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50688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61160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394020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508968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0" y="0"/>
            <a:ext cx="4495680" cy="6858000"/>
          </a:xfrm>
          <a:custGeom>
            <a:avLst/>
            <a:gdLst>
              <a:gd name="textAreaLeft" fmla="*/ 291240 w 4495680"/>
              <a:gd name="textAreaRight" fmla="*/ 4204440 w 4495680"/>
              <a:gd name="textAreaTop" fmla="*/ 291240 h 6858000"/>
              <a:gd name="textAreaBottom" fmla="*/ 6566760 h 6858000"/>
            </a:gdLst>
            <a:ahLst/>
            <a:rect l="textAreaLeft" t="textAreaTop" r="textAreaRight" b="textAreaBottom"/>
            <a:pathLst>
              <a:path w="21600" h="32949">
                <a:moveTo>
                  <a:pt x="0" y="0"/>
                </a:moveTo>
                <a:lnTo>
                  <a:pt x="21600" y="0"/>
                </a:lnTo>
                <a:lnTo>
                  <a:pt x="21600" y="32949"/>
                </a:lnTo>
                <a:lnTo>
                  <a:pt x="0" y="32949"/>
                </a:lnTo>
                <a:close/>
              </a:path>
              <a:path fill="lightenLess" w="21600" h="329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49">
                <a:moveTo>
                  <a:pt x="21600" y="0"/>
                </a:moveTo>
                <a:lnTo>
                  <a:pt x="21600" y="32949"/>
                </a:lnTo>
                <a:lnTo>
                  <a:pt x="20200" y="31549"/>
                </a:lnTo>
                <a:lnTo>
                  <a:pt x="20200" y="1400"/>
                </a:lnTo>
                <a:close/>
              </a:path>
              <a:path fill="darkenLess" w="21600" h="32949">
                <a:moveTo>
                  <a:pt x="21600" y="32949"/>
                </a:moveTo>
                <a:lnTo>
                  <a:pt x="0" y="32949"/>
                </a:lnTo>
                <a:lnTo>
                  <a:pt x="1400" y="31549"/>
                </a:lnTo>
                <a:lnTo>
                  <a:pt x="20200" y="31549"/>
                </a:lnTo>
                <a:close/>
              </a:path>
              <a:path fill="lighten" w="21600" h="32949">
                <a:moveTo>
                  <a:pt x="0" y="32949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4572000" y="0"/>
            <a:ext cx="4572000" cy="6858000"/>
          </a:xfrm>
          <a:custGeom>
            <a:avLst/>
            <a:gdLst>
              <a:gd name="textAreaLeft" fmla="*/ 296280 w 4572000"/>
              <a:gd name="textAreaRight" fmla="*/ 4275720 w 4572000"/>
              <a:gd name="textAreaTop" fmla="*/ 296280 h 6858000"/>
              <a:gd name="textAreaBottom" fmla="*/ 6561720 h 6858000"/>
            </a:gdLst>
            <a:ahLst/>
            <a:rect l="textAreaLeft" t="textAreaTop" r="textAreaRight" b="textAreaBottom"/>
            <a:pathLst>
              <a:path w="21600" h="32399">
                <a:moveTo>
                  <a:pt x="0" y="0"/>
                </a:moveTo>
                <a:lnTo>
                  <a:pt x="21600" y="0"/>
                </a:lnTo>
                <a:lnTo>
                  <a:pt x="21600" y="32399"/>
                </a:lnTo>
                <a:lnTo>
                  <a:pt x="0" y="32399"/>
                </a:lnTo>
                <a:close/>
              </a:path>
              <a:path fill="lightenLess" w="21600" h="323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9">
                <a:moveTo>
                  <a:pt x="21600" y="0"/>
                </a:moveTo>
                <a:lnTo>
                  <a:pt x="21600" y="32399"/>
                </a:lnTo>
                <a:lnTo>
                  <a:pt x="20200" y="30999"/>
                </a:lnTo>
                <a:lnTo>
                  <a:pt x="20200" y="1400"/>
                </a:lnTo>
                <a:close/>
              </a:path>
              <a:path fill="darkenLess" w="21600" h="32399">
                <a:moveTo>
                  <a:pt x="21600" y="32399"/>
                </a:moveTo>
                <a:lnTo>
                  <a:pt x="0" y="32399"/>
                </a:lnTo>
                <a:lnTo>
                  <a:pt x="1400" y="30999"/>
                </a:lnTo>
                <a:lnTo>
                  <a:pt x="20200" y="30999"/>
                </a:lnTo>
                <a:close/>
              </a:path>
              <a:path fill="lighten" w="21600" h="32399">
                <a:moveTo>
                  <a:pt x="0" y="3239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00200" y="76320"/>
            <a:ext cx="5943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Vamos entender esta fórmula geometricamente e algebricament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905120" y="2133360"/>
            <a:ext cx="5410080" cy="2590560"/>
          </a:xfrm>
          <a:custGeom>
            <a:avLst/>
            <a:gdLst>
              <a:gd name="textAreaLeft" fmla="*/ 1189440 w 5410080"/>
              <a:gd name="textAreaRight" fmla="*/ 4220640 w 5410080"/>
              <a:gd name="textAreaTop" fmla="*/ 569520 h 2590560"/>
              <a:gd name="textAreaBottom" fmla="*/ 20210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3449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34290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21337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391520" y="2133720"/>
            <a:ext cx="457200" cy="2666880"/>
          </a:xfrm>
          <a:custGeom>
            <a:avLst/>
            <a:gdLst>
              <a:gd name="textAreaLeft" fmla="*/ 292680 w 457200"/>
              <a:gd name="textAreaRight" fmla="*/ 457920 w 4572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320040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0200" y="365760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114800"/>
            <a:ext cx="533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3880" y="228600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743200"/>
            <a:ext cx="533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743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87036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51460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64120" y="2133720"/>
            <a:ext cx="685800" cy="13302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569320" y="2133720"/>
            <a:ext cx="685800" cy="13158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55840" y="2133720"/>
            <a:ext cx="2687760" cy="13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rot="5400000">
            <a:off x="4343400" y="2285640"/>
            <a:ext cx="457200" cy="5486400"/>
          </a:xfrm>
          <a:custGeom>
            <a:avLst/>
            <a:gdLst>
              <a:gd name="textAreaLeft" fmla="*/ 292680 w 457200"/>
              <a:gd name="textAreaRight" fmla="*/ 457920 w 45720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533412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40240" y="116208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rot="16200000">
            <a:off x="4381560" y="419040"/>
            <a:ext cx="457200" cy="2819520"/>
          </a:xfrm>
          <a:custGeom>
            <a:avLst/>
            <a:gdLst>
              <a:gd name="textAreaLeft" fmla="*/ 292680 w 457200"/>
              <a:gd name="textAreaRight" fmla="*/ 45792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4572000" y="0"/>
            <a:ext cx="4572000" cy="6858000"/>
          </a:xfrm>
          <a:custGeom>
            <a:avLst/>
            <a:gdLst>
              <a:gd name="textAreaLeft" fmla="*/ 296280 w 4572000"/>
              <a:gd name="textAreaRight" fmla="*/ 4275720 w 4572000"/>
              <a:gd name="textAreaTop" fmla="*/ 296280 h 6858000"/>
              <a:gd name="textAreaBottom" fmla="*/ 6561720 h 6858000"/>
            </a:gdLst>
            <a:ahLst/>
            <a:rect l="textAreaLeft" t="textAreaTop" r="textAreaRight" b="textAreaBottom"/>
            <a:pathLst>
              <a:path w="21600" h="32399">
                <a:moveTo>
                  <a:pt x="0" y="0"/>
                </a:moveTo>
                <a:lnTo>
                  <a:pt x="21600" y="0"/>
                </a:lnTo>
                <a:lnTo>
                  <a:pt x="21600" y="32399"/>
                </a:lnTo>
                <a:lnTo>
                  <a:pt x="0" y="32399"/>
                </a:lnTo>
                <a:close/>
              </a:path>
              <a:path fill="lightenLess" w="21600" h="323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9">
                <a:moveTo>
                  <a:pt x="21600" y="0"/>
                </a:moveTo>
                <a:lnTo>
                  <a:pt x="21600" y="32399"/>
                </a:lnTo>
                <a:lnTo>
                  <a:pt x="20200" y="30999"/>
                </a:lnTo>
                <a:lnTo>
                  <a:pt x="20200" y="1400"/>
                </a:lnTo>
                <a:close/>
              </a:path>
              <a:path fill="darkenLess" w="21600" h="32399">
                <a:moveTo>
                  <a:pt x="21600" y="32399"/>
                </a:moveTo>
                <a:lnTo>
                  <a:pt x="0" y="32399"/>
                </a:lnTo>
                <a:lnTo>
                  <a:pt x="1400" y="30999"/>
                </a:lnTo>
                <a:lnTo>
                  <a:pt x="20200" y="30999"/>
                </a:lnTo>
                <a:close/>
              </a:path>
              <a:path fill="lighten" w="21600" h="32399">
                <a:moveTo>
                  <a:pt x="0" y="3239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0" y="0"/>
            <a:ext cx="4495680" cy="6858000"/>
          </a:xfrm>
          <a:custGeom>
            <a:avLst/>
            <a:gdLst>
              <a:gd name="textAreaLeft" fmla="*/ 291240 w 4495680"/>
              <a:gd name="textAreaRight" fmla="*/ 4204440 w 4495680"/>
              <a:gd name="textAreaTop" fmla="*/ 291240 h 6858000"/>
              <a:gd name="textAreaBottom" fmla="*/ 6566760 h 6858000"/>
            </a:gdLst>
            <a:ahLst/>
            <a:rect l="textAreaLeft" t="textAreaTop" r="textAreaRight" b="textAreaBottom"/>
            <a:pathLst>
              <a:path w="21600" h="32949">
                <a:moveTo>
                  <a:pt x="0" y="0"/>
                </a:moveTo>
                <a:lnTo>
                  <a:pt x="21600" y="0"/>
                </a:lnTo>
                <a:lnTo>
                  <a:pt x="21600" y="32949"/>
                </a:lnTo>
                <a:lnTo>
                  <a:pt x="0" y="32949"/>
                </a:lnTo>
                <a:close/>
              </a:path>
              <a:path fill="lightenLess" w="21600" h="329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49">
                <a:moveTo>
                  <a:pt x="21600" y="0"/>
                </a:moveTo>
                <a:lnTo>
                  <a:pt x="21600" y="32949"/>
                </a:lnTo>
                <a:lnTo>
                  <a:pt x="20200" y="31549"/>
                </a:lnTo>
                <a:lnTo>
                  <a:pt x="20200" y="1400"/>
                </a:lnTo>
                <a:close/>
              </a:path>
              <a:path fill="darkenLess" w="21600" h="32949">
                <a:moveTo>
                  <a:pt x="21600" y="32949"/>
                </a:moveTo>
                <a:lnTo>
                  <a:pt x="0" y="32949"/>
                </a:lnTo>
                <a:lnTo>
                  <a:pt x="1400" y="31549"/>
                </a:lnTo>
                <a:lnTo>
                  <a:pt x="20200" y="31549"/>
                </a:lnTo>
                <a:close/>
              </a:path>
              <a:path fill="lighten" w="21600" h="32949">
                <a:moveTo>
                  <a:pt x="0" y="32949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flipV="1">
            <a:off x="990720" y="-92880"/>
            <a:ext cx="5410080" cy="2590920"/>
          </a:xfrm>
          <a:custGeom>
            <a:avLst/>
            <a:gdLst>
              <a:gd name="textAreaLeft" fmla="*/ 1189440 w 5410080"/>
              <a:gd name="textAreaRight" fmla="*/ 4220640 w 5410080"/>
              <a:gd name="textAreaTop" fmla="*/ 569520 h 2590920"/>
              <a:gd name="textAreaBottom" fmla="*/ 20214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1224000"/>
            <a:ext cx="4038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-1006560"/>
            <a:ext cx="5943600" cy="22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714280" y="1223280"/>
            <a:ext cx="685800" cy="127476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976320" y="1223280"/>
            <a:ext cx="685800" cy="127476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1203480"/>
            <a:ext cx="266688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64320" y="287964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 rot="5400000">
            <a:off x="7543800" y="1355760"/>
            <a:ext cx="457200" cy="2743200"/>
          </a:xfrm>
          <a:custGeom>
            <a:avLst/>
            <a:gdLst>
              <a:gd name="textAreaLeft" fmla="*/ 292680 w 457200"/>
              <a:gd name="textAreaRight" fmla="*/ 457920 w 4572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rot="5400000">
            <a:off x="3429000" y="-15840"/>
            <a:ext cx="457200" cy="5486400"/>
          </a:xfrm>
          <a:custGeom>
            <a:avLst/>
            <a:gdLst>
              <a:gd name="textAreaLeft" fmla="*/ 292680 w 457200"/>
              <a:gd name="textAreaRight" fmla="*/ 457920 w 45720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87964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6320" y="1168560"/>
            <a:ext cx="152640" cy="1371600"/>
          </a:xfrm>
          <a:custGeom>
            <a:avLst/>
            <a:gdLst>
              <a:gd name="textAreaLeft" fmla="*/ 97560 w 152640"/>
              <a:gd name="textAreaRight" fmla="*/ 15300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0360" y="139716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1854360"/>
            <a:ext cx="533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320" y="185436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956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9120" y="228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ransformando em um retângulo.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5318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=     h (a+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62560" y="50594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55166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5562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536400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=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rot="5400000">
            <a:off x="4228920" y="-816120"/>
            <a:ext cx="1600200" cy="8229600"/>
          </a:xfrm>
          <a:custGeom>
            <a:avLst/>
            <a:gdLst>
              <a:gd name="textAreaLeft" fmla="*/ 1022040 w 1600200"/>
              <a:gd name="textAreaRight" fmla="*/ 1600200 w 1600200"/>
              <a:gd name="textAreaTop" fmla="*/ 214560 h 8229600"/>
              <a:gd name="textAreaBottom" fmla="*/ 8015040 h 822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4098960"/>
            <a:ext cx="685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+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5029200"/>
            <a:ext cx="266724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4572000" y="0"/>
            <a:ext cx="4572000" cy="6858000"/>
          </a:xfrm>
          <a:custGeom>
            <a:avLst/>
            <a:gdLst>
              <a:gd name="textAreaLeft" fmla="*/ 296280 w 4572000"/>
              <a:gd name="textAreaRight" fmla="*/ 4275720 w 4572000"/>
              <a:gd name="textAreaTop" fmla="*/ 296280 h 6858000"/>
              <a:gd name="textAreaBottom" fmla="*/ 6561720 h 6858000"/>
            </a:gdLst>
            <a:ahLst/>
            <a:rect l="textAreaLeft" t="textAreaTop" r="textAreaRight" b="textAreaBottom"/>
            <a:pathLst>
              <a:path w="21600" h="32399">
                <a:moveTo>
                  <a:pt x="0" y="0"/>
                </a:moveTo>
                <a:lnTo>
                  <a:pt x="21600" y="0"/>
                </a:lnTo>
                <a:lnTo>
                  <a:pt x="21600" y="32399"/>
                </a:lnTo>
                <a:lnTo>
                  <a:pt x="0" y="32399"/>
                </a:lnTo>
                <a:close/>
              </a:path>
              <a:path fill="lightenLess" w="21600" h="323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9">
                <a:moveTo>
                  <a:pt x="21600" y="0"/>
                </a:moveTo>
                <a:lnTo>
                  <a:pt x="21600" y="32399"/>
                </a:lnTo>
                <a:lnTo>
                  <a:pt x="20200" y="30999"/>
                </a:lnTo>
                <a:lnTo>
                  <a:pt x="20200" y="1400"/>
                </a:lnTo>
                <a:close/>
              </a:path>
              <a:path fill="darkenLess" w="21600" h="32399">
                <a:moveTo>
                  <a:pt x="21600" y="32399"/>
                </a:moveTo>
                <a:lnTo>
                  <a:pt x="0" y="32399"/>
                </a:lnTo>
                <a:lnTo>
                  <a:pt x="1400" y="30999"/>
                </a:lnTo>
                <a:lnTo>
                  <a:pt x="20200" y="30999"/>
                </a:lnTo>
                <a:close/>
              </a:path>
              <a:path fill="lighten" w="21600" h="32399">
                <a:moveTo>
                  <a:pt x="0" y="3239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0" y="0"/>
            <a:ext cx="4495680" cy="6858000"/>
          </a:xfrm>
          <a:custGeom>
            <a:avLst/>
            <a:gdLst>
              <a:gd name="textAreaLeft" fmla="*/ 291240 w 4495680"/>
              <a:gd name="textAreaRight" fmla="*/ 4204440 w 4495680"/>
              <a:gd name="textAreaTop" fmla="*/ 291240 h 6858000"/>
              <a:gd name="textAreaBottom" fmla="*/ 6566760 h 6858000"/>
            </a:gdLst>
            <a:ahLst/>
            <a:rect l="textAreaLeft" t="textAreaTop" r="textAreaRight" b="textAreaBottom"/>
            <a:pathLst>
              <a:path w="21600" h="32949">
                <a:moveTo>
                  <a:pt x="0" y="0"/>
                </a:moveTo>
                <a:lnTo>
                  <a:pt x="21600" y="0"/>
                </a:lnTo>
                <a:lnTo>
                  <a:pt x="21600" y="32949"/>
                </a:lnTo>
                <a:lnTo>
                  <a:pt x="0" y="32949"/>
                </a:lnTo>
                <a:close/>
              </a:path>
              <a:path fill="lightenLess" w="21600" h="329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49">
                <a:moveTo>
                  <a:pt x="21600" y="0"/>
                </a:moveTo>
                <a:lnTo>
                  <a:pt x="21600" y="32949"/>
                </a:lnTo>
                <a:lnTo>
                  <a:pt x="20200" y="31549"/>
                </a:lnTo>
                <a:lnTo>
                  <a:pt x="20200" y="1400"/>
                </a:lnTo>
                <a:close/>
              </a:path>
              <a:path fill="darkenLess" w="21600" h="32949">
                <a:moveTo>
                  <a:pt x="21600" y="32949"/>
                </a:moveTo>
                <a:lnTo>
                  <a:pt x="0" y="32949"/>
                </a:lnTo>
                <a:lnTo>
                  <a:pt x="1400" y="31549"/>
                </a:lnTo>
                <a:lnTo>
                  <a:pt x="20200" y="31549"/>
                </a:lnTo>
                <a:close/>
              </a:path>
              <a:path fill="lighten" w="21600" h="32949">
                <a:moveTo>
                  <a:pt x="0" y="32949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flipV="1">
            <a:off x="1905120" y="2133360"/>
            <a:ext cx="5410080" cy="2590560"/>
          </a:xfrm>
          <a:custGeom>
            <a:avLst/>
            <a:gdLst>
              <a:gd name="textAreaLeft" fmla="*/ 1189440 w 5410080"/>
              <a:gd name="textAreaRight" fmla="*/ 4220640 w 5410080"/>
              <a:gd name="textAreaTop" fmla="*/ 569520 h 2590560"/>
              <a:gd name="textAreaBottom" fmla="*/ 20210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21337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21337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2514600" y="41904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5257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63520" y="228600"/>
            <a:ext cx="676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Juntando as fórmulas das áreas dos dois triângulos e do retângul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4952880"/>
            <a:ext cx="7617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Bt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6553080" y="41904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5257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4952880"/>
            <a:ext cx="7621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Bt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rot="5400000">
            <a:off x="4068720" y="2696760"/>
            <a:ext cx="1158840" cy="5486400"/>
          </a:xfrm>
          <a:custGeom>
            <a:avLst/>
            <a:gdLst>
              <a:gd name="textAreaLeft" fmla="*/ 740520 w 1158840"/>
              <a:gd name="textAreaRight" fmla="*/ 1159200 w 115884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592776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40240" y="116208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rot="16200000">
            <a:off x="4381560" y="419040"/>
            <a:ext cx="457200" cy="2819520"/>
          </a:xfrm>
          <a:custGeom>
            <a:avLst/>
            <a:gdLst>
              <a:gd name="textAreaLeft" fmla="*/ 292680 w 457200"/>
              <a:gd name="textAreaRight" fmla="*/ 45792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52840" y="508968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 rot="5400000">
            <a:off x="4381560" y="3603600"/>
            <a:ext cx="457200" cy="2666880"/>
          </a:xfrm>
          <a:custGeom>
            <a:avLst/>
            <a:gdLst>
              <a:gd name="textAreaLeft" fmla="*/ 292680 w 457200"/>
              <a:gd name="textAreaRight" fmla="*/ 457920 w 4572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391520" y="2133720"/>
            <a:ext cx="457200" cy="2666880"/>
          </a:xfrm>
          <a:custGeom>
            <a:avLst/>
            <a:gdLst>
              <a:gd name="textAreaLeft" fmla="*/ 292680 w 457200"/>
              <a:gd name="textAreaRight" fmla="*/ 457920 w 4572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24680" y="320040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94360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572000" y="0"/>
            <a:ext cx="4572000" cy="6858000"/>
          </a:xfrm>
          <a:custGeom>
            <a:avLst/>
            <a:gdLst>
              <a:gd name="textAreaLeft" fmla="*/ 296280 w 4572000"/>
              <a:gd name="textAreaRight" fmla="*/ 4275720 w 4572000"/>
              <a:gd name="textAreaTop" fmla="*/ 296280 h 6858000"/>
              <a:gd name="textAreaBottom" fmla="*/ 6561720 h 6858000"/>
            </a:gdLst>
            <a:ahLst/>
            <a:rect l="textAreaLeft" t="textAreaTop" r="textAreaRight" b="textAreaBottom"/>
            <a:pathLst>
              <a:path w="21600" h="32399">
                <a:moveTo>
                  <a:pt x="0" y="0"/>
                </a:moveTo>
                <a:lnTo>
                  <a:pt x="21600" y="0"/>
                </a:lnTo>
                <a:lnTo>
                  <a:pt x="21600" y="32399"/>
                </a:lnTo>
                <a:lnTo>
                  <a:pt x="0" y="32399"/>
                </a:lnTo>
                <a:close/>
              </a:path>
              <a:path fill="lightenLess" w="21600" h="323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9">
                <a:moveTo>
                  <a:pt x="21600" y="0"/>
                </a:moveTo>
                <a:lnTo>
                  <a:pt x="21600" y="32399"/>
                </a:lnTo>
                <a:lnTo>
                  <a:pt x="20200" y="30999"/>
                </a:lnTo>
                <a:lnTo>
                  <a:pt x="20200" y="1400"/>
                </a:lnTo>
                <a:close/>
              </a:path>
              <a:path fill="darkenLess" w="21600" h="32399">
                <a:moveTo>
                  <a:pt x="21600" y="32399"/>
                </a:moveTo>
                <a:lnTo>
                  <a:pt x="0" y="32399"/>
                </a:lnTo>
                <a:lnTo>
                  <a:pt x="1400" y="30999"/>
                </a:lnTo>
                <a:lnTo>
                  <a:pt x="20200" y="30999"/>
                </a:lnTo>
                <a:close/>
              </a:path>
              <a:path fill="lighten" w="21600" h="32399">
                <a:moveTo>
                  <a:pt x="0" y="3239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0" y="0"/>
            <a:ext cx="4495680" cy="6858000"/>
          </a:xfrm>
          <a:custGeom>
            <a:avLst/>
            <a:gdLst>
              <a:gd name="textAreaLeft" fmla="*/ 291240 w 4495680"/>
              <a:gd name="textAreaRight" fmla="*/ 4204440 w 4495680"/>
              <a:gd name="textAreaTop" fmla="*/ 291240 h 6858000"/>
              <a:gd name="textAreaBottom" fmla="*/ 6566760 h 6858000"/>
            </a:gdLst>
            <a:ahLst/>
            <a:rect l="textAreaLeft" t="textAreaTop" r="textAreaRight" b="textAreaBottom"/>
            <a:pathLst>
              <a:path w="21600" h="32949">
                <a:moveTo>
                  <a:pt x="0" y="0"/>
                </a:moveTo>
                <a:lnTo>
                  <a:pt x="21600" y="0"/>
                </a:lnTo>
                <a:lnTo>
                  <a:pt x="21600" y="32949"/>
                </a:lnTo>
                <a:lnTo>
                  <a:pt x="0" y="32949"/>
                </a:lnTo>
                <a:close/>
              </a:path>
              <a:path fill="lightenLess" w="21600" h="329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49">
                <a:moveTo>
                  <a:pt x="21600" y="0"/>
                </a:moveTo>
                <a:lnTo>
                  <a:pt x="21600" y="32949"/>
                </a:lnTo>
                <a:lnTo>
                  <a:pt x="20200" y="31549"/>
                </a:lnTo>
                <a:lnTo>
                  <a:pt x="20200" y="1400"/>
                </a:lnTo>
                <a:close/>
              </a:path>
              <a:path fill="darkenLess" w="21600" h="32949">
                <a:moveTo>
                  <a:pt x="21600" y="32949"/>
                </a:moveTo>
                <a:lnTo>
                  <a:pt x="0" y="32949"/>
                </a:lnTo>
                <a:lnTo>
                  <a:pt x="1400" y="31549"/>
                </a:lnTo>
                <a:lnTo>
                  <a:pt x="20200" y="31549"/>
                </a:lnTo>
                <a:close/>
              </a:path>
              <a:path fill="lighten" w="21600" h="32949">
                <a:moveTo>
                  <a:pt x="0" y="32949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7:50:55Z</dcterms:created>
  <dc:creator>fundamental</dc:creator>
  <dc:description/>
  <dc:language>en-US</dc:language>
  <cp:lastModifiedBy>fundamental</cp:lastModifiedBy>
  <dcterms:modified xsi:type="dcterms:W3CDTF">2004-10-13T16:24:41Z</dcterms:modified>
  <cp:revision>108</cp:revision>
  <dc:subject/>
  <dc:title>Apresentação do PowerPoint</dc:title>
</cp:coreProperties>
</file>