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CCA-1E4C-4D68-8CD2-4A1D523D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883-8791-460A-BA4E-7A96545D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2C2-9EC0-4471-916E-D95A3BDC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223-5ABA-4124-8464-F1B41748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3C3-4150-4913-B60B-F7F2698B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E28-9575-4E7D-9A2B-A58A6669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EF1-9A51-4208-AAAD-2CC4E26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DE8-1AFB-4F26-BBF1-B1D56891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E8D-CF47-4317-B5C3-C76B942A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C9A-DFA1-4182-B6A3-D692D40D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592-09DF-414A-B2F0-F8BD0277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960-6088-46FA-BA81-30DF48B6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C48E-6CE4-455F-A5A4-830271BF96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000000"/>
                </a:solidFill>
                <a:latin typeface="Times New Roman"/>
              </a:rPr>
              <a:t>SUCESSÕ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8280" y="53337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Ana Luísa P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380880"/>
            <a:ext cx="708660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 um modo ge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é um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sucessão crescente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s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         (em sentido la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isto 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–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0   ,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809880"/>
            <a:ext cx="830556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Consideremos a sequência de figuras segui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rogre10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3810240" cy="16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66680" y="58672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4,  1 ,  1/4   , 1/16   , 1/32, ...    Os números representam as medidas das áreas dos q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572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ta sucessão 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DECRES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380880"/>
            <a:ext cx="7086600" cy="34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 um modo ge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é um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sucessão decrescente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s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 , 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         (em sentido la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isto 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–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0 , 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886200"/>
            <a:ext cx="7619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é um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SUCESSÃO MONÓTONA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sse (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 é crescente ou (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é decresc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imes New Roman"/>
              </a:rPr>
              <a:t>Sucessões limita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Losangos e rectâng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uclim1" descr=""/>
          <p:cNvPicPr/>
          <p:nvPr/>
        </p:nvPicPr>
        <p:blipFill>
          <a:blip r:embed="rId2"/>
          <a:stretch/>
        </p:blipFill>
        <p:spPr>
          <a:xfrm>
            <a:off x="2590920" y="1981080"/>
            <a:ext cx="3276360" cy="1752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43000" y="3809880"/>
            <a:ext cx="75819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ada figura, excepto a primeira, se obtém unindo os pontos médios dos lados da figura a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ada figura tem metade da área da anterior pelo que na sucessão das áreas a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, a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, ... se 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971800" y="5486400"/>
                <a:ext cx="1806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80060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762120"/>
            <a:ext cx="70866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Sabendo a área da primeira figura, a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, podemos saber qualquer termo da suces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Seja, por exemplo,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=12 cm</a:t>
            </a:r>
            <a:r>
              <a:rPr b="0" lang="pt-P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, temos então, em cm</a:t>
            </a:r>
            <a:r>
              <a:rPr b="0" lang="pt-P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= 6   , a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= 3   , a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=1,5    , a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= 0,75  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0&lt; a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12  ,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360" y="3809880"/>
            <a:ext cx="81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sucessão (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) diz-se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LIMITADA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572000"/>
            <a:ext cx="807732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e um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é um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sucessão limitada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ss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, M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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: m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M  ,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457200"/>
            <a:ext cx="7162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</a:t>
            </a:r>
            <a:r>
              <a:rPr b="0" lang="pt-PT" sz="2800" spc="-1" strike="noStrike" baseline="30000">
                <a:solidFill>
                  <a:srgbClr val="000000"/>
                </a:solidFill>
                <a:latin typeface="Times New Roman"/>
              </a:rPr>
              <a:t>+ :        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pt-PT" sz="2800" spc="-1" strike="noStrike" baseline="30000">
                <a:solidFill>
                  <a:srgbClr val="000000"/>
                </a:solidFill>
                <a:latin typeface="Times New Roman"/>
              </a:rPr>
              <a:t>   ,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066680"/>
                <a:ext cx="5144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09480" y="1981080"/>
            <a:ext cx="6629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Geometricamente os termos da sucessão encontram-se numa região plana limitada pelas rectas horizontais y=m e y=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(ou y=-L  e y=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imes New Roman"/>
              </a:rPr>
              <a:t>Progress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1219320"/>
            <a:ext cx="7162560" cy="55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O treino do Andr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André todas as manhãs faz ginástica. Um dos exercícios é de flexões de braços. Durante a primeira semana fez 10 flexões e resolveu aumentar 3 flexões todas as seman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Quantas flexões faz na 7ª semana? E na 20ª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=10,   f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= 10+3=13,   f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=13+3,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signando por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o número de semanas e por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o número de flexões, te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7200" y="228600"/>
                <a:ext cx="1752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286000" y="762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, n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0574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3080" y="1371600"/>
            <a:ext cx="84582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- f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=3  ,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diferença entre cada termo e o anterior é constante e igual a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94012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z-se que (f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é um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PROGRESSÃO ARITMÉ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657600"/>
            <a:ext cx="8458200" cy="36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 um modo ge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sucessão (a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é um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progressão aritmética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s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= r  ,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sendo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razão da progres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457200" y="152280"/>
            <a:ext cx="4419720" cy="1142640"/>
            <a:chOff x="457200" y="152280"/>
            <a:chExt cx="4419720" cy="1142640"/>
          </a:xfrm>
        </p:grpSpPr>
        <p:sp>
          <p:nvSpPr>
            <p:cNvPr id="144" name=""/>
            <p:cNvSpPr/>
            <p:nvPr/>
          </p:nvSpPr>
          <p:spPr>
            <a:xfrm>
              <a:off x="533520" y="304920"/>
              <a:ext cx="3733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pt-PT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t-PT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pt-PT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PT" sz="2400" spc="-1" strike="noStrike">
                  <a:solidFill>
                    <a:srgbClr val="000000"/>
                  </a:solidFill>
                  <a:latin typeface="Times New Roman"/>
                </a:rPr>
                <a:t> + (n-1)r   , </a:t>
              </a:r>
              <a:r>
                <a:rPr b="0" lang="pt-P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t-P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</a:t>
              </a:r>
              <a:r>
                <a:rPr b="0" lang="pt-P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57200" y="152280"/>
              <a:ext cx="4419720" cy="1142640"/>
              <a:chOff x="457200" y="152280"/>
              <a:chExt cx="4419720" cy="1142640"/>
            </a:xfrm>
          </p:grpSpPr>
          <p:sp>
            <p:nvSpPr>
              <p:cNvPr id="146" name=""/>
              <p:cNvSpPr/>
              <p:nvPr/>
            </p:nvSpPr>
            <p:spPr>
              <a:xfrm>
                <a:off x="457200" y="152280"/>
                <a:ext cx="4419720" cy="703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5480" y="855360"/>
                <a:ext cx="0" cy="43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228600" y="1371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Termo geral de uma progressão aritmética de razão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24382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520" y="2209680"/>
            <a:ext cx="4038480" cy="1752840"/>
            <a:chOff x="533520" y="2209680"/>
            <a:chExt cx="4038480" cy="1752840"/>
          </a:xfrm>
        </p:grpSpPr>
        <p:sp>
          <p:nvSpPr>
            <p:cNvPr id="151" name=""/>
            <p:cNvSpPr/>
            <p:nvPr/>
          </p:nvSpPr>
          <p:spPr>
            <a:xfrm>
              <a:off x="533520" y="2209680"/>
              <a:ext cx="403848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838080" y="2590920"/>
                  <a:ext cx="20574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2971800" y="268128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pt-P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t-P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828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4038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Soma dos n primeiros termos de uma progressão aritm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3049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Aquiles o jardin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066680"/>
            <a:ext cx="7010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quiles não está satisfeito com o processo utilizado para cortar a relva do seu jardim e decidiu estudar um processo de cortar a relva de modo que em cada dia tenha de trabalhar menos, quase nada, se po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a fazer este estudo, estabeleceu que no primeiro dia cortaria um terço, no segundo um terço de um terço, no terceiro um terço de um terço de terço, e assim sucess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quematiz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dia1" descr=""/>
          <p:cNvPicPr/>
          <p:nvPr/>
        </p:nvPicPr>
        <p:blipFill>
          <a:blip r:embed="rId2"/>
          <a:stretch/>
        </p:blipFill>
        <p:spPr>
          <a:xfrm>
            <a:off x="228600" y="4876920"/>
            <a:ext cx="1589040" cy="1577880"/>
          </a:xfrm>
          <a:prstGeom prst="rect">
            <a:avLst/>
          </a:prstGeom>
          <a:ln w="0">
            <a:noFill/>
          </a:ln>
        </p:spPr>
      </p:pic>
      <p:pic>
        <p:nvPicPr>
          <p:cNvPr id="159" name="dia2" descr=""/>
          <p:cNvPicPr/>
          <p:nvPr/>
        </p:nvPicPr>
        <p:blipFill>
          <a:blip r:embed="rId3"/>
          <a:stretch/>
        </p:blipFill>
        <p:spPr>
          <a:xfrm>
            <a:off x="1905120" y="4876920"/>
            <a:ext cx="1589040" cy="1577880"/>
          </a:xfrm>
          <a:prstGeom prst="rect">
            <a:avLst/>
          </a:prstGeom>
          <a:ln w="0">
            <a:noFill/>
          </a:ln>
        </p:spPr>
      </p:pic>
      <p:pic>
        <p:nvPicPr>
          <p:cNvPr id="160" name="dia3" descr=""/>
          <p:cNvPicPr/>
          <p:nvPr/>
        </p:nvPicPr>
        <p:blipFill>
          <a:blip r:embed="rId4"/>
          <a:stretch/>
        </p:blipFill>
        <p:spPr>
          <a:xfrm>
            <a:off x="3733920" y="4876920"/>
            <a:ext cx="1589040" cy="1577880"/>
          </a:xfrm>
          <a:prstGeom prst="rect">
            <a:avLst/>
          </a:prstGeom>
          <a:ln w="0">
            <a:noFill/>
          </a:ln>
        </p:spPr>
      </p:pic>
      <p:pic>
        <p:nvPicPr>
          <p:cNvPr id="161" name="dia5" descr=""/>
          <p:cNvPicPr/>
          <p:nvPr/>
        </p:nvPicPr>
        <p:blipFill>
          <a:blip r:embed="rId5"/>
          <a:stretch/>
        </p:blipFill>
        <p:spPr>
          <a:xfrm>
            <a:off x="7162920" y="4876920"/>
            <a:ext cx="1589040" cy="1577880"/>
          </a:xfrm>
          <a:prstGeom prst="rect">
            <a:avLst/>
          </a:prstGeom>
          <a:ln w="0">
            <a:noFill/>
          </a:ln>
        </p:spPr>
      </p:pic>
      <p:pic>
        <p:nvPicPr>
          <p:cNvPr id="162" name="dia4" descr=""/>
          <p:cNvPicPr/>
          <p:nvPr/>
        </p:nvPicPr>
        <p:blipFill>
          <a:blip r:embed="rId6"/>
          <a:stretch/>
        </p:blipFill>
        <p:spPr>
          <a:xfrm>
            <a:off x="5410080" y="4876920"/>
            <a:ext cx="15890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80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btemos a seguinte sucess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09480" y="914400"/>
                <a:ext cx="838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209680" y="838080"/>
                <a:ext cx="17733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0" y="838080"/>
                <a:ext cx="19242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68580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2120" y="2079720"/>
                <a:ext cx="13302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2057400" y="2438280"/>
            <a:ext cx="12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1911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09480" y="3048120"/>
            <a:ext cx="5559480" cy="1765080"/>
            <a:chOff x="609480" y="3048120"/>
            <a:chExt cx="5559480" cy="176508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2438280" y="3048120"/>
                  <a:ext cx="2438640" cy="17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609480" y="365760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Tem-se qu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52880" y="3657600"/>
              <a:ext cx="121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pt-P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t-P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838080" y="4843440"/>
            <a:ext cx="792504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quociente entre cada termo e o anterior é constante e igual a 1/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z-se que (a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é um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PROGRESSÃO GEOMÉTRICA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Observe a seguinte sequência de figur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5800" y="2590920"/>
            <a:ext cx="7947000" cy="2593800"/>
            <a:chOff x="685800" y="2590920"/>
            <a:chExt cx="7947000" cy="2593800"/>
          </a:xfrm>
        </p:grpSpPr>
        <p:pic>
          <p:nvPicPr>
            <p:cNvPr id="46" name="sucmon1" descr=""/>
            <p:cNvPicPr/>
            <p:nvPr/>
          </p:nvPicPr>
          <p:blipFill>
            <a:blip r:embed="rId2"/>
            <a:stretch/>
          </p:blipFill>
          <p:spPr>
            <a:xfrm>
              <a:off x="685800" y="3124080"/>
              <a:ext cx="97164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sucmon3" descr=""/>
            <p:cNvPicPr/>
            <p:nvPr/>
          </p:nvPicPr>
          <p:blipFill>
            <a:blip r:embed="rId3"/>
            <a:stretch/>
          </p:blipFill>
          <p:spPr>
            <a:xfrm>
              <a:off x="2057400" y="3124080"/>
              <a:ext cx="97164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sucmon5" descr=""/>
            <p:cNvPicPr/>
            <p:nvPr/>
          </p:nvPicPr>
          <p:blipFill>
            <a:blip r:embed="rId4"/>
            <a:stretch/>
          </p:blipFill>
          <p:spPr>
            <a:xfrm>
              <a:off x="3733920" y="2743200"/>
              <a:ext cx="2011320" cy="20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sucmon4" descr=""/>
            <p:cNvPicPr/>
            <p:nvPr/>
          </p:nvPicPr>
          <p:blipFill>
            <a:blip r:embed="rId5"/>
            <a:stretch/>
          </p:blipFill>
          <p:spPr>
            <a:xfrm>
              <a:off x="6095880" y="2590920"/>
              <a:ext cx="2536920" cy="25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762120" y="525780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É possível obter uma expressão que permita descobrir o número de cubos de qualquer figura da sequê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380880"/>
            <a:ext cx="79246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 um modo ge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sucessão (a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é um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progressão geométrica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s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quociente entre cada termo e o anterior é um número real constante. Esta constante chama-se razão da progres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24080" y="1600200"/>
                <a:ext cx="1447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1676520"/>
            <a:ext cx="12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1752480"/>
            <a:ext cx="2286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0 ,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09480" y="4267080"/>
            <a:ext cx="2895840" cy="685800"/>
            <a:chOff x="609480" y="4267080"/>
            <a:chExt cx="2895840" cy="685800"/>
          </a:xfrm>
        </p:grpSpPr>
        <p:sp>
          <p:nvSpPr>
            <p:cNvPr id="182" name=""/>
            <p:cNvSpPr/>
            <p:nvPr/>
          </p:nvSpPr>
          <p:spPr>
            <a:xfrm>
              <a:off x="685800" y="4267080"/>
              <a:ext cx="228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pt-PT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t-PT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pt-PT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P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r>
                <a:rPr b="0" lang="pt-PT" sz="2800" spc="-1" strike="noStrike" baseline="30000">
                  <a:solidFill>
                    <a:srgbClr val="000000"/>
                  </a:solidFill>
                  <a:latin typeface="Times New Roman"/>
                </a:rPr>
                <a:t>n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480" y="4267080"/>
              <a:ext cx="2286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95480" y="4572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733920" y="3886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Termo geral de uma progressão geométrica de razão 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0880" y="5486400"/>
            <a:ext cx="3276720" cy="1066680"/>
            <a:chOff x="380880" y="5486400"/>
            <a:chExt cx="3276720" cy="1066680"/>
          </a:xfrm>
        </p:grpSpPr>
        <p:grpSp>
          <p:nvGrpSpPr>
            <p:cNvPr id="187" name=""/>
            <p:cNvGrpSpPr/>
            <p:nvPr/>
          </p:nvGrpSpPr>
          <p:grpSpPr>
            <a:xfrm>
              <a:off x="380880" y="5486400"/>
              <a:ext cx="3048120" cy="1066680"/>
              <a:chOff x="380880" y="5486400"/>
              <a:chExt cx="3048120" cy="1066680"/>
            </a:xfrm>
          </p:grpSpPr>
          <p:sp>
            <p:nvSpPr>
              <p:cNvPr id="188" name=""/>
              <p:cNvSpPr/>
              <p:nvPr/>
            </p:nvSpPr>
            <p:spPr>
              <a:xfrm>
                <a:off x="380880" y="5791320"/>
                <a:ext cx="3048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9" name=""/>
                  <p:cNvSpPr txBox="1"/>
                  <p:nvPr/>
                </p:nvSpPr>
                <p:spPr>
                  <a:xfrm>
                    <a:off x="609480" y="5486400"/>
                    <a:ext cx="160020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0" name=""/>
              <p:cNvSpPr/>
              <p:nvPr/>
            </p:nvSpPr>
            <p:spPr>
              <a:xfrm>
                <a:off x="457200" y="5486400"/>
                <a:ext cx="259092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304812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733920" y="5105520"/>
            <a:ext cx="38098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Soma dos n termos consecutivos de uma progressão geométrica com r </a:t>
            </a:r>
            <a:r>
              <a:rPr b="1" lang="pt-P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  (Se r=1, S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= na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533520"/>
            <a:ext cx="5867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Voltando ao 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bservando o esquema vê-se que a área cortada é praticamente igual à área não cor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rogre7" descr=""/>
          <p:cNvPicPr/>
          <p:nvPr/>
        </p:nvPicPr>
        <p:blipFill>
          <a:blip r:embed="rId2"/>
          <a:stretch/>
        </p:blipFill>
        <p:spPr>
          <a:xfrm>
            <a:off x="6324480" y="609480"/>
            <a:ext cx="1703520" cy="1646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09480" y="26668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otal da área cort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03320" y="3352680"/>
                <a:ext cx="43164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rPr>
                        <m:lit/>
                        <m:nor/>
                      </m:rPr>
                      <m:t xml:space="preserve">S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523880" y="4343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715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SOMA DE TODOS OS TERMOS DA PROGRESSÃO GEOMÉTRICA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019920" y="3886200"/>
                <a:ext cx="6858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imes New Roman"/>
              </a:rPr>
              <a:t>A sucessã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048120" y="304920"/>
                <a:ext cx="14014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0880" y="1828800"/>
            <a:ext cx="685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é uma sucessão de termos positiv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97180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é uma sucessão monótona cresce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1148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limite de (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 existe e está compreendido entre 2 e 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514600" y="5029200"/>
            <a:ext cx="4135320" cy="1218960"/>
            <a:chOff x="2514600" y="5029200"/>
            <a:chExt cx="4135320" cy="1218960"/>
          </a:xfrm>
        </p:grpSpPr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2514600" y="5029200"/>
                  <a:ext cx="2251080" cy="12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4592520" y="56386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40440" y="53337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PT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68840" y="57150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0000"/>
                  </a:solidFill>
                  <a:latin typeface="Times New Roman"/>
                </a:rPr>
                <a:t>n       +</a:t>
              </a:r>
              <a:r>
                <a:rPr b="0" lang="pt-P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97440" y="5943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tribui-se a John Napier a descoberta do número de Neper. Trata-se de um número irracional transcendente e surge como limite de uma sucessão muito parti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61936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número de Neper representa-se por </a:t>
            </a:r>
            <a:r>
              <a:rPr b="0" i="1" lang="pt-PT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s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= 2,7182818284590452353602874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267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 número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é igual à soma da sér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048120" y="4876920"/>
                <a:ext cx="1523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Neves, M.(2000).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Sucessões.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Porto Edi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Gomes, F., &amp; Lima, Y.(1997).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Xeqmat 11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.Editorial o Liv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Alves, C., Barbedo, J., Fonseca, G., &amp; Jorge, A.(2001).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Infinito 11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. Areal edi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Aubyn, M., Brito, C., &amp; Martins, A.(2000).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MAT:matemática, aplicações, teoria.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11ºano. Lisboa Edi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Branco, A., Dias, I., Pona, F., Ribeiro, A., &amp; Sousa, H. (1998).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A solução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. 11º ano. Texto Edi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Bastos, R., Bernardes, A., Lopes, A., Loureiro, C., Varandas, J., &amp; Viana, J. (1998).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Matemática 11- Sucessões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. Edições Contrapo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Ferreira, C.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Introdução à análise matemática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. Fundação Calouste Gulbenk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0"/>
            <a:ext cx="647712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Figura                        Nº de cu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1                                   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2                                          1+6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1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3                                          1+6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2=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4                                          1+6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3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5                                          1+6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4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6                                          1+6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5=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…                    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n                                           1+6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..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579132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btemos a expressão: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1+6 </a:t>
            </a:r>
            <a:r>
              <a:rPr b="1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(n-1) = 6n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380880"/>
            <a:ext cx="7010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expressão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6n-5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define uma função que, a cada número natural – a ordem da figura- faz corresponder o número de cubos da fig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domínio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desta função é o conjunto dos números natur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352680"/>
            <a:ext cx="7391520" cy="29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DEFINIÇÃO DE SUCE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Sucessão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é uma função que faz corresponder a cada número natural um número r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u: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      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           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267080" y="5334120"/>
            <a:ext cx="838440" cy="609480"/>
            <a:chOff x="4267080" y="5334120"/>
            <a:chExt cx="838440" cy="609480"/>
          </a:xfrm>
        </p:grpSpPr>
        <p:sp>
          <p:nvSpPr>
            <p:cNvPr id="56" name=""/>
            <p:cNvSpPr/>
            <p:nvPr/>
          </p:nvSpPr>
          <p:spPr>
            <a:xfrm>
              <a:off x="4343400" y="5334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5943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380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Not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Em vez de utilizar para as imagens a notação das funções u(1), u(2),..., é usual escrever-se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,..., que se lê u índice 1, u índice 2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ssim,   1              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1º termo da sucess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2              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2º termo da sucess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Em geral: n               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    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enésimo termo da suc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u termo de ordem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4191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200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ara indicar a sucessão u escreve-se (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        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            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198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362320" y="2819520"/>
            <a:ext cx="1752480" cy="840600"/>
            <a:chOff x="2362320" y="2819520"/>
            <a:chExt cx="1752480" cy="840600"/>
          </a:xfrm>
        </p:grpSpPr>
        <p:sp>
          <p:nvSpPr>
            <p:cNvPr id="69" name=""/>
            <p:cNvSpPr/>
            <p:nvPr/>
          </p:nvSpPr>
          <p:spPr>
            <a:xfrm flipH="1">
              <a:off x="3124080" y="28195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32004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00"/>
                  </a:solidFill>
                  <a:latin typeface="Times New Roman"/>
                </a:rPr>
                <a:t>Or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638680" y="2895480"/>
            <a:ext cx="2743200" cy="764640"/>
            <a:chOff x="5638680" y="2895480"/>
            <a:chExt cx="2743200" cy="764640"/>
          </a:xfrm>
        </p:grpSpPr>
        <p:sp>
          <p:nvSpPr>
            <p:cNvPr id="72" name=""/>
            <p:cNvSpPr/>
            <p:nvPr/>
          </p:nvSpPr>
          <p:spPr>
            <a:xfrm>
              <a:off x="5638680" y="289548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1320" y="32004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00"/>
                  </a:solidFill>
                  <a:latin typeface="Times New Roman"/>
                </a:rPr>
                <a:t>Termo da sucess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85800" y="426708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Quando uma sucessão pode ser definida por uma expressão na  variável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, essa expressão que gera a sucessão chama-se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termo geral da suces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380880"/>
            <a:ext cx="396252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gráfico de uma sucessão é sempre constituído por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pontos isolados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= 6n-5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343400"/>
            <a:ext cx="784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495680" y="609480"/>
            <a:ext cx="4191120" cy="2669760"/>
            <a:chOff x="4495680" y="609480"/>
            <a:chExt cx="4191120" cy="2669760"/>
          </a:xfrm>
        </p:grpSpPr>
        <p:sp>
          <p:nvSpPr>
            <p:cNvPr id="78" name=""/>
            <p:cNvSpPr/>
            <p:nvPr/>
          </p:nvSpPr>
          <p:spPr>
            <a:xfrm>
              <a:off x="5562720" y="2514600"/>
              <a:ext cx="2514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t-PT" sz="2000" spc="-1" strike="noStrike">
                  <a:solidFill>
                    <a:srgbClr val="000000"/>
                  </a:solidFill>
                  <a:latin typeface="Times New Roman"/>
                </a:rPr>
                <a:t>1  2   3  4  5  6  7  8</a:t>
              </a:r>
              <a:r>
                <a:rPr b="0" lang="pt-PT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5680" y="914400"/>
              <a:ext cx="3962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6858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t-PT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60948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52880" y="266688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45960" y="1035000"/>
              <a:ext cx="3033720" cy="20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38680" y="2209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2057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95880" y="1905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24480" y="1752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53080" y="1600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1680" y="1447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10280" y="1295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38880" y="1143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77320" y="2590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imes New Roman"/>
              </a:rPr>
              <a:t>Sucessões definidas por recorr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143000"/>
            <a:ext cx="731520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Uma sucessão diz-se definida por recorrência quando são dados alguns dos primeiros termos, e os seguintes são obtidos através dos termos anteri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Exemplo: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Sucessão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143000" y="3581280"/>
                <a:ext cx="29718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495680" y="3809880"/>
            <a:ext cx="42674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blema dos coelh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Um casal de coelhos adultos só começa a procriar dois meses depois do seu nascimento. Admitindo que em cada criação têm um casal de filhos, e, a partir desse momento todos os meses mais um casal, quantos coelhos haverá ao fim de um a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imes New Roman"/>
              </a:rPr>
              <a:t>Sucessões monóto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nalisando novamente o gráfico da sucessão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=6n-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362320"/>
            <a:ext cx="312408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s termos vão assumindo valores cada vez maiores consoante aumenta a ordem 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ada termo u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é superior ao anterior u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, ou se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&gt; 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 ,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541008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) é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CRES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648320" y="2438280"/>
            <a:ext cx="4114800" cy="2590560"/>
            <a:chOff x="4648320" y="2438280"/>
            <a:chExt cx="4114800" cy="2590560"/>
          </a:xfrm>
        </p:grpSpPr>
        <p:sp>
          <p:nvSpPr>
            <p:cNvPr id="102" name=""/>
            <p:cNvSpPr/>
            <p:nvPr/>
          </p:nvSpPr>
          <p:spPr>
            <a:xfrm>
              <a:off x="8153280" y="44956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8320" y="25142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t-PT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4120" y="243828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9200" y="44956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921920" y="2863080"/>
              <a:ext cx="3033720" cy="20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50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3885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7220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080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3428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0" y="3276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86600" y="3124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2971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44956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t-PT" sz="2000" spc="-1" strike="noStrike">
                  <a:solidFill>
                    <a:srgbClr val="000000"/>
                  </a:solidFill>
                  <a:latin typeface="Times New Roman"/>
                </a:rPr>
                <a:t>1  2   3  4  5  6  7  8</a:t>
              </a:r>
              <a:r>
                <a:rPr b="0" lang="pt-PT" sz="2400" spc="-1" strike="noStrike">
                  <a:solidFill>
                    <a:srgbClr val="000000"/>
                  </a:solidFill>
                  <a:latin typeface="Times New Roman"/>
                </a:rPr>
                <a:t>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6:08:12Z</dcterms:created>
  <dc:creator>Ana</dc:creator>
  <dc:description/>
  <dc:language>en-US</dc:language>
  <cp:lastModifiedBy>Ana</cp:lastModifiedBy>
  <cp:lastPrinted>2002-01-29T20:20:01Z</cp:lastPrinted>
  <dcterms:modified xsi:type="dcterms:W3CDTF">2002-01-31T01:05:30Z</dcterms:modified>
  <cp:revision>43</cp:revision>
  <dc:subject/>
  <dc:title>SUCESSÕES</dc:title>
</cp:coreProperties>
</file>