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clap.wav" ContentType="audio/x-wav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E872-2B75-46AC-AC0B-61EDB0ADD7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9EC1-659F-441F-B0E6-A11E673E802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91F-4811-426F-BBA2-8BB9E18E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D16-E293-4A9D-A768-7166126F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119-EE62-4650-A80C-974F0988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66E-E011-4F89-B02D-872E755B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32F2-D23A-481E-BA40-09D025BB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2FDC-604D-449A-BC7E-0968DEF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F7D8-EE96-43C2-BE83-E2FC5BC2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FED9-A54E-4FF4-B499-A538488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B794-B54D-48AA-837A-A3DBA3F1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ABE5-D81C-429E-9726-76D0E99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51FF-FDD7-4D70-B620-6C892F3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E72-BA99-452B-83FA-0371AC6A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51F6-51A3-4B9D-8ACB-469A29C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8C97-396E-46BC-9D92-5B4D103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55B6-211C-4AC4-9DE5-4154C106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99A-34EF-4C66-A47F-0092E254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264B-D2BE-4A74-BDCC-0171CA1F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547-777A-4512-BC34-55C9949A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DB6-1903-4251-8746-A2DB6FC6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FAA-A5DE-4DE0-8DC1-577E750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F2E-C915-4F15-8A56-766B9A70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9B1-902C-4683-8EFD-AE8A63B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B49-5CEA-439F-8F51-2D7CC4B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1D7-DA26-41FE-BF64-73A8C73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A2C-3526-4DF5-BA0C-F598EE5954A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091-269A-40EF-8FB2-D4C62590F36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ahoma"/>
                <a:ea typeface="Times New Roman"/>
              </a:rPr>
              <a:t>Primeiras Relações Métricas no Triângulo  Retângulo</a:t>
            </a: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teúdos  8° Sé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lunos: Clécio Souto da Sil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762120"/>
          <a:ext cx="8077320" cy="16002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91120"/>
                <a:gridCol w="388620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18" descr="44a2431e8015f371300753"/>
          <p:cNvPicPr/>
          <p:nvPr/>
        </p:nvPicPr>
        <p:blipFill>
          <a:blip r:embed="rId1"/>
          <a:stretch/>
        </p:blipFill>
        <p:spPr>
          <a:xfrm>
            <a:off x="1143000" y="2590920"/>
            <a:ext cx="2486160" cy="3352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44a2431e8015f371300753"/>
          <p:cNvPicPr/>
          <p:nvPr/>
        </p:nvPicPr>
        <p:blipFill>
          <a:blip r:embed="rId2"/>
          <a:stretch/>
        </p:blipFill>
        <p:spPr>
          <a:xfrm>
            <a:off x="5105520" y="2590920"/>
            <a:ext cx="2485800" cy="3352680"/>
          </a:xfrm>
          <a:prstGeom prst="rect">
            <a:avLst/>
          </a:prstGeom>
          <a:ln w="0">
            <a:noFill/>
          </a:ln>
        </p:spPr>
      </p:pic>
      <p:sp>
        <p:nvSpPr>
          <p:cNvPr id="133" name="Line 22"/>
          <p:cNvSpPr/>
          <p:nvPr/>
        </p:nvSpPr>
        <p:spPr>
          <a:xfrm>
            <a:off x="6095880" y="3809880"/>
            <a:ext cx="76320" cy="11430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324480" y="3429000"/>
            <a:ext cx="152640" cy="4572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6629400" y="3200400"/>
            <a:ext cx="76320" cy="38088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6934320" y="2895480"/>
            <a:ext cx="685800" cy="30492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6629400" y="3200400"/>
            <a:ext cx="914400" cy="76212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762120"/>
          <a:ext cx="8077320" cy="16002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18" descr="44a2431eb8c0f816674622"/>
          <p:cNvPicPr/>
          <p:nvPr/>
        </p:nvPicPr>
        <p:blipFill>
          <a:blip r:embed="rId1"/>
          <a:stretch/>
        </p:blipFill>
        <p:spPr>
          <a:xfrm>
            <a:off x="1066680" y="2514600"/>
            <a:ext cx="2801880" cy="352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44a2431eb8c0f816674622"/>
          <p:cNvPicPr/>
          <p:nvPr/>
        </p:nvPicPr>
        <p:blipFill>
          <a:blip r:embed="rId2"/>
          <a:stretch/>
        </p:blipFill>
        <p:spPr>
          <a:xfrm>
            <a:off x="5029200" y="2514600"/>
            <a:ext cx="2801880" cy="3529080"/>
          </a:xfrm>
          <a:prstGeom prst="rect">
            <a:avLst/>
          </a:prstGeom>
          <a:ln w="0">
            <a:noFill/>
          </a:ln>
        </p:spPr>
      </p:pic>
      <p:sp>
        <p:nvSpPr>
          <p:cNvPr id="142" name="Line 23"/>
          <p:cNvSpPr/>
          <p:nvPr/>
        </p:nvSpPr>
        <p:spPr>
          <a:xfrm flipV="1">
            <a:off x="6400800" y="5562360"/>
            <a:ext cx="1295280" cy="15228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6400800" y="4572000"/>
            <a:ext cx="457200" cy="11430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5"/>
          <p:cNvSpPr/>
          <p:nvPr/>
        </p:nvSpPr>
        <p:spPr>
          <a:xfrm>
            <a:off x="6858000" y="4572000"/>
            <a:ext cx="762120" cy="9144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6477120" y="3809880"/>
            <a:ext cx="761760" cy="76212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 flipH="1">
            <a:off x="6476760" y="3809880"/>
            <a:ext cx="7596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477120" y="4648320"/>
            <a:ext cx="761760" cy="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5867280" y="4648320"/>
            <a:ext cx="457200" cy="11430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0"/>
          <p:cNvSpPr/>
          <p:nvPr/>
        </p:nvSpPr>
        <p:spPr>
          <a:xfrm>
            <a:off x="5486400" y="5562720"/>
            <a:ext cx="838080" cy="2286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1"/>
          <p:cNvSpPr/>
          <p:nvPr/>
        </p:nvSpPr>
        <p:spPr>
          <a:xfrm flipH="1">
            <a:off x="5562720" y="4648320"/>
            <a:ext cx="304560" cy="9144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762120"/>
          <a:ext cx="8077320" cy="16002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8" descr="44a24320631a6245657786"/>
          <p:cNvPicPr/>
          <p:nvPr/>
        </p:nvPicPr>
        <p:blipFill>
          <a:blip r:embed="rId1"/>
          <a:stretch/>
        </p:blipFill>
        <p:spPr>
          <a:xfrm>
            <a:off x="685800" y="2590920"/>
            <a:ext cx="3581280" cy="3470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44a24320631a6245657786"/>
          <p:cNvPicPr/>
          <p:nvPr/>
        </p:nvPicPr>
        <p:blipFill>
          <a:blip r:embed="rId2"/>
          <a:stretch/>
        </p:blipFill>
        <p:spPr>
          <a:xfrm>
            <a:off x="4724280" y="2666880"/>
            <a:ext cx="3581640" cy="3470400"/>
          </a:xfrm>
          <a:prstGeom prst="rect">
            <a:avLst/>
          </a:prstGeom>
          <a:ln w="0">
            <a:noFill/>
          </a:ln>
        </p:spPr>
      </p:pic>
      <p:sp>
        <p:nvSpPr>
          <p:cNvPr id="155" name="Line 24"/>
          <p:cNvSpPr/>
          <p:nvPr/>
        </p:nvSpPr>
        <p:spPr>
          <a:xfrm>
            <a:off x="6705720" y="35053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334120" y="5715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6"/>
          <p:cNvSpPr/>
          <p:nvPr/>
        </p:nvSpPr>
        <p:spPr>
          <a:xfrm flipV="1">
            <a:off x="5257800" y="3505320"/>
            <a:ext cx="137160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6705720" y="3505320"/>
            <a:ext cx="838080" cy="213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67057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 flipV="1">
            <a:off x="6400800" y="5486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>
            <a:off x="6400800" y="5486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685800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762120"/>
          <a:ext cx="8077320" cy="16002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8" descr="44a2431ea3a37846342056"/>
          <p:cNvPicPr/>
          <p:nvPr/>
        </p:nvPicPr>
        <p:blipFill>
          <a:blip r:embed="rId1"/>
          <a:stretch/>
        </p:blipFill>
        <p:spPr>
          <a:xfrm>
            <a:off x="1066680" y="25909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0" descr="44a2431ea3a37846342056"/>
          <p:cNvPicPr/>
          <p:nvPr/>
        </p:nvPicPr>
        <p:blipFill>
          <a:blip r:embed="rId2"/>
          <a:stretch/>
        </p:blipFill>
        <p:spPr>
          <a:xfrm>
            <a:off x="5029200" y="2590920"/>
            <a:ext cx="291132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Line 31"/>
          <p:cNvSpPr/>
          <p:nvPr/>
        </p:nvSpPr>
        <p:spPr>
          <a:xfrm>
            <a:off x="5562720" y="3048120"/>
            <a:ext cx="190476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32"/>
          <p:cNvSpPr/>
          <p:nvPr/>
        </p:nvSpPr>
        <p:spPr>
          <a:xfrm flipH="1">
            <a:off x="7467120" y="3505320"/>
            <a:ext cx="381240" cy="1752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5562720" y="3048120"/>
            <a:ext cx="22860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34"/>
          <p:cNvSpPr/>
          <p:nvPr/>
        </p:nvSpPr>
        <p:spPr>
          <a:xfrm flipH="1">
            <a:off x="5257440" y="3048120"/>
            <a:ext cx="304920" cy="1752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35"/>
          <p:cNvSpPr/>
          <p:nvPr/>
        </p:nvSpPr>
        <p:spPr>
          <a:xfrm>
            <a:off x="5257800" y="4800600"/>
            <a:ext cx="220968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36"/>
          <p:cNvSpPr/>
          <p:nvPr/>
        </p:nvSpPr>
        <p:spPr>
          <a:xfrm flipH="1">
            <a:off x="7467480" y="350532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7391520" y="3733920"/>
            <a:ext cx="3808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5334120" y="4495680"/>
            <a:ext cx="22860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5486400" y="4572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57200" y="2438280"/>
          <a:ext cx="8077320" cy="42735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42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Também faz parte  do procedimento do aluno, a apropriação do conhecimento matemático a criatividade e a imaginação; a elaboração, verificação e otimização de estratégias; a investigação e a estruturação do pensa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Como destacando o triângulo Retângulo, os lados do mesmo recebem nomes especiai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 catetos – são os lados que formam o ângulo ret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 hipotenusa – é o lado oposto ao ângulo reto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2438280"/>
          <a:ext cx="8077320" cy="38037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8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TEOREMA DE PITÁGORAS -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  De acordo com a “ossada do professor”, o mesmo aborda um dos mais famosos teoremas da matemática         ( o Teorema de Pitágoras)            – Matemático grego do século VI a.C.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  Seu enunciado do Teorema diz o seguin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  Em qualquer triângulo retângulo, a soma dos quadrados dos catetos é igual ao quadrado da hipotenusa. *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Dado como receptor de informação, o aluno aplicará esses presupostos por sua simplicidade e elegância em relação  b</a:t>
                      </a:r>
                      <a:r>
                        <a:rPr b="1" lang="pt-BR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+ c</a:t>
                      </a:r>
                      <a:r>
                        <a:rPr b="1" lang="pt-BR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= a</a:t>
                      </a:r>
                      <a:r>
                        <a:rPr b="1" lang="pt-BR" sz="1400" spc="-1" strike="noStrike" baseline="30000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. Essas aplicações são numerosas, porque os ângulos retos são encontrados em muitos objetos e figura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AZÕES TRIGONOMÉTRICAS E ÂNGULOS NOTÁVEIS 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  Por saber, o quanto e difícil estabelecer relações quando os conceitos abordados de forma isolada e exaustiva num único momento, ao contrário do que ocorre quando o trabalho com a Matemática baseia-se em uma rede de significados aberta e passível de alterações.                    ( Modelagem Matemática )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Já para o procedimento do trabalho da modelagem Matemática, o aluno faz perguntas, vai atrás de respostas para essas perguntas, pesquisa, constrói seu conhecimento e debate temas próprios de outras áreas de conhecimento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   Com essa fusão das tabelas apresentadas seja das razões trigonométricas e  dos ângulos notáveis podemos constatar resolução de exercício com  esse conhecimento prév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   E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45720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57200" y="2133720"/>
          <a:ext cx="8077320" cy="4529160"/>
        </p:xfrm>
        <a:graphic>
          <a:graphicData uri="http://schemas.openxmlformats.org/drawingml/2006/table">
            <a:tbl>
              <a:tblPr/>
              <a:tblGrid>
                <a:gridCol w="4572000"/>
                <a:gridCol w="3505320"/>
              </a:tblGrid>
              <a:tr h="45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Porém, voltando a falar sobre as razões trigonométricas e os ângulos notáveis o que devemos resaltar é a importãncia das tabelas de referênci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x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  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0º    45°     60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em = cat. Opost        sen    1        2         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hip                          2        2         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s    3        2          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s  = cat. Adj                      2         2          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hip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g     3        1          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   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g   = cat. Op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at. ad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   Com essa fusão das tabelas apresentadas seja das razões trigonométricas e  dos ângulos notáveis, podemos aplicar e  desenvolver resoluções de exercícios  como no exemplo abaix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contrar o valaor de “x” no triângulo retângulo seguin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          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     3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Line 20"/>
          <p:cNvSpPr/>
          <p:nvPr/>
        </p:nvSpPr>
        <p:spPr>
          <a:xfrm>
            <a:off x="114300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1143000" y="5105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1143000" y="5943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2362320" y="34290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297180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0"/>
          <p:cNvSpPr/>
          <p:nvPr/>
        </p:nvSpPr>
        <p:spPr>
          <a:xfrm>
            <a:off x="3505320" y="4114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11480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297180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3505320" y="4876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4191120" y="4876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2971800" y="5638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1"/>
          <p:cNvSpPr/>
          <p:nvPr/>
        </p:nvSpPr>
        <p:spPr>
          <a:xfrm>
            <a:off x="3429000" y="38862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2"/>
          <p:cNvSpPr/>
          <p:nvPr/>
        </p:nvSpPr>
        <p:spPr>
          <a:xfrm flipV="1">
            <a:off x="3505320" y="38858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3"/>
          <p:cNvSpPr/>
          <p:nvPr/>
        </p:nvSpPr>
        <p:spPr>
          <a:xfrm>
            <a:off x="3657600" y="38862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44"/>
          <p:cNvSpPr/>
          <p:nvPr/>
        </p:nvSpPr>
        <p:spPr>
          <a:xfrm>
            <a:off x="4038480" y="38862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45"/>
          <p:cNvSpPr/>
          <p:nvPr/>
        </p:nvSpPr>
        <p:spPr>
          <a:xfrm flipV="1">
            <a:off x="4114800" y="38858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1911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2895480" y="47242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48"/>
          <p:cNvSpPr/>
          <p:nvPr/>
        </p:nvSpPr>
        <p:spPr>
          <a:xfrm flipV="1">
            <a:off x="2971800" y="45716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49"/>
          <p:cNvSpPr/>
          <p:nvPr/>
        </p:nvSpPr>
        <p:spPr>
          <a:xfrm>
            <a:off x="297180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0"/>
          <p:cNvSpPr/>
          <p:nvPr/>
        </p:nvSpPr>
        <p:spPr>
          <a:xfrm>
            <a:off x="3352680" y="45720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53"/>
          <p:cNvSpPr/>
          <p:nvPr/>
        </p:nvSpPr>
        <p:spPr>
          <a:xfrm flipH="1" flipV="1">
            <a:off x="3504960" y="45716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54"/>
          <p:cNvSpPr/>
          <p:nvPr/>
        </p:nvSpPr>
        <p:spPr>
          <a:xfrm>
            <a:off x="350532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2895480" y="5410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6"/>
          <p:cNvSpPr/>
          <p:nvPr/>
        </p:nvSpPr>
        <p:spPr>
          <a:xfrm flipV="1">
            <a:off x="2971800" y="5410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58"/>
          <p:cNvSpPr/>
          <p:nvPr/>
        </p:nvSpPr>
        <p:spPr>
          <a:xfrm>
            <a:off x="304812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59"/>
          <p:cNvSpPr/>
          <p:nvPr/>
        </p:nvSpPr>
        <p:spPr>
          <a:xfrm>
            <a:off x="3962520" y="541008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4038480" y="533412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61"/>
          <p:cNvSpPr/>
          <p:nvPr/>
        </p:nvSpPr>
        <p:spPr>
          <a:xfrm>
            <a:off x="41148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62"/>
          <p:cNvSpPr/>
          <p:nvPr/>
        </p:nvSpPr>
        <p:spPr>
          <a:xfrm>
            <a:off x="5562720" y="502920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63"/>
          <p:cNvSpPr/>
          <p:nvPr/>
        </p:nvSpPr>
        <p:spPr>
          <a:xfrm>
            <a:off x="5562720" y="5029200"/>
            <a:ext cx="990360" cy="838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64"/>
          <p:cNvSpPr/>
          <p:nvPr/>
        </p:nvSpPr>
        <p:spPr>
          <a:xfrm flipH="1">
            <a:off x="5486040" y="58672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5"/>
          <p:cNvSpPr/>
          <p:nvPr/>
        </p:nvSpPr>
        <p:spPr>
          <a:xfrm flipV="1">
            <a:off x="5562720" y="5562720"/>
            <a:ext cx="304560" cy="30456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6"/>
          <p:cNvSpPr/>
          <p:nvPr/>
        </p:nvSpPr>
        <p:spPr>
          <a:xfrm>
            <a:off x="5715000" y="60199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67"/>
          <p:cNvSpPr/>
          <p:nvPr/>
        </p:nvSpPr>
        <p:spPr>
          <a:xfrm flipV="1">
            <a:off x="5867280" y="5943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68"/>
          <p:cNvSpPr/>
          <p:nvPr/>
        </p:nvSpPr>
        <p:spPr>
          <a:xfrm>
            <a:off x="5867280" y="5943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69"/>
          <p:cNvSpPr/>
          <p:nvPr/>
        </p:nvSpPr>
        <p:spPr>
          <a:xfrm>
            <a:off x="5562720" y="5181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0"/>
          <p:cNvSpPr/>
          <p:nvPr/>
        </p:nvSpPr>
        <p:spPr>
          <a:xfrm>
            <a:off x="1546200" y="1135080"/>
            <a:ext cx="294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45720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00040" y="2143080"/>
          <a:ext cx="8034480" cy="4029120"/>
        </p:xfrm>
        <a:graphic>
          <a:graphicData uri="http://schemas.openxmlformats.org/drawingml/2006/table">
            <a:tbl>
              <a:tblPr/>
              <a:tblGrid>
                <a:gridCol w="4092480"/>
                <a:gridCol w="3942000"/>
              </a:tblGrid>
              <a:tr h="40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Então,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  cat. Adj                          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= cos 60º =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hip                                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portant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   1                  x                             4     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=                         =   x   =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             4       3                            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Conector reto 8"/>
          <p:cNvSpPr/>
          <p:nvPr/>
        </p:nvSpPr>
        <p:spPr>
          <a:xfrm>
            <a:off x="4929120" y="3571920"/>
            <a:ext cx="785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Conector reto 10"/>
          <p:cNvSpPr/>
          <p:nvPr/>
        </p:nvSpPr>
        <p:spPr>
          <a:xfrm>
            <a:off x="6929280" y="3571920"/>
            <a:ext cx="571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Conector reto 16"/>
          <p:cNvSpPr/>
          <p:nvPr/>
        </p:nvSpPr>
        <p:spPr>
          <a:xfrm>
            <a:off x="6215040" y="5072040"/>
            <a:ext cx="428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Conector reto 18"/>
          <p:cNvSpPr/>
          <p:nvPr/>
        </p:nvSpPr>
        <p:spPr>
          <a:xfrm>
            <a:off x="4857840" y="50720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Conector reto 20"/>
          <p:cNvSpPr/>
          <p:nvPr/>
        </p:nvSpPr>
        <p:spPr>
          <a:xfrm>
            <a:off x="5786280" y="5072040"/>
            <a:ext cx="928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Conector reto 23"/>
          <p:cNvSpPr/>
          <p:nvPr/>
        </p:nvSpPr>
        <p:spPr>
          <a:xfrm>
            <a:off x="5928480" y="5357880"/>
            <a:ext cx="14292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Conector reto 25"/>
          <p:cNvSpPr/>
          <p:nvPr/>
        </p:nvSpPr>
        <p:spPr>
          <a:xfrm flipV="1">
            <a:off x="6071400" y="5285880"/>
            <a:ext cx="142920" cy="357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Conector reto 27"/>
          <p:cNvSpPr/>
          <p:nvPr/>
        </p:nvSpPr>
        <p:spPr>
          <a:xfrm>
            <a:off x="6215040" y="5286240"/>
            <a:ext cx="571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Conector reto 29"/>
          <p:cNvSpPr/>
          <p:nvPr/>
        </p:nvSpPr>
        <p:spPr>
          <a:xfrm>
            <a:off x="7786800" y="4714920"/>
            <a:ext cx="7128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Conector reto 31"/>
          <p:cNvSpPr/>
          <p:nvPr/>
        </p:nvSpPr>
        <p:spPr>
          <a:xfrm flipV="1">
            <a:off x="7857360" y="4572000"/>
            <a:ext cx="1429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Conector reto 35"/>
          <p:cNvSpPr/>
          <p:nvPr/>
        </p:nvSpPr>
        <p:spPr>
          <a:xfrm>
            <a:off x="8001000" y="4572000"/>
            <a:ext cx="357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Conector reto 37"/>
          <p:cNvSpPr/>
          <p:nvPr/>
        </p:nvSpPr>
        <p:spPr>
          <a:xfrm>
            <a:off x="7786800" y="5072040"/>
            <a:ext cx="571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380880"/>
          <a:ext cx="8381880" cy="607716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ÇÕES IMPORTAN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É  fundamental, no entanto, um alerta, em nenhum momento obtivemos a pretensão de esgotar o assunto ou ainda discorrer de maneira detalhada sobre todas as situações que nos serviram de exemplos de análise. É certo que outros casos poderiam ter sido abordados, mas isso foge dos limites e objetivos  deste  trabalh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519120"/>
            <a:ext cx="914400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TEÚDOS    CONCEITU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úmeros Nat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* Números 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* Geome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* Teorema de Pitág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* Razões trigonomét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* Ângulos Not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28600" y="457200"/>
          <a:ext cx="8381880" cy="579276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ÇÕES IMPORTAN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 intenção aqui é apresentar a problemática a ser estudada de forma a despertar o  interesse do aluno pelos temas tratados. Espera-se que, a partir das proposições apresentadas, tanto os professores quanto os alunos ampliem as discussões proposta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457200"/>
          <a:ext cx="8381880" cy="579276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ERVAÇÕES IMPORTAN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E que o fascinante mundo da investigação esteja apenas começando, uma vez que é exatamente nele que se desenvolvem as diversas áreas do conhecimento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57200" y="2438280"/>
          <a:ext cx="8077320" cy="414504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41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    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úmeros Naturais 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ropor ao aluno de acordo com a idéia associada a “adição, subtração, multiplicação e divisão”, situações na qual, serão de sua importância a utilização desses artifícios práticos; pelo qual se fundamenta nos processos de contagem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Processos das Operações Fundamentais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diçã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x. 1748 - parce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+ 566 – parce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314 – soma ou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ubtraçã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x.   500 - minuen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  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 - subtraen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0 – resto ou diferenç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multiplicaçã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x.  6 - f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X 4  - f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4 -  produto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Line 43"/>
          <p:cNvSpPr/>
          <p:nvPr/>
        </p:nvSpPr>
        <p:spPr>
          <a:xfrm>
            <a:off x="4800600" y="36576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46"/>
          <p:cNvSpPr/>
          <p:nvPr/>
        </p:nvSpPr>
        <p:spPr>
          <a:xfrm>
            <a:off x="48769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4800600" y="6172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ivisã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ividendo 360    6   divisor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           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sto  quociente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Line 1059"/>
          <p:cNvSpPr/>
          <p:nvPr/>
        </p:nvSpPr>
        <p:spPr>
          <a:xfrm>
            <a:off x="6477120" y="3657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060"/>
          <p:cNvSpPr/>
          <p:nvPr/>
        </p:nvSpPr>
        <p:spPr>
          <a:xfrm>
            <a:off x="6477120" y="3962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     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úmeros Racionais -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 professor irá enfatizar a contextualização para o caso das frações numéricas, registrando informações matemáticas e transportando para a  realidade dos envolvidos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 palavra “fração” vem do latim fractione e quer dizer dividir, rasga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Fração, no dicionário, também quer dizer “parte de um todo”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O aluno deve se colocar como “peça integrada” em todo o processo de aprendizagem, sendo ele em certos momentos o próprio numerador e denominar das frações da vida;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Dentro dos conceitos de fração temos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A expressão  a , sendo a  e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úmeros naturais, com b =  0, é chamada de fração e representa um número racional escrito na forma fracioná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(número fracionário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Line 24"/>
          <p:cNvSpPr/>
          <p:nvPr/>
        </p:nvSpPr>
        <p:spPr>
          <a:xfrm>
            <a:off x="586728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7010280" y="487656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    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a fração  a    , tem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   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    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  - numerad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  - denominad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O denominador “b” indica em quantas partes iguais uma unidade foi dividida.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O numerador “a” indica quantas dessas partes foram considerada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Line 20"/>
          <p:cNvSpPr/>
          <p:nvPr/>
        </p:nvSpPr>
        <p:spPr>
          <a:xfrm>
            <a:off x="60199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57200" y="2438280"/>
          <a:ext cx="8077320" cy="431640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43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Já para a forma decimal dos números racionais surgiu na necessidade  de medir (seja, termômetros, Kg, calculadoras e etc...)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 Essa representação fracionária foi criada há quase 3 000 anos, contribuição do matemático francês do século XVI, de nome Viète,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 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Após o domínio do conteúdo abordado o aluno aprenderá a escrever uma fração decimal na forma de número decimal, tomando apenas o  numerador e nele colocamos uma vírgula, de modo que a quantidade de algarismos da parte decimal, contada da direita para a esquerda, seja igual à  quantidade de zeros que aparecem no denominad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E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81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=  2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             =  0,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     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Line 26"/>
          <p:cNvSpPr/>
          <p:nvPr/>
        </p:nvSpPr>
        <p:spPr>
          <a:xfrm>
            <a:off x="4724280" y="5334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7"/>
          <p:cNvSpPr/>
          <p:nvPr/>
        </p:nvSpPr>
        <p:spPr>
          <a:xfrm>
            <a:off x="4876920" y="6324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762120"/>
          <a:ext cx="8077320" cy="154296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Alu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91120"/>
                <a:gridCol w="388620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             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GEOMETRIA 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-    Com os conteúdos reflexivos e abordando      uma leitura simbólica, dentro do campo  da geometria devemos obter resultados úteis para engenheiros, arquitetos, físicos, agrimensores, técnicos em mecânica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ambém com um pouco de imaginação, podemos encontrar muitos triângulos retângulos a nossa volta, como exemplo citamos algumas fotos para sua comprovaçã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762120"/>
          <a:ext cx="8077320" cy="152388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cediment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Profess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" y="2438280"/>
          <a:ext cx="8077320" cy="3733920"/>
        </p:xfrm>
        <a:graphic>
          <a:graphicData uri="http://schemas.openxmlformats.org/drawingml/2006/table">
            <a:tbl>
              <a:tblPr/>
              <a:tblGrid>
                <a:gridCol w="4191120"/>
                <a:gridCol w="388620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-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  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18" descr="44a2431e1c0b1100156967"/>
          <p:cNvPicPr/>
          <p:nvPr/>
        </p:nvPicPr>
        <p:blipFill>
          <a:blip r:embed="rId1"/>
          <a:stretch/>
        </p:blipFill>
        <p:spPr>
          <a:xfrm>
            <a:off x="1219320" y="25909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44a2431e1c0b1100156967"/>
          <p:cNvPicPr/>
          <p:nvPr/>
        </p:nvPicPr>
        <p:blipFill>
          <a:blip r:embed="rId2"/>
          <a:stretch/>
        </p:blipFill>
        <p:spPr>
          <a:xfrm>
            <a:off x="5029200" y="259092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Line 30"/>
          <p:cNvSpPr/>
          <p:nvPr/>
        </p:nvSpPr>
        <p:spPr>
          <a:xfrm flipV="1">
            <a:off x="5334120" y="3123720"/>
            <a:ext cx="11430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1"/>
          <p:cNvSpPr/>
          <p:nvPr/>
        </p:nvSpPr>
        <p:spPr>
          <a:xfrm flipV="1">
            <a:off x="5334120" y="45716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6477120" y="31240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6553080" y="3124080"/>
            <a:ext cx="83844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34"/>
          <p:cNvSpPr/>
          <p:nvPr/>
        </p:nvSpPr>
        <p:spPr>
          <a:xfrm>
            <a:off x="6477120" y="4572000"/>
            <a:ext cx="990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20:30:33Z</dcterms:created>
  <dc:creator>Clecio</dc:creator>
  <dc:description/>
  <dc:language>en-US</dc:language>
  <cp:lastModifiedBy>***</cp:lastModifiedBy>
  <dcterms:modified xsi:type="dcterms:W3CDTF">2009-09-25T12:39:38Z</dcterms:modified>
  <cp:revision>30</cp:revision>
  <dc:subject/>
  <dc:title>Primeiras Relações Métricas no Triângulo  Retângulo </dc:title>
</cp:coreProperties>
</file>