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5A5-15F4-4C63-B522-FF393AB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7C2-359A-4785-8FB8-86DB390D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962-9BE3-47F1-A38A-762A1539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9F4-ECA1-431A-84DA-68B6794C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03F9-5FC6-4B07-A317-16E55D9E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5560-B02C-4E2B-82BE-2F49D63B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16C4-A4B1-4EB9-987B-B4FF03D5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F541-C1A5-4C12-B5ED-DA8D051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3F8F-1E33-4D00-99FB-592AE58D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BA6-5E86-4894-B403-A9905DFC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679A-D8B5-4CCC-B1A2-F4A6C09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FC5-3695-4FB6-990F-BCA112B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534E-46CF-4894-828C-AEEE4CB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5DD1-0CAF-4D89-8591-0F5AEEA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BDF9-E8EB-4A41-9ACC-66240993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F61B-EE00-431A-99DF-DEBDB133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D83B-1666-4675-8B0C-9801855F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014-EA81-4650-A8DF-D7C22811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C44-FDE3-4C8D-9F0A-AABDC74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EDE-1380-4F9B-9E61-B415F79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30F-0FB8-4F7A-BDD8-A3841C8D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AAB-D83E-4D30-B740-47CA359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176-03DD-43DD-9C5E-A15E1863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6FD-6335-40B7-A769-9CFBD40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0AB-49A6-4F3D-BBD6-5511FEA3E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BF7-161A-4369-A099-21D39A77C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lucas.vitti@bol.com.br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úmeros Complexo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645000"/>
            <a:ext cx="662940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ito, formas algébrica e trigonométrica e operaçõ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630864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r: Lucas Vitti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+ 4i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→ número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8 - i√2 → número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i → número complexo p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4 → número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-i → número complexo p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i² → númer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jugado de um número complex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número complexo z = a + bi  possui um conjugado que é representado p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, 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 = a – b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ê-se conjugado de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s os números complexos, encontrar seus respectivos conjug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 2 – 4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 = 2 + 4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 =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 1 + 2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 = 1 -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 -3 – 8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 = -3 + 8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erações com números complexos na forma algéb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os números reais possuem forma real e imaginária separadas, as operações de adição, subtração, multiplicação, divisão e potenciação diferem um pouco das habituais com números re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ição e subtração com números complexos na forma algéb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848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somar e subtrair números complexos deve-se efetuar as operações na parte real e imaginária separa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+ bi) + (c + di) = (a + c) + (b + d)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+ bi) - (c + di) = (a - c) + (b - d)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+ 4i) + (3 + i) = (2 + 3) + (4 + 1)i = 5 + 5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+ 4i) –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- 7i) = (1 - 2) + (4 - 7)i = -2 -7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3 + i) – (4 + i) = (3 - 4) + (i - i)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+ (2 + 4i) = 2 + (1 + 4)i = 2 + 5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ultiplicação com números complexos na forma algéb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efetuar a multiplicação aplica-se simplesmente a distribu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i)(c + di) = ac + adi + bci + bdi²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i)(c + di) = ac + adi + bci – bd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i)(c + di) = a(c + di) + b(-d + 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+ 3i)(1 + i) = 2 + 3i + 3i + 3i² = 2 + 6i – 3 = -1 + 6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1 + i) = 2 +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- i)(-3 + 2i) = -6 +4i +3i – 2i² = -4 + 7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visão com números complexos na forma algéb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88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se dividir números complexos, deve-se multiplicar ambos os números pelo conjugado do complexo do denomin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700360" y="3500280"/>
                <a:ext cx="3309840" cy="21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68360" y="1484280"/>
                <a:ext cx="382752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eito  (parte 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números complexos surgiram para sanar uma das maiores dúvidas que atormentavam os matemáticos: Qual o resultado da operação X² + 1 = 0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² = -1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X = √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ências de i (parte 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50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 potências de i notam-se regularidades de quatro em quatro no expo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56000" y="3068640"/>
                <a:ext cx="126036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9280" y="3068640"/>
                <a:ext cx="126036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ências de i (parte 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se modo, para encontrar o resultado de qualquer potência, dividimos o expoente por 4 e resolvemos a potência utilizando como expoente o resto da divis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76360" y="2203560"/>
            <a:ext cx="2592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777680"/>
            <a:ext cx="6096240" cy="40640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547640" y="2276640"/>
            <a:ext cx="2444760" cy="1096560"/>
            <a:chOff x="1547640" y="2276640"/>
            <a:chExt cx="2444760" cy="1096560"/>
          </a:xfrm>
        </p:grpSpPr>
        <p:sp>
          <p:nvSpPr>
            <p:cNvPr id="146" name=""/>
            <p:cNvSpPr/>
            <p:nvPr/>
          </p:nvSpPr>
          <p:spPr>
            <a:xfrm>
              <a:off x="1547640" y="2347920"/>
              <a:ext cx="11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28720" y="234792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24040" y="28368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2160" y="2276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18160" y="28526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6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492360" y="4076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1047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i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-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92000" y="342756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úmero complexo no plano de Argand-Gau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 números complexos podem ser representados num plano, onde a reta das abscissas é a reta dos números reais e a das ordenadas é a reta dos números complexos. Esse plano é denominado plano de Argand-Gau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car no plano de Argand-Gauss o número complexo z = 3 + 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20880" y="2708280"/>
            <a:ext cx="4834440" cy="3052080"/>
            <a:chOff x="2720880" y="2708280"/>
            <a:chExt cx="4834440" cy="3052080"/>
          </a:xfrm>
        </p:grpSpPr>
        <p:sp>
          <p:nvSpPr>
            <p:cNvPr id="158" name=""/>
            <p:cNvSpPr/>
            <p:nvPr/>
          </p:nvSpPr>
          <p:spPr>
            <a:xfrm>
              <a:off x="3203640" y="306864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87640" y="522936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7080" y="522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0360" y="522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3280" y="522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48360" y="522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131640" y="494172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131640" y="45813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31640" y="42210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31640" y="38606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5680" y="530064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 2    3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20880" y="3613320"/>
              <a:ext cx="28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33920" y="458136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3640" y="4581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3400" y="4529160"/>
              <a:ext cx="71280" cy="73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5800" y="422100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 = 3 + 2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74880" y="270828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(reta imaginári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52160" y="5272200"/>
              <a:ext cx="170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(reta dos reai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ódulo e argumento de um número complexo (parte 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áfico, o módulo de um número complexo z = a + bi é o segmento de reta que vai do ponto origem O(0,0) até o ponto do P(a, b) do número complexo z. O argumento de z é o ângulo que esta forma com o eixo das abscissas em sentido anti-hor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56000" y="3500280"/>
            <a:ext cx="3528720" cy="2376720"/>
            <a:chOff x="2556000" y="3500280"/>
            <a:chExt cx="3528720" cy="2376720"/>
          </a:xfrm>
        </p:grpSpPr>
        <p:sp>
          <p:nvSpPr>
            <p:cNvPr id="179" name=""/>
            <p:cNvSpPr/>
            <p:nvPr/>
          </p:nvSpPr>
          <p:spPr>
            <a:xfrm>
              <a:off x="2700360" y="3500280"/>
              <a:ext cx="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734080"/>
              <a:ext cx="35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00360" y="4652640"/>
              <a:ext cx="1871640" cy="1081080"/>
            </a:xfrm>
            <a:prstGeom prst="line">
              <a:avLst/>
            </a:prstGeom>
            <a:ln w="93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465300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627280" y="4653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51480" y="4602240"/>
              <a:ext cx="73080" cy="7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8360" y="433692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 = a + b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1080" y="48690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3640" y="5445000"/>
              <a:ext cx="216000" cy="287640"/>
            </a:xfrm>
            <a:custGeom>
              <a:avLst/>
              <a:gdLst/>
              <a:ahLst/>
              <a:rect l="l" t="t" r="r" b="b"/>
              <a:pathLst>
                <a:path w="476" h="590">
                  <a:moveTo>
                    <a:pt x="0" y="0"/>
                  </a:moveTo>
                  <a:cubicBezTo>
                    <a:pt x="170" y="42"/>
                    <a:pt x="340" y="84"/>
                    <a:pt x="408" y="182"/>
                  </a:cubicBezTo>
                  <a:cubicBezTo>
                    <a:pt x="476" y="280"/>
                    <a:pt x="423" y="477"/>
                    <a:pt x="408" y="590"/>
                  </a:cubicBezTo>
                </a:path>
              </a:pathLst>
            </a:custGeom>
            <a:noFill/>
            <a:ln w="9360">
              <a:solidFill>
                <a:srgbClr val="66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04880" y="526896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arg(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ódulo e argumento de um número complexo (parte 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80000" y="1700280"/>
                <a:ext cx="2303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684360" y="1989000"/>
            <a:ext cx="4388760" cy="3200400"/>
            <a:chOff x="684360" y="1989000"/>
            <a:chExt cx="4388760" cy="3200400"/>
          </a:xfrm>
        </p:grpSpPr>
        <p:sp>
          <p:nvSpPr>
            <p:cNvPr id="192" name=""/>
            <p:cNvSpPr/>
            <p:nvPr/>
          </p:nvSpPr>
          <p:spPr>
            <a:xfrm flipH="1">
              <a:off x="889920" y="2668320"/>
              <a:ext cx="900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360" y="4973400"/>
              <a:ext cx="33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90280" y="3074400"/>
              <a:ext cx="2673000" cy="1868760"/>
            </a:xfrm>
            <a:prstGeom prst="line">
              <a:avLst/>
            </a:prstGeom>
            <a:ln w="93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63640" y="3074760"/>
              <a:ext cx="0" cy="186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85520" y="3074760"/>
              <a:ext cx="277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33400" y="2987640"/>
              <a:ext cx="104400" cy="123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6720" y="26254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 = a + b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8800" y="304776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9560" y="4443480"/>
              <a:ext cx="307440" cy="496800"/>
            </a:xfrm>
            <a:custGeom>
              <a:avLst/>
              <a:gdLst/>
              <a:ahLst/>
              <a:rect l="l" t="t" r="r" b="b"/>
              <a:pathLst>
                <a:path w="476" h="590">
                  <a:moveTo>
                    <a:pt x="0" y="0"/>
                  </a:moveTo>
                  <a:cubicBezTo>
                    <a:pt x="170" y="42"/>
                    <a:pt x="340" y="84"/>
                    <a:pt x="408" y="182"/>
                  </a:cubicBezTo>
                  <a:cubicBezTo>
                    <a:pt x="476" y="280"/>
                    <a:pt x="423" y="477"/>
                    <a:pt x="408" y="590"/>
                  </a:cubicBezTo>
                </a:path>
              </a:pathLst>
            </a:custGeom>
            <a:noFill/>
            <a:ln w="9360">
              <a:solidFill>
                <a:srgbClr val="66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83240" y="4194000"/>
              <a:ext cx="155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arg(z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707280" y="3101760"/>
              <a:ext cx="215640" cy="17272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971280" y="2668320"/>
              <a:ext cx="251892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033280" y="198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98880" y="367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0360" y="2708280"/>
                <a:ext cx="1604880" cy="32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 trigonométr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ndo as relações dadas no slide anterior e aplicando-as à forma algébrica, obtemos a forma trigonométrica de um número comple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87280" y="2924280"/>
                <a:ext cx="2953080" cy="17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∴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∴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427640" y="3500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3357720"/>
                <a:ext cx="1871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68360" y="4941720"/>
                <a:ext cx="43214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i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50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ar para a forma trigonométrica o número complexo z = 1 +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4360" y="2637000"/>
                <a:ext cx="7488000" cy="33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∴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erações com números complexos na forma trigonométrica - Multiplic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multiplicar números complexos na forma trigonométrica utilizamos a fórmu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00000" y="4221000"/>
                <a:ext cx="7452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eito (parte 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isso, foi criado um número especial, que denominamos algebricamente como i, que elevado ao quadrado resulte em -1, matemat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² = -1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= √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 novo conceito possibilitou a resolução da equação mostrada anterior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erações com números complexos na forma trigonométrica - Divis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órmula para efetuar a divisão entre dois números complexos na forma trigonométrica é a segui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84360" y="3716280"/>
                <a:ext cx="74167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erações com números complexos na forma trigonométrica - Potenci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fetuar a potenciação entre números complexos na forma trigonométrica utilizamos esta fó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76360" y="3860640"/>
                <a:ext cx="6265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θ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θ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erações com números complexos na forma trigonométrica – Radici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forma análoga à potenciação, para efetuar a radiciação com números complexos na forma trigonométrica utilizamos a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971640" y="4076640"/>
                <a:ext cx="7129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 au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76000" y="2997360"/>
            <a:ext cx="5832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as Vitti Rodri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lucas.vitti@bol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eito (parte I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se m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² + 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= √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como i = √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=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ão do concei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, foi criado um novo conjunto numérico denominado conjunto dos números complexos ou conjunto dos números imaginários, que representamos pela letra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os números complexos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ção fundam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njunto dos números complexos possui, desse modo, a relação fundamental 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I² = 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 i = √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06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= √2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ndo a relação funda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= i√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557360"/>
            <a:ext cx="31780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= √4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ndo a relação funda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=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1844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 algébrica (parte 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úmero complexo possui uma parte real e outra imaginária. Como a parte imaginária conta com a presença do i, sua forma algébrica 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869000"/>
            <a:ext cx="2303640" cy="609480"/>
          </a:xfrm>
          <a:prstGeom prst="wedgeEllipseCallout">
            <a:avLst>
              <a:gd name="adj1" fmla="val 72328"/>
              <a:gd name="adj2" fmla="val -968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22100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797360"/>
            <a:ext cx="2376720" cy="898560"/>
          </a:xfrm>
          <a:prstGeom prst="wedgeEllipseCallout">
            <a:avLst>
              <a:gd name="adj1" fmla="val -73513"/>
              <a:gd name="adj2" fmla="val -75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imagin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 algébrica (parte 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número complexo que não possui parte real (a = 0) é denominado número complexo puro. Um número complexo que não possua a parte imaginária (b = 0) é denominado número real e os números imaginários que possui ambas as partes são simplesmente chamados de números complex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18:42:05Z</dcterms:created>
  <dc:creator>winxp</dc:creator>
  <dc:description/>
  <dc:language>en-US</dc:language>
  <cp:lastModifiedBy>Lucas Vitti Rodrigues</cp:lastModifiedBy>
  <dcterms:modified xsi:type="dcterms:W3CDTF">2005-02-06T18:35:37Z</dcterms:modified>
  <cp:revision>95</cp:revision>
  <dc:subject/>
  <dc:title>Números Complexos</dc:title>
</cp:coreProperties>
</file>