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9.jpeg" ContentType="image/jpe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299-571C-421F-AE69-F4B4FC16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019-EFDC-418D-8A8E-6D0E0A9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2E-AD8C-4B67-8808-666238EA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CD4-4517-437D-AB60-AC10E8E4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BE4-452D-4CAE-9B59-80B9FA1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6B5-9C93-4F5A-AB95-52487872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B35-9F6C-4092-AD5C-92E873E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F12-6B49-4779-9138-EB819B18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01C-6D90-425B-BD7A-0ABA9F4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D3A-0CF6-4130-8999-15BBCB0C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EC4-3030-4C38-A6CC-BC70D92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C1E-E33C-4BF7-9AC4-2CA447E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677-27C2-46E2-9496-B1B0B5D15C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hyperlink" Target="http://orbita.starmedia.com/necrose/Escher/Escherbiografia.htm" TargetMode="External"/><Relationship Id="rId6" Type="http://schemas.openxmlformats.org/officeDocument/2006/relationships/hyperlink" Target="http://orbita.starmedia.com/necrose/Escher/Escherbiografia.htm" TargetMode="External"/><Relationship Id="rId7" Type="http://schemas.openxmlformats.org/officeDocument/2006/relationships/hyperlink" Target="http://orbita.starmedia.com/necrose/Escher/Escherbiografia.htm" TargetMode="External"/><Relationship Id="rId8" Type="http://schemas.openxmlformats.org/officeDocument/2006/relationships/hyperlink" Target="http://orbita.starmedia.com/necrose/Escher/Escherbiografia.htm" TargetMode="External"/><Relationship Id="rId9" Type="http://schemas.openxmlformats.org/officeDocument/2006/relationships/hyperlink" Target="http://orbita.starmedia.com/necrose/Escher/Escherbiografia.htm" TargetMode="External"/><Relationship Id="rId10" Type="http://schemas.openxmlformats.org/officeDocument/2006/relationships/hyperlink" Target="http://orbita.starmedia.com/necrose/Escher/Escherbiografia.htm" TargetMode="External"/><Relationship Id="rId11" Type="http://schemas.openxmlformats.org/officeDocument/2006/relationships/hyperlink" Target="http://orbita.starmedia.com/necrose/Escher/Escherbiografia.htm" TargetMode="External"/><Relationship Id="rId12" Type="http://schemas.openxmlformats.org/officeDocument/2006/relationships/hyperlink" Target="http://orbita.starmedia.com/necrose/Escher/Escherbiografia.htm" TargetMode="Externa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hyperlink" Target="http://www.catedral-anglicana.org.br/codigos/pt/artes/escher/gravuras/escher_01.htm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catedral-anglicana.org.br/codigos/pt/artes/escher/gravuras/escher_12.htm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28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vcultura.com.br/artematem&#225;tica" TargetMode="External"/><Relationship Id="rId3" Type="http://schemas.openxmlformats.org/officeDocument/2006/relationships/hyperlink" Target="http://www.tvcultura.com.br/artematem&#225;tica" TargetMode="External"/><Relationship Id="rId4" Type="http://schemas.openxmlformats.org/officeDocument/2006/relationships/hyperlink" Target="http://www.cyberartes.com.br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2133360"/>
            <a:ext cx="6049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saicos Geométric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99"/>
                </a:solidFill>
                <a:uFillTx/>
                <a:latin typeface="Comic Sans MS"/>
              </a:rPr>
              <a:t>Autor: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Marcelo de Faria Azeve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99"/>
                </a:solidFill>
                <a:uFillTx/>
                <a:latin typeface="Comic Sans MS"/>
              </a:rPr>
              <a:t>Curso: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Matemática 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000" spc="-1" strike="noStrike" u="sng">
                <a:solidFill>
                  <a:srgbClr val="333399"/>
                </a:solidFill>
                <a:uFillTx/>
                <a:latin typeface="Comic Sans MS"/>
              </a:rPr>
              <a:t>Período: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6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99"/>
                </a:solidFill>
                <a:uFillTx/>
                <a:latin typeface="Comic Sans MS"/>
              </a:rPr>
              <a:t>Profª. Orientadora: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 Elise Nogueira 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99"/>
                </a:solidFill>
                <a:uFillTx/>
                <a:latin typeface="Comic Sans MS"/>
              </a:rPr>
              <a:t>Profª Co-Orientadora: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Maria Terezinha de C. Silv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76360" y="333360"/>
            <a:ext cx="5975280" cy="2050920"/>
            <a:chOff x="1476360" y="333360"/>
            <a:chExt cx="5975280" cy="20509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476360" y="333360"/>
              <a:ext cx="215892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292720" y="404640"/>
              <a:ext cx="2158920" cy="19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900000" y="3357720"/>
            <a:ext cx="7202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III CONGRESSO DE EDUCAÇÃ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DO UNILAVRAS - 2005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504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A palavra </a:t>
            </a:r>
            <a:r>
              <a:rPr b="0" i="1" lang="pt-BR" sz="2200" spc="-1" strike="noStrike">
                <a:solidFill>
                  <a:srgbClr val="333399"/>
                </a:solidFill>
                <a:latin typeface="Comic Sans MS"/>
              </a:rPr>
              <a:t>Mosaico 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vem do termo “Mosaicon”, que significa “musa”. (Rodrigues, 200_, p.1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É uma pavimentação ou recobrimento de superfícies com ladrilhos, pedras, tacos de madeira ou outros revestimentos. (Imenes e Lellis, 2005, p. 5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É a arte de produzir, através de pequenos cacos ou outros produtos, desenhos e criações das mais diversas. (MENEZES, 200_, p. 2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De acordo com Imenes e Lellis (2005, p. 8), a maioria dos mosaicos tem um elemento formador que se repete. Esse elemento se chama módulo do mosaic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Os mosaicos podem ser encontrados na natureza ou serem feitos pelo hom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60280"/>
            <a:ext cx="4681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3.O que é um mosaic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3.1 Mosaicos </a:t>
            </a: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na Nature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390680" y="1901880"/>
            <a:ext cx="3003480" cy="158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983120" y="191628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301760" y="3789360"/>
            <a:ext cx="2430360" cy="237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616280" y="4292640"/>
            <a:ext cx="3268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3.2 Mosaicos </a:t>
            </a: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Feitos pelo Hom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2000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37240" y="1844640"/>
            <a:ext cx="3290760" cy="225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424160" y="2060640"/>
            <a:ext cx="215892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49240" y="4076640"/>
            <a:ext cx="2879640" cy="25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881600" y="4221000"/>
            <a:ext cx="295128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4.Históri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7499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As primeiras obras em mosaicos foram originadas na Mesopotâmia pelos sumérios há 5.000 anos e expandida posteriormente para a Europa, Egito, Macedônia, China e por todo o mundo. (Rodrigues, 200_, p.1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87280" y="3860640"/>
            <a:ext cx="3889440" cy="222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95016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942160" y="3357720"/>
            <a:ext cx="1755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4.Históri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2492280"/>
            <a:ext cx="51847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Idade Média: em Ravena, na Itália, foram feitos mosaicos igualmente belos em murais. Os mais famosos são o da Basílica de San Vitale e o do mausoléu de uma rainha romana. (Rodrigues, 200_, p.2)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No Renascimento, a técnica do mosaico tornou-se mais uma linguagem artísitica. (Rodrigues, 200_, p.3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5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1700280"/>
            <a:ext cx="8229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tualmente, os mosaicos são encontrados em fachada de prédios, calçadas interiores de edifícios, móveis, etc. (Rodrigues, 200_, p.4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o Brasil, os mosaicos foram adotados primeiramente no Rio e em São Paulo, trazidos pelos franceses e italianos respectivamen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 foi a partir de São Paulo que o seu uso como revestimento externo se difundiu para o paí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4.Históri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9920" y="4869000"/>
            <a:ext cx="1809720" cy="1571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841920" y="4797360"/>
            <a:ext cx="2449440" cy="1611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73200" y="4941720"/>
            <a:ext cx="2736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3399"/>
                </a:solidFill>
                <a:uFillTx/>
                <a:latin typeface="Comic Sans MS"/>
              </a:rPr>
              <a:t>5.Os Mosaicos </a:t>
            </a:r>
            <a:br>
              <a:rPr sz="4000"/>
            </a:br>
            <a:r>
              <a:rPr b="1" lang="pt-BR" sz="4000" spc="-1" strike="noStrike" u="sng">
                <a:solidFill>
                  <a:srgbClr val="333399"/>
                </a:solidFill>
                <a:uFillTx/>
                <a:latin typeface="Comic Sans MS"/>
              </a:rPr>
              <a:t>de Esch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O holandês Maurits Cornelis Escher, nasceu na pequena cidade de Leewarden em 17 de junho de 1898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Passou a maior parte da infância na cidade de Arnhem onde floresceram suas primeiras habilidade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Mostrou um grande interesse pelas artes gráficas e foi estudar Arquitetura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uto retrato"/>
          <p:cNvPicPr/>
          <p:nvPr/>
        </p:nvPicPr>
        <p:blipFill>
          <a:blip r:embed="rId4"/>
          <a:stretch/>
        </p:blipFill>
        <p:spPr>
          <a:xfrm>
            <a:off x="5435640" y="2060640"/>
            <a:ext cx="2933640" cy="381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6093000"/>
            <a:ext cx="845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99"/>
                </a:solidFill>
                <a:uFillTx/>
                <a:latin typeface="Comic Sans MS"/>
              </a:rPr>
              <a:t>Fonte:</a:t>
            </a:r>
            <a:r>
              <a:rPr b="0" lang="pt-B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orbita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starmedia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com/necrose/Escher/Escherbiografia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3399"/>
                </a:solidFill>
                <a:uFillTx/>
                <a:latin typeface="Comic Sans MS"/>
              </a:rPr>
              <a:t>5.Os Mosaicos </a:t>
            </a:r>
            <a:br>
              <a:rPr sz="4000"/>
            </a:br>
            <a:r>
              <a:rPr b="1" lang="pt-BR" sz="4000" spc="-1" strike="noStrike" u="sng">
                <a:solidFill>
                  <a:srgbClr val="333399"/>
                </a:solidFill>
                <a:uFillTx/>
                <a:latin typeface="Comic Sans MS"/>
              </a:rPr>
              <a:t>de Esch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927080"/>
            <a:ext cx="48243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Depois de se formar, Escher viajou constantemente pela Europa, principalmente pela Itália, onde morou até 1935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Em 1937, viajou para a Espanha, onde conheceu os Mosaicos dos Mouros e La Mesquita em Córdoba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A partir daí, começou a criar os seus mosaico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Morreu em 1972 e seu trabalho é considerado uma referência até hoje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uto retrato"/>
          <p:cNvPicPr/>
          <p:nvPr/>
        </p:nvPicPr>
        <p:blipFill>
          <a:blip r:embed="rId4"/>
          <a:stretch/>
        </p:blipFill>
        <p:spPr>
          <a:xfrm>
            <a:off x="5435640" y="2060640"/>
            <a:ext cx="2933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 u="sng">
                <a:solidFill>
                  <a:srgbClr val="333399"/>
                </a:solidFill>
                <a:uFillTx/>
                <a:latin typeface="Comic Sans MS"/>
              </a:rPr>
              <a:t>5.1 Alguns trabalhos </a:t>
            </a:r>
            <a:br>
              <a:rPr sz="3800"/>
            </a:br>
            <a:r>
              <a:rPr b="1" lang="pt-BR" sz="3800" spc="-1" strike="noStrike" u="sng">
                <a:solidFill>
                  <a:srgbClr val="333399"/>
                </a:solidFill>
                <a:uFillTx/>
                <a:latin typeface="Comic Sans MS"/>
              </a:rPr>
              <a:t>de Escher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arte final"/>
          <p:cNvPicPr/>
          <p:nvPr/>
        </p:nvPicPr>
        <p:blipFill>
          <a:blip r:embed="rId2"/>
          <a:stretch/>
        </p:blipFill>
        <p:spPr>
          <a:xfrm>
            <a:off x="539640" y="1844640"/>
            <a:ext cx="2519640" cy="2158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Colorplate VI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1844640"/>
            <a:ext cx="251928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ky and wat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1844640"/>
            <a:ext cx="2519640" cy="2158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164360" y="189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32000" y="4869000"/>
            <a:ext cx="61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3399"/>
                </a:solidFill>
                <a:uFillTx/>
                <a:latin typeface="Comic Sans MS"/>
              </a:rPr>
              <a:t>Fonte: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  http://www.catedral-anglicana.org.b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 u="sng">
                <a:solidFill>
                  <a:srgbClr val="333399"/>
                </a:solidFill>
                <a:uFillTx/>
                <a:latin typeface="Comic Sans MS"/>
              </a:rPr>
              <a:t>5.1 Alguns trabalhos </a:t>
            </a:r>
            <a:br>
              <a:rPr sz="3800"/>
            </a:br>
            <a:r>
              <a:rPr b="1" lang="pt-BR" sz="3800" spc="-1" strike="noStrike" u="sng">
                <a:solidFill>
                  <a:srgbClr val="333399"/>
                </a:solidFill>
                <a:uFillTx/>
                <a:latin typeface="Comic Sans MS"/>
              </a:rPr>
              <a:t>de Escher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9640" y="2206800"/>
            <a:ext cx="2519640" cy="2158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348000" y="2206800"/>
            <a:ext cx="2519280" cy="2158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156360" y="2206800"/>
            <a:ext cx="2519280" cy="215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63640" y="4869000"/>
            <a:ext cx="57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3399"/>
                </a:solidFill>
                <a:uFillTx/>
                <a:latin typeface="Comic Sans MS"/>
              </a:rPr>
              <a:t>Fonte: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  http://www.cyberartes.com.b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saico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eométric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2349000"/>
            <a:ext cx="6120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Concei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Histó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Os Mosaicos de Es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O Uso em Sala de A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4000" y="1690560"/>
            <a:ext cx="4884840" cy="4741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5.2 Relação Matemática </a:t>
            </a:r>
            <a:br>
              <a:rPr sz="3200"/>
            </a:b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de Um </a:t>
            </a:r>
            <a:r>
              <a:rPr b="1" lang="pt-BR" sz="2800" spc="-1" strike="noStrike" u="sng">
                <a:solidFill>
                  <a:srgbClr val="333399"/>
                </a:solidFill>
                <a:uFillTx/>
                <a:latin typeface="Comic Sans MS"/>
              </a:rPr>
              <a:t>Trabalho</a:t>
            </a: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 de Es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236000" y="189000"/>
            <a:ext cx="180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4360" y="189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24000" y="2565360"/>
            <a:ext cx="4516560" cy="3108240"/>
          </a:xfrm>
          <a:prstGeom prst="hexagon">
            <a:avLst>
              <a:gd name="adj" fmla="val 36327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2928960"/>
            <a:ext cx="1204920" cy="1192320"/>
          </a:xfrm>
          <a:custGeom>
            <a:avLst/>
            <a:gdLst/>
            <a:ahLst/>
            <a:rect l="l" t="t" r="r" b="b"/>
            <a:pathLst>
              <a:path w="998" h="1179">
                <a:moveTo>
                  <a:pt x="998" y="1179"/>
                </a:moveTo>
                <a:lnTo>
                  <a:pt x="272" y="0"/>
                </a:lnTo>
                <a:lnTo>
                  <a:pt x="0" y="771"/>
                </a:lnTo>
                <a:lnTo>
                  <a:pt x="90" y="907"/>
                </a:lnTo>
                <a:lnTo>
                  <a:pt x="998" y="11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051440" y="2565360"/>
            <a:ext cx="1384200" cy="933480"/>
          </a:xfrm>
          <a:custGeom>
            <a:avLst/>
            <a:gdLst/>
            <a:ahLst/>
            <a:rect l="l" t="t" r="r" b="b"/>
            <a:pathLst>
              <a:path w="862" h="817">
                <a:moveTo>
                  <a:pt x="862" y="0"/>
                </a:moveTo>
                <a:lnTo>
                  <a:pt x="590" y="681"/>
                </a:lnTo>
                <a:lnTo>
                  <a:pt x="0" y="817"/>
                </a:lnTo>
                <a:lnTo>
                  <a:pt x="408" y="499"/>
                </a:lnTo>
                <a:lnTo>
                  <a:pt x="363" y="0"/>
                </a:lnTo>
                <a:lnTo>
                  <a:pt x="862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242400">
            <a:off x="2604960" y="2565360"/>
            <a:ext cx="1266840" cy="1036800"/>
          </a:xfrm>
          <a:custGeom>
            <a:avLst/>
            <a:gdLst/>
            <a:ahLst/>
            <a:rect l="l" t="t" r="r" b="b"/>
            <a:pathLst>
              <a:path w="817" h="681">
                <a:moveTo>
                  <a:pt x="408" y="0"/>
                </a:moveTo>
                <a:lnTo>
                  <a:pt x="817" y="91"/>
                </a:lnTo>
                <a:lnTo>
                  <a:pt x="681" y="363"/>
                </a:lnTo>
                <a:lnTo>
                  <a:pt x="499" y="408"/>
                </a:lnTo>
                <a:lnTo>
                  <a:pt x="272" y="681"/>
                </a:lnTo>
                <a:lnTo>
                  <a:pt x="91" y="681"/>
                </a:lnTo>
                <a:lnTo>
                  <a:pt x="0" y="635"/>
                </a:lnTo>
                <a:lnTo>
                  <a:pt x="408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 rot="193200">
            <a:off x="2124000" y="4016520"/>
            <a:ext cx="725400" cy="1015920"/>
          </a:xfrm>
          <a:custGeom>
            <a:avLst/>
            <a:gdLst/>
            <a:ahLst/>
            <a:rect l="l" t="t" r="r" b="b"/>
            <a:pathLst>
              <a:path w="453" h="817">
                <a:moveTo>
                  <a:pt x="45" y="0"/>
                </a:moveTo>
                <a:lnTo>
                  <a:pt x="272" y="182"/>
                </a:lnTo>
                <a:lnTo>
                  <a:pt x="363" y="499"/>
                </a:lnTo>
                <a:lnTo>
                  <a:pt x="453" y="817"/>
                </a:lnTo>
                <a:lnTo>
                  <a:pt x="0" y="91"/>
                </a:lnTo>
                <a:lnTo>
                  <a:pt x="45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267000" y="4897440"/>
            <a:ext cx="1025640" cy="777960"/>
          </a:xfrm>
          <a:custGeom>
            <a:avLst/>
            <a:gdLst/>
            <a:ahLst/>
            <a:rect l="l" t="t" r="r" b="b"/>
            <a:pathLst>
              <a:path w="772" h="681">
                <a:moveTo>
                  <a:pt x="0" y="681"/>
                </a:moveTo>
                <a:lnTo>
                  <a:pt x="273" y="272"/>
                </a:lnTo>
                <a:lnTo>
                  <a:pt x="273" y="0"/>
                </a:lnTo>
                <a:lnTo>
                  <a:pt x="772" y="136"/>
                </a:lnTo>
                <a:lnTo>
                  <a:pt x="545" y="681"/>
                </a:lnTo>
                <a:lnTo>
                  <a:pt x="0" y="68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834080" y="4794120"/>
            <a:ext cx="963360" cy="881280"/>
          </a:xfrm>
          <a:custGeom>
            <a:avLst/>
            <a:gdLst/>
            <a:ahLst/>
            <a:rect l="l" t="t" r="r" b="b"/>
            <a:pathLst>
              <a:path w="726" h="771">
                <a:moveTo>
                  <a:pt x="499" y="771"/>
                </a:moveTo>
                <a:lnTo>
                  <a:pt x="227" y="362"/>
                </a:lnTo>
                <a:lnTo>
                  <a:pt x="91" y="453"/>
                </a:lnTo>
                <a:lnTo>
                  <a:pt x="0" y="362"/>
                </a:lnTo>
                <a:lnTo>
                  <a:pt x="136" y="45"/>
                </a:lnTo>
                <a:lnTo>
                  <a:pt x="227" y="0"/>
                </a:lnTo>
                <a:lnTo>
                  <a:pt x="726" y="453"/>
                </a:lnTo>
                <a:lnTo>
                  <a:pt x="499" y="77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808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18240" y="1486440"/>
            <a:ext cx="1629720" cy="1574280"/>
            <a:chOff x="3018240" y="1486440"/>
            <a:chExt cx="1629720" cy="1574280"/>
          </a:xfrm>
        </p:grpSpPr>
        <p:sp>
          <p:nvSpPr>
            <p:cNvPr id="177" name=""/>
            <p:cNvSpPr/>
            <p:nvPr/>
          </p:nvSpPr>
          <p:spPr>
            <a:xfrm rot="14731200">
              <a:off x="3255840" y="1640520"/>
              <a:ext cx="1153800" cy="1265400"/>
            </a:xfrm>
            <a:custGeom>
              <a:avLst/>
              <a:gdLst/>
              <a:ahLst/>
              <a:rect l="l" t="t" r="r" b="b"/>
              <a:pathLst>
                <a:path w="817" h="681">
                  <a:moveTo>
                    <a:pt x="408" y="0"/>
                  </a:moveTo>
                  <a:lnTo>
                    <a:pt x="817" y="91"/>
                  </a:lnTo>
                  <a:lnTo>
                    <a:pt x="681" y="363"/>
                  </a:lnTo>
                  <a:lnTo>
                    <a:pt x="499" y="408"/>
                  </a:lnTo>
                  <a:lnTo>
                    <a:pt x="272" y="681"/>
                  </a:lnTo>
                  <a:lnTo>
                    <a:pt x="91" y="681"/>
                  </a:lnTo>
                  <a:lnTo>
                    <a:pt x="0" y="635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20000">
              <a:off x="3341880" y="210564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98200" y="2057400"/>
            <a:ext cx="1184040" cy="1080720"/>
            <a:chOff x="5398200" y="2057400"/>
            <a:chExt cx="1184040" cy="1080720"/>
          </a:xfrm>
        </p:grpSpPr>
        <p:sp>
          <p:nvSpPr>
            <p:cNvPr id="180" name=""/>
            <p:cNvSpPr/>
            <p:nvPr/>
          </p:nvSpPr>
          <p:spPr>
            <a:xfrm rot="6720600">
              <a:off x="5601960" y="2115720"/>
              <a:ext cx="776160" cy="963360"/>
            </a:xfrm>
            <a:custGeom>
              <a:avLst/>
              <a:gdLst/>
              <a:ahLst/>
              <a:rect l="l" t="t" r="r" b="b"/>
              <a:pathLst>
                <a:path w="726" h="771">
                  <a:moveTo>
                    <a:pt x="499" y="771"/>
                  </a:moveTo>
                  <a:lnTo>
                    <a:pt x="227" y="362"/>
                  </a:lnTo>
                  <a:lnTo>
                    <a:pt x="91" y="453"/>
                  </a:lnTo>
                  <a:lnTo>
                    <a:pt x="0" y="362"/>
                  </a:lnTo>
                  <a:lnTo>
                    <a:pt x="136" y="45"/>
                  </a:lnTo>
                  <a:lnTo>
                    <a:pt x="227" y="0"/>
                  </a:lnTo>
                  <a:lnTo>
                    <a:pt x="726" y="453"/>
                  </a:lnTo>
                  <a:lnTo>
                    <a:pt x="499" y="7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8280" y="2496960"/>
              <a:ext cx="4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19760" y="2464560"/>
            <a:ext cx="1530360" cy="1536480"/>
            <a:chOff x="1319760" y="2464560"/>
            <a:chExt cx="1530360" cy="1536480"/>
          </a:xfrm>
        </p:grpSpPr>
        <p:sp>
          <p:nvSpPr>
            <p:cNvPr id="183" name=""/>
            <p:cNvSpPr/>
            <p:nvPr/>
          </p:nvSpPr>
          <p:spPr>
            <a:xfrm rot="7545600">
              <a:off x="1528560" y="2690640"/>
              <a:ext cx="1112760" cy="1084320"/>
            </a:xfrm>
            <a:custGeom>
              <a:avLst/>
              <a:gdLst/>
              <a:ahLst/>
              <a:rect l="l" t="t" r="r" b="b"/>
              <a:pathLst>
                <a:path w="862" h="817">
                  <a:moveTo>
                    <a:pt x="862" y="0"/>
                  </a:moveTo>
                  <a:lnTo>
                    <a:pt x="590" y="681"/>
                  </a:lnTo>
                  <a:lnTo>
                    <a:pt x="0" y="817"/>
                  </a:lnTo>
                  <a:lnTo>
                    <a:pt x="408" y="499"/>
                  </a:lnTo>
                  <a:lnTo>
                    <a:pt x="363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85400">
              <a:off x="1881000" y="332496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55680" y="415440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662280" y="508788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5040" y="4906080"/>
            <a:ext cx="1245600" cy="1240200"/>
            <a:chOff x="1985040" y="4906080"/>
            <a:chExt cx="1245600" cy="1240200"/>
          </a:xfrm>
        </p:grpSpPr>
        <p:sp>
          <p:nvSpPr>
            <p:cNvPr id="188" name=""/>
            <p:cNvSpPr/>
            <p:nvPr/>
          </p:nvSpPr>
          <p:spPr>
            <a:xfrm rot="14115600">
              <a:off x="2166120" y="5074200"/>
              <a:ext cx="882720" cy="903600"/>
            </a:xfrm>
            <a:custGeom>
              <a:avLst/>
              <a:gdLst/>
              <a:ahLst/>
              <a:rect l="l" t="t" r="r" b="b"/>
              <a:pathLst>
                <a:path w="772" h="681">
                  <a:moveTo>
                    <a:pt x="0" y="681"/>
                  </a:moveTo>
                  <a:lnTo>
                    <a:pt x="273" y="272"/>
                  </a:lnTo>
                  <a:lnTo>
                    <a:pt x="273" y="0"/>
                  </a:lnTo>
                  <a:lnTo>
                    <a:pt x="772" y="136"/>
                  </a:lnTo>
                  <a:lnTo>
                    <a:pt x="545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1402000">
              <a:off x="2302200" y="528300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987800" y="49338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98640" y="4118400"/>
            <a:ext cx="1534320" cy="1356120"/>
            <a:chOff x="5498640" y="4118400"/>
            <a:chExt cx="1534320" cy="1356120"/>
          </a:xfrm>
        </p:grpSpPr>
        <p:sp>
          <p:nvSpPr>
            <p:cNvPr id="192" name=""/>
            <p:cNvSpPr/>
            <p:nvPr/>
          </p:nvSpPr>
          <p:spPr>
            <a:xfrm rot="14176200">
              <a:off x="5905800" y="4114080"/>
              <a:ext cx="719280" cy="1364760"/>
            </a:xfrm>
            <a:custGeom>
              <a:avLst/>
              <a:gdLst/>
              <a:ahLst/>
              <a:rect l="l" t="t" r="r" b="b"/>
              <a:pathLst>
                <a:path w="998" h="1179">
                  <a:moveTo>
                    <a:pt x="998" y="1179"/>
                  </a:moveTo>
                  <a:lnTo>
                    <a:pt x="272" y="0"/>
                  </a:lnTo>
                  <a:lnTo>
                    <a:pt x="0" y="771"/>
                  </a:lnTo>
                  <a:lnTo>
                    <a:pt x="90" y="907"/>
                  </a:lnTo>
                  <a:lnTo>
                    <a:pt x="998" y="117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1166800">
              <a:off x="6128640" y="4689360"/>
              <a:ext cx="4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032720" y="5022000"/>
            <a:ext cx="1574280" cy="1376280"/>
            <a:chOff x="4032720" y="5022000"/>
            <a:chExt cx="1574280" cy="1376280"/>
          </a:xfrm>
        </p:grpSpPr>
        <p:sp>
          <p:nvSpPr>
            <p:cNvPr id="195" name=""/>
            <p:cNvSpPr/>
            <p:nvPr/>
          </p:nvSpPr>
          <p:spPr>
            <a:xfrm rot="7308000">
              <a:off x="4437000" y="5020920"/>
              <a:ext cx="765000" cy="1378080"/>
            </a:xfrm>
            <a:custGeom>
              <a:avLst/>
              <a:gdLst/>
              <a:ahLst/>
              <a:rect l="l" t="t" r="r" b="b"/>
              <a:pathLst>
                <a:path w="453" h="817">
                  <a:moveTo>
                    <a:pt x="45" y="0"/>
                  </a:moveTo>
                  <a:lnTo>
                    <a:pt x="272" y="182"/>
                  </a:lnTo>
                  <a:lnTo>
                    <a:pt x="363" y="499"/>
                  </a:lnTo>
                  <a:lnTo>
                    <a:pt x="453" y="817"/>
                  </a:lnTo>
                  <a:lnTo>
                    <a:pt x="0" y="9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4800">
              <a:off x="4786920" y="5643360"/>
              <a:ext cx="4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9000" y="35337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746600" y="27558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5.2 Relação Matemática </a:t>
            </a:r>
            <a:br>
              <a:rPr sz="3200"/>
            </a:b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de Um </a:t>
            </a:r>
            <a:r>
              <a:rPr b="1" lang="pt-BR" sz="2800" spc="-1" strike="noStrike" u="sng">
                <a:solidFill>
                  <a:srgbClr val="333399"/>
                </a:solidFill>
                <a:uFillTx/>
                <a:latin typeface="Comic Sans MS"/>
              </a:rPr>
              <a:t>Trabalho</a:t>
            </a:r>
            <a:r>
              <a:rPr b="1" lang="pt-BR" sz="3200" spc="-1" strike="noStrike" u="sng">
                <a:solidFill>
                  <a:srgbClr val="333399"/>
                </a:solidFill>
                <a:uFillTx/>
                <a:latin typeface="Comic Sans MS"/>
              </a:rPr>
              <a:t> de Es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6. O Uso em </a:t>
            </a: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Sala de Au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2135160"/>
            <a:ext cx="828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Os mosaicos podem ser utilizados em aulas de geometria e artes, abordando os seguintes tópico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Ângul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Polígono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Simetria ou Reflexão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Translação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Rotação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Cálculos de Perímetro e Área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Álgebr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 algn="ctr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Criação de Mosaic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4836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346680" algn="just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nsino Fundamental(1ª a 5ª série)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neste caso, deve ser utilizado material concreto, com trabalhos feitos manu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346680" algn="just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nsino Fundamental (6ª a 8ª série)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Podem ser feitos trabalhos mais abstratos, construindo mosaicos um pouco mais complex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346680" algn="just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nsino Médio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s mosaicos trabalhados são ainda mais complexos, abordando principalmente cálculos de áre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6. O Uso em </a:t>
            </a: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Sala de A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79520" y="5349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959520" y="5349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63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6. O Uso em </a:t>
            </a: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Sala de Au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565360"/>
            <a:ext cx="82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Vamos agora abordar o uso dos mosaicos em sala de aula, através da resolução de alguns exercício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Nos exercícios serão analisados os aspectos artístico e matemático dos mosaico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mic Sans MS"/>
              </a:rPr>
              <a:t>Os mosaicos que serão utilizados foram criados pelo autor deste minicurso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48360" y="54936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1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50920" y="2276640"/>
            <a:ext cx="3612960" cy="290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067280" y="1773360"/>
            <a:ext cx="46432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O mosaico ao lado foi construído em uma malha de hexágonos regulares. Alguns hexágonos estão sobrepostos em outros. Com essas informações, determin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375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Os ângulos de cada losango amarelo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375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A área de cada losango amarelo, sabendo que o seu lado mede 2 cm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2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3097080" cy="2479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635280" y="1844640"/>
            <a:ext cx="52578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 mosaico ao lado foi feito a partir de pentágonos regulares. A junção desses pentágonos formou um decágono regular. Dentro do decágono, há uma circunferência de raio 1 cm.  Com essas informações, determ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250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s ângulos de cada triângulo formado pelas diagonais do decágon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250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área do setor circul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250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ara juntar os pentágonos, é necessário que tipo de movimento: rotação, translação ou simetri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45920" y="2133360"/>
            <a:ext cx="8002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as figuras a seguir, determine o eixo de simet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260280"/>
            <a:ext cx="475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3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187280" y="2708280"/>
            <a:ext cx="2519280" cy="2879280"/>
            <a:chOff x="1187280" y="2708280"/>
            <a:chExt cx="2519280" cy="287928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188720" y="3206160"/>
              <a:ext cx="251784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187280" y="270828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a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43280" y="2708280"/>
            <a:ext cx="3024000" cy="2879280"/>
            <a:chOff x="4643280" y="2708280"/>
            <a:chExt cx="3024000" cy="2879280"/>
          </a:xfrm>
        </p:grpSpPr>
        <p:graphicFrame>
          <p:nvGraphicFramePr>
            <p:cNvPr id="230" name=""/>
            <p:cNvGraphicFramePr/>
            <p:nvPr/>
          </p:nvGraphicFramePr>
          <p:xfrm>
            <a:off x="4643280" y="3070080"/>
            <a:ext cx="3024000" cy="251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43280" y="3070080"/>
                      <a:ext cx="3024000" cy="25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4754880" y="2708280"/>
              <a:ext cx="75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a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29080" y="485640"/>
            <a:ext cx="388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3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05440" y="333360"/>
            <a:ext cx="1800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4788000" y="2133720"/>
            <a:ext cx="3528720" cy="3598560"/>
            <a:chOff x="4788000" y="2133720"/>
            <a:chExt cx="3528720" cy="3598560"/>
          </a:xfrm>
        </p:grpSpPr>
        <p:graphicFrame>
          <p:nvGraphicFramePr>
            <p:cNvPr id="237" name=""/>
            <p:cNvGraphicFramePr/>
            <p:nvPr/>
          </p:nvGraphicFramePr>
          <p:xfrm>
            <a:off x="4788000" y="2585880"/>
            <a:ext cx="3528720" cy="314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88000" y="2585880"/>
                      <a:ext cx="3528720" cy="31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5054760" y="2133720"/>
              <a:ext cx="8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b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01800" y="2135160"/>
            <a:ext cx="3238200" cy="3598200"/>
            <a:chOff x="901800" y="2135160"/>
            <a:chExt cx="3238200" cy="3598200"/>
          </a:xfrm>
        </p:grpSpPr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901800" y="2702520"/>
              <a:ext cx="3238200" cy="30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901800" y="2135160"/>
              <a:ext cx="92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b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4572000" y="2133720"/>
            <a:ext cx="3958920" cy="3598560"/>
            <a:chOff x="4572000" y="2133720"/>
            <a:chExt cx="3958920" cy="3598560"/>
          </a:xfrm>
        </p:grpSpPr>
        <p:graphicFrame>
          <p:nvGraphicFramePr>
            <p:cNvPr id="244" name=""/>
            <p:cNvGraphicFramePr/>
            <p:nvPr/>
          </p:nvGraphicFramePr>
          <p:xfrm>
            <a:off x="4667400" y="2585880"/>
            <a:ext cx="3863520" cy="314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67400" y="2585880"/>
                      <a:ext cx="3863520" cy="31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4572000" y="2133720"/>
              <a:ext cx="96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9640" y="2060640"/>
            <a:ext cx="3958920" cy="3598560"/>
            <a:chOff x="539640" y="2060640"/>
            <a:chExt cx="3958920" cy="3598560"/>
          </a:xfrm>
        </p:grpSpPr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42160" y="2647800"/>
              <a:ext cx="395640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39640" y="2060640"/>
              <a:ext cx="106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29080" y="485640"/>
            <a:ext cx="388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3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680544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1.Objetiv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2327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presentar o material didático sobre mosaicos geométricos, aliando a arte com a matemátic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4360" y="1917720"/>
            <a:ext cx="806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lassifique as figuras a seguir, de acordo com os símbolos abaix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– Rotação      II – Translação    III – Simet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260280"/>
            <a:ext cx="475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4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08000" y="6093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6021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e 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31640" y="3284640"/>
            <a:ext cx="4286520" cy="2479680"/>
            <a:chOff x="431640" y="3284640"/>
            <a:chExt cx="4286520" cy="2479680"/>
          </a:xfrm>
        </p:grpSpPr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828720" y="3284640"/>
              <a:ext cx="388944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1640" y="328464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a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076720" y="3284640"/>
            <a:ext cx="3024360" cy="2487600"/>
            <a:chOff x="5076720" y="3284640"/>
            <a:chExt cx="3024360" cy="2487600"/>
          </a:xfrm>
        </p:grpSpPr>
        <p:pic>
          <p:nvPicPr>
            <p:cNvPr id="263" name="" descr=""/>
            <p:cNvPicPr/>
            <p:nvPr/>
          </p:nvPicPr>
          <p:blipFill>
            <a:blip r:embed="rId5"/>
            <a:stretch/>
          </p:blipFill>
          <p:spPr>
            <a:xfrm>
              <a:off x="5508720" y="3284640"/>
              <a:ext cx="259236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076720" y="328464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b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360" y="1917720"/>
            <a:ext cx="806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lassifique as figuras a seguir, de acordo com o símbolo abaix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– Rotação      II – Translação    III – Simet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260280"/>
            <a:ext cx="475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4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692360" y="6284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e 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61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e 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47640" y="3284640"/>
            <a:ext cx="3317760" cy="2849400"/>
            <a:chOff x="647640" y="3284640"/>
            <a:chExt cx="3317760" cy="284940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1116000" y="3284640"/>
              <a:ext cx="2849400" cy="28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47640" y="328464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535640" y="3357720"/>
            <a:ext cx="3636720" cy="2684160"/>
            <a:chOff x="4535640" y="3357720"/>
            <a:chExt cx="3636720" cy="2684160"/>
          </a:xfrm>
        </p:grpSpPr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5003640" y="3357720"/>
              <a:ext cx="316872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535640" y="3357720"/>
              <a:ext cx="6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d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4360" y="1917720"/>
            <a:ext cx="806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lassifique as figuras a seguir, de acordo com o símbolo abaix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 – Rotação      II – Translação    III – Simet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411280" y="260280"/>
            <a:ext cx="475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4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948360" y="1890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19280" y="3357720"/>
            <a:ext cx="3490920" cy="2801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5130720" y="3357720"/>
            <a:ext cx="3328920" cy="2706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4000" y="3284640"/>
            <a:ext cx="6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335772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61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724360" y="614052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4000" y="1916280"/>
            <a:ext cx="860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 mosaico abaixo foi feito a partir de um quadrado com 1 cm de lado. Com base nessa informação, determ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 perímetro do mosaico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área total da figura verde; 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área do losango amare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404640"/>
            <a:ext cx="4751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5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80544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484360" y="3933720"/>
            <a:ext cx="38880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492360" y="1916280"/>
            <a:ext cx="529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O mosaico ao lado foi feito a partir de um triângulo retângulo com hipotenusa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x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 catetos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y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z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. Todos os triângulos retângulos são congruentes. Com base nessas informações, determine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 expressão algébrica que representa  área da figura verde escura;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 expressão algébrica que representa a área total do mosaico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O valor numérico das expressões algébricas dos itens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b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,  considerando: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x= </a:t>
            </a:r>
            <a:r>
              <a:rPr b="1" lang="en-US" sz="2100" spc="-1" strike="noStrike">
                <a:solidFill>
                  <a:srgbClr val="009999"/>
                </a:solidFill>
                <a:latin typeface="Comic Sans MS"/>
              </a:rPr>
              <a:t>5 cm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; y= </a:t>
            </a:r>
            <a:r>
              <a:rPr b="1" lang="en-US" sz="2100" spc="-1" strike="noStrike">
                <a:solidFill>
                  <a:srgbClr val="009999"/>
                </a:solidFill>
                <a:latin typeface="Comic Sans MS"/>
              </a:rPr>
              <a:t>3 cm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e z= </a:t>
            </a:r>
            <a:r>
              <a:rPr b="1" lang="en-US" sz="2100" spc="-1" strike="noStrike">
                <a:solidFill>
                  <a:srgbClr val="009999"/>
                </a:solidFill>
                <a:latin typeface="Comic Sans MS"/>
              </a:rPr>
              <a:t>4 cm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404640"/>
            <a:ext cx="4751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6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805440" y="33336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250920" y="2525760"/>
            <a:ext cx="3024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492360" y="2421000"/>
            <a:ext cx="5292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O mosaico ao lado foi feito a partir de retângulos de lados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x &lt; y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). Com base nessa informação, determine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 expressão algébrica que representa  área da figura amarela;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 expressão algébrica que representa a área total do mosaico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buClr>
                <a:srgbClr val="333399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 expressão algébrica que representa o perímetro do mosaico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476280"/>
            <a:ext cx="475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7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805440" y="40464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2951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97080" y="260280"/>
            <a:ext cx="4751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Exercício 8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805440" y="18900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1773360"/>
            <a:ext cx="8029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Agora crie um mosaico neste computador. Mostre nesse mosaico a existência de uma relação entre a arte e a matemática, de acordo com os critérios vistos anteriormente neste minicurso. Como exemplo, vamos criar o mosaico abaix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739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Referências </a:t>
            </a: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Bibliográfic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214308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99"/>
                </a:solidFill>
                <a:latin typeface="Comic Sans MS"/>
              </a:rPr>
              <a:t>Grande Dicionário Larrouse Cultural Da Língua Portuguesa</a:t>
            </a:r>
            <a:r>
              <a:rPr b="0" i="1" lang="pt-BR" sz="2000" spc="-1" strike="noStrike">
                <a:solidFill>
                  <a:srgbClr val="333399"/>
                </a:solidFill>
                <a:latin typeface="Comic Sans MS"/>
              </a:rPr>
              <a:t>, Nova Cultural, São Paulo, 1999, 928 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1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99"/>
                </a:solidFill>
                <a:latin typeface="Comic Sans MS"/>
              </a:rPr>
              <a:t>TV CULTURA SÃO PAULO. </a:t>
            </a:r>
            <a:r>
              <a:rPr b="1" i="1" lang="pt-BR" sz="2000" spc="-1" strike="noStrike">
                <a:solidFill>
                  <a:srgbClr val="333399"/>
                </a:solidFill>
                <a:latin typeface="Comic Sans MS"/>
              </a:rPr>
              <a:t>Arte Matemática</a:t>
            </a:r>
            <a:r>
              <a:rPr b="0" i="1" lang="pt-BR" sz="2000" spc="-1" strike="noStrike">
                <a:solidFill>
                  <a:srgbClr val="333399"/>
                </a:solidFill>
                <a:latin typeface="Comic Sans MS"/>
              </a:rPr>
              <a:t>. Disponivel em: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//www.tvcultura.com.br/artematemática</a:t>
            </a:r>
            <a:r>
              <a:rPr b="0" i="1" lang="pt-BR" sz="2000" spc="-1" strike="noStrike">
                <a:solidFill>
                  <a:srgbClr val="333399"/>
                </a:solidFill>
                <a:latin typeface="Comic Sans MS"/>
              </a:rPr>
              <a:t>. Acesso em: 08/10/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1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RODRIGUES, R.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Mosaicos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, 200_, 5 p. Disponível em: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www.cyberartes.com.br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. Acesso em: 08/10/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1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MENEZES, J. C.,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Mosaicos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 200_, 2 p. Disponível em: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Comic Sans MS"/>
              </a:rPr>
              <a:t>http://www.jose-espaçoemosaicos.art.br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. Acesso em 08/10/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361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IMENES, L.C. E LELLIS, M.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eometria dos Mosaicos. </a:t>
            </a:r>
            <a:r>
              <a:rPr b="0" lang="pt-BR" sz="2000" spc="-1" strike="noStrike">
                <a:solidFill>
                  <a:srgbClr val="333399"/>
                </a:solidFill>
                <a:latin typeface="Comic Sans MS"/>
              </a:rPr>
              <a:t>Scipione, São Paulo-SP, 2005, 12ª edição, 50 p.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875640" y="11592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2.Introduçã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O que é art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O que é art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5040" algn="just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Arte é a expressão de um ideal de beleza nas obras humana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É também a criação de objetos ou de organizações específicas destinadas a produzir no homem um estado particular de sensibilidade mais ou menos ligado ao prazer estétic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Refere-se às obras de pintura, escultura, gravura, etc.</a:t>
            </a: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99"/>
                </a:solidFill>
                <a:latin typeface="Comic Sans MS"/>
              </a:rPr>
              <a:t>(Dicionário Larrouse Cultural, 1999, p. 9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Qual a relação da arte com a Matemática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2.Introduçã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20920" y="2421000"/>
            <a:ext cx="442908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Relação ent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Arte e a  Matemá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24800" y="3573360"/>
            <a:ext cx="2023920" cy="1828080"/>
            <a:chOff x="6724800" y="3573360"/>
            <a:chExt cx="2023920" cy="1828080"/>
          </a:xfrm>
        </p:grpSpPr>
        <p:sp>
          <p:nvSpPr>
            <p:cNvPr id="70" name=""/>
            <p:cNvSpPr/>
            <p:nvPr/>
          </p:nvSpPr>
          <p:spPr>
            <a:xfrm>
              <a:off x="6797880" y="4941720"/>
              <a:ext cx="19508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Harmon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4800" y="3573360"/>
              <a:ext cx="974520" cy="1378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92360" y="476280"/>
            <a:ext cx="1951200" cy="1946160"/>
            <a:chOff x="3492360" y="476280"/>
            <a:chExt cx="1951200" cy="1946160"/>
          </a:xfrm>
        </p:grpSpPr>
        <p:sp>
          <p:nvSpPr>
            <p:cNvPr id="73" name=""/>
            <p:cNvSpPr/>
            <p:nvPr/>
          </p:nvSpPr>
          <p:spPr>
            <a:xfrm>
              <a:off x="3492360" y="476280"/>
              <a:ext cx="19512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Belez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00720" y="907920"/>
              <a:ext cx="0" cy="1514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580000" y="476280"/>
            <a:ext cx="1951200" cy="1944720"/>
            <a:chOff x="5580000" y="476280"/>
            <a:chExt cx="1951200" cy="1944720"/>
          </a:xfrm>
        </p:grpSpPr>
        <p:sp>
          <p:nvSpPr>
            <p:cNvPr id="76" name=""/>
            <p:cNvSpPr/>
            <p:nvPr/>
          </p:nvSpPr>
          <p:spPr>
            <a:xfrm>
              <a:off x="5580000" y="476280"/>
              <a:ext cx="1951200" cy="825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Perspectiv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555960" y="934920"/>
              <a:ext cx="32040" cy="148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9640" y="3573360"/>
            <a:ext cx="1950840" cy="1836720"/>
            <a:chOff x="539640" y="3573360"/>
            <a:chExt cx="1950840" cy="1836720"/>
          </a:xfrm>
        </p:grpSpPr>
        <p:sp>
          <p:nvSpPr>
            <p:cNvPr id="79" name=""/>
            <p:cNvSpPr/>
            <p:nvPr/>
          </p:nvSpPr>
          <p:spPr>
            <a:xfrm>
              <a:off x="539640" y="4950360"/>
              <a:ext cx="19508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Ordem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887840" y="3573360"/>
              <a:ext cx="451800" cy="1377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27280" y="3573360"/>
            <a:ext cx="1950840" cy="1851120"/>
            <a:chOff x="2627280" y="3573360"/>
            <a:chExt cx="1950840" cy="1851120"/>
          </a:xfrm>
        </p:grpSpPr>
        <p:sp>
          <p:nvSpPr>
            <p:cNvPr id="82" name=""/>
            <p:cNvSpPr/>
            <p:nvPr/>
          </p:nvSpPr>
          <p:spPr>
            <a:xfrm>
              <a:off x="2627280" y="4964760"/>
              <a:ext cx="19508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Simetr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7280" y="3573360"/>
              <a:ext cx="0" cy="1391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08440" y="3573360"/>
            <a:ext cx="1951200" cy="1828080"/>
            <a:chOff x="4708440" y="3573360"/>
            <a:chExt cx="1951200" cy="1828080"/>
          </a:xfrm>
        </p:grpSpPr>
        <p:sp>
          <p:nvSpPr>
            <p:cNvPr id="85" name=""/>
            <p:cNvSpPr/>
            <p:nvPr/>
          </p:nvSpPr>
          <p:spPr>
            <a:xfrm>
              <a:off x="4708440" y="4941720"/>
              <a:ext cx="19512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Espaç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6800" y="3573360"/>
              <a:ext cx="0" cy="1368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63640" y="587700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Fonte: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Comic Sans MS"/>
              </a:rPr>
              <a:t>Arte Matemática – TV Cultura – 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03280" y="476280"/>
            <a:ext cx="1951200" cy="1954080"/>
            <a:chOff x="1403280" y="476280"/>
            <a:chExt cx="1951200" cy="1954080"/>
          </a:xfrm>
        </p:grpSpPr>
        <p:sp>
          <p:nvSpPr>
            <p:cNvPr id="89" name=""/>
            <p:cNvSpPr/>
            <p:nvPr/>
          </p:nvSpPr>
          <p:spPr>
            <a:xfrm>
              <a:off x="1403280" y="476280"/>
              <a:ext cx="19512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Geometri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40000" y="907920"/>
              <a:ext cx="38160" cy="1522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96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Relação da Arte </a:t>
            </a: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com a Matemát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816200"/>
            <a:ext cx="80643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 algn="just">
              <a:spcBef>
                <a:spcPts val="1312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Geometria: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Campo da matemática que estuda o espaço e as figuras que podem ocupar o espaço. (Arte e Matemática – TV Cultura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312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Espaço: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xtensão superficial. Pode ser plano (duas dimensões), sólido (três dimensões), fracionado (fractais). Pode ter infinitas dimensões. (Arte e Matemática – TV Cultura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312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Harmonia: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Ocorre quando elementos diferentes se integram para realizar um todo coerente, agradável, que produz uma sensação de prazer.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(Arte e Matemática – TV Cultura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indent="365040" algn="just">
              <a:spcBef>
                <a:spcPts val="1312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Simetria: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Correspondência de posição de dois ou vários elementos em relação a um ponto, a um plano médio. (Larousse Cultural, 1999, p. 828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19162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Ordem: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Disposição de elementos em um determinado conjunto.</a:t>
            </a:r>
            <a:r>
              <a:rPr b="0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(Larousse Cultural, 1999, p. 134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Beleza: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Qualidade do que é belo, conforme um ideal estético(Larousse Cultural, 1999, p. 675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Comic Sans MS"/>
              </a:rPr>
              <a:t>Perspectiva: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rte de representar o espaço tridimensional em uma superfície plana</a:t>
            </a: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(Arte e Matemática – TV Cultura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7628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Relação da Arte </a:t>
            </a:r>
            <a:br>
              <a:rPr sz="4000"/>
            </a:b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com a Matemát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95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020000" y="3952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12720" y="4046400"/>
            <a:ext cx="3527640" cy="2622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572000" y="4049640"/>
            <a:ext cx="3568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9:01:54Z</dcterms:created>
  <dc:creator>Marcelo de Faria Azevedo</dc:creator>
  <dc:description/>
  <dc:language>en-US</dc:language>
  <cp:lastModifiedBy>Marcelo de Faria Azevedo</cp:lastModifiedBy>
  <dcterms:modified xsi:type="dcterms:W3CDTF">2005-11-04T12:56:41Z</dcterms:modified>
  <cp:revision>101</cp:revision>
  <dc:subject/>
  <dc:title>Mosaicos Geométricos em Computador</dc:title>
</cp:coreProperties>
</file>