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4D6-F774-417F-A51B-C098CBF5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7BA-D121-4A9B-9099-DF180960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CA9-9D9C-420C-A75D-2838BD7C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9DC-10DF-4AA4-BF27-89189289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057-D9A3-4F7E-925E-AF113B0E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ED8-B310-4D0C-9835-8F8E3A05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6BE0-0C39-40FA-A5AF-9CA416B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112C-9E44-4C13-A9AD-94E0987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4E69-5DF7-4B91-84A9-2F02D0B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8A47-CC05-4122-A8AF-9D92D64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717-DF0B-4865-8BAC-0682277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484-DF3F-4E78-A46E-80C1F0AF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DB8C-BF4B-48A0-9430-BC3C96C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CB8-D096-4CE6-94F1-CBFB17A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9E7-0B65-4C2B-A2F8-29FE9A9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B2A-C723-45CD-80B0-B646F837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19C-4149-4C86-A777-114217B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429-BD70-41B7-AF2D-B441F169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FA9-B778-470D-A68D-936AB7E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2BE-0CED-4A35-A833-0655A44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D15-7D6F-4245-B5DC-5AF82638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B6-02EA-445D-8BBD-B3CD8B6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873-6329-4937-9FF1-E6159ED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B1A-7B69-4EEE-915B-9D77DBD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6231-D04F-4DC9-9295-86721EC67168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6ADE-80EB-40ED-988D-03E8677BDDC8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Que Sã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ceira Proprieda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logaritmo de uma potência é igual ao produto do expoente pelo logaritmo da base da potê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Logaritmo de uma potê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2590920"/>
          <a:ext cx="380988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90920"/>
                    <a:ext cx="3809880" cy="971280"/>
                  </a:xfrm>
                  <a:prstGeom prst="rect">
                    <a:avLst/>
                  </a:prstGeom>
                  <a:ln w="76320">
                    <a:solidFill>
                      <a:srgbClr val="1c1c1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rta propriedade: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há uma potência pega-se a potência e multiplica pelo logarit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29200" y="3048120"/>
          <a:ext cx="392580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048120"/>
                    <a:ext cx="3925800" cy="116352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inta proprieda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há uma raiz pega-se a raiz, inverte e multiplica pelo logarit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0720" y="3200400"/>
          <a:ext cx="38098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3809880" cy="1066680"/>
                  </a:xfrm>
                  <a:prstGeom prst="rect">
                    <a:avLst/>
                  </a:prstGeom>
                  <a:ln w="76320">
                    <a:solidFill>
                      <a:srgbClr val="1c1c1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xta proprieda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vezes precisamos ter os logaritmos com mesma base e nessas horas usamos uma formula conhecida com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fórmula de mudança de b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67080" y="2438280"/>
          <a:ext cx="468792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438280"/>
                    <a:ext cx="46879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inverso de um número é igual ao oposto do logaritmo dessa mesma base.Este é o cologarit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2819520"/>
          <a:ext cx="38098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3809880" cy="992160"/>
                  </a:xfrm>
                  <a:prstGeom prst="rect">
                    <a:avLst/>
                  </a:prstGeom>
                  <a:ln w="76320">
                    <a:solidFill>
                      <a:srgbClr val="1c1c1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 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lcule o log1,4.Sendo log 2=10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g 7=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,4=10  =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 . 7 /10 =10 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0,301 + 0,845 -1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 =0,14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BS00559_" descr=""/>
          <p:cNvPicPr/>
          <p:nvPr/>
        </p:nvPicPr>
        <p:blipFill>
          <a:blip r:embed="rId1"/>
          <a:stretch/>
        </p:blipFill>
        <p:spPr>
          <a:xfrm>
            <a:off x="1182600" y="2994120"/>
            <a:ext cx="3810240" cy="216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28440" y="388620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59880" y="243828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0,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59880" y="289548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0,8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42840" y="44197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 um cavalo engorda 10% ao mês quando ele vai dobrar seu peso?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og 1,1=0,041 log 2 =0,3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X + 10% de x = 1x +0,1x= 1,1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brar o peso: 2x= x 1,1   logo  0,041n= 0,30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=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Tahoma"/>
              </a:rPr>
              <a:t>0,301  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=&gt; 7,34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0,041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ssim: ele duplicará seu peso em 7 meses e 10,23 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886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687840"/>
            <a:ext cx="2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AN02479_" descr=""/>
          <p:cNvPicPr/>
          <p:nvPr/>
        </p:nvPicPr>
        <p:blipFill>
          <a:blip r:embed="rId1"/>
          <a:stretch/>
        </p:blipFill>
        <p:spPr>
          <a:xfrm>
            <a:off x="5145120" y="2370240"/>
            <a:ext cx="380988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 século XVI e XVII, matemáticos desenvolveram estudos para tentar à simplificação do cálculo, com isto criando os loga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BD04956_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8098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imagem" descr=""/>
          <p:cNvPicPr/>
          <p:nvPr/>
        </p:nvPicPr>
        <p:blipFill>
          <a:blip r:embed="rId1"/>
          <a:stretch/>
        </p:blipFill>
        <p:spPr>
          <a:xfrm>
            <a:off x="1182600" y="2752560"/>
            <a:ext cx="3810240" cy="2643480"/>
          </a:xfrm>
          <a:prstGeom prst="rect">
            <a:avLst/>
          </a:prstGeom>
          <a:ln w="0">
            <a:noFill/>
          </a:ln>
        </p:spPr>
      </p:pic>
      <p:pic>
        <p:nvPicPr>
          <p:cNvPr id="107" name="log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2609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ipos de logarit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0,301=logaritmo de 2 na base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0,477=logaritmo de 3 na base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=logaritmo de A na base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se é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istema de logaritmos decimai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38280" y="2543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29200" y="2286000"/>
          <a:ext cx="411480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86000"/>
                    <a:ext cx="4114800" cy="258768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O chamado: "número de e" permite várias simplificações no cálculo integral e logarítmico. Ele é o único número cuja derivada em x de e^x resulta em e^x. Este são 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logaritmos neperi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092320"/>
            <a:ext cx="342900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2.71828182845904523536028747135266249775724709369999574966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96762772407663035354759457138217852516642742746639193200305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9921817413596629043572900334295260595630738132328627943490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6323382988075319525101901157383418793070215408914993488416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50924476146066808226480016847741185374234544243710753907774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4992069551702761838606261331384583000752044933826560297606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7113200709328709127443747047230696977209310141692836819025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51510865746377211125238978442505695369677078544996996794686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44549059879316368892300987931277361782154249992295763514822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0826989519366803318252886939849646510582093923982948879332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625094431173012381970684161403970198376793206832823764648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42953118023287825098194558153017567173613320698112509961818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81593041690351598888519345807273866738589422879228499892086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80582574927961048419844436346324496848756023362482704197862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209002160990235304369941849146314093431738143640546253152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9618369088870701676839642437814059271456354906130310720851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837505101157477041718986106873969655212671546889570350354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21234078498193343210681701210056278802351930332247450158539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04730419957777093503660416997329725088687696640355570716226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84471625607988265178713419512466520103059212366771943252786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75398558944896970964097545918569563802363701621120477427228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6489613422516445078182442352948636372141740238893441247963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57437026375529444833799801612549227850925778256209262264832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62779333865664816277251640191059004916449982893150566047258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0277863186415519565324425869829469593080191529872117255634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54639644791014590409058629849679128740687050489585867174798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54667757573205681288459205413340539220001137863009455606881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6674001698420558040336379537645203040243225661352783695117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88386387443966253224985065499588623428189970773327617178392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80349465014345588970719425863987727547109629537415211151368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5062752602326484728703920764310059584116612054529703023647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2549296669381151373227536450988890313602057248176585118063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6442812314965507047510254465011727211555194866850800368532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28183152196003735625279449515828418829478761085263981395599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00673764829224437528718462457803619298197139914756448826260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39033814418232625150974827987779964373089970388867782271383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60577297882412561190717663946507063304527954661855096666185</a:t>
            </a:r>
            <a:br>
              <a:rPr sz="700"/>
            </a:br>
            <a:r>
              <a:rPr b="0" lang="pt-BR" sz="700" spc="-1" strike="noStrike">
                <a:solidFill>
                  <a:srgbClr val="000000"/>
                </a:solidFill>
                <a:latin typeface="Tahoma"/>
              </a:rPr>
              <a:t>664709711344474016070462621568071748..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rie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ira Proprieda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logaritmo de um produto é igual a soma dos fatores tomado pela mesma 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Logaritmo de um produ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29200" y="2514600"/>
          <a:ext cx="38098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14600"/>
                    <a:ext cx="3809880" cy="9716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Logaritmos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2438280"/>
          <a:ext cx="38098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3809880" cy="9716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a Proprieda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logaritmo de um quociente é igual ao logaritmo do dividendo menos o logaritmo divisor, tendo mesma ba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Logaritmo de um quo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7:23:05Z</dcterms:created>
  <dc:creator>Robson Pugsley</dc:creator>
  <dc:description/>
  <dc:language>en-US</dc:language>
  <cp:lastModifiedBy>Robson Pugsley</cp:lastModifiedBy>
  <dcterms:modified xsi:type="dcterms:W3CDTF">2001-09-25T02:23:35Z</dcterms:modified>
  <cp:revision>7</cp:revision>
  <dc:subject/>
  <dc:title>Logaritmos</dc:title>
</cp:coreProperties>
</file>