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655-6372-4176-9181-26EF8CAF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359-65E5-4612-A0B8-7332FB59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0A8-F02C-4143-88A9-A7D50632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F3C-F954-48DD-932A-665CFAA9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163B-AA4B-4A18-82E9-ADF4CE0B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EBFD-BF4B-4886-B197-884F72AB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8296-01A8-4401-8D51-290B5BB0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85CE-EECF-45D1-B160-0FBC0A1D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0451-5D19-409E-B47A-956712AB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ABCF-7D7D-45DA-89AA-C7170D1E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B9FB-15AF-4340-B8B1-7AAABD7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494-B84D-4595-B442-3BED5350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F788-541B-412B-A854-CD58CFB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F50D-4C7F-4BF8-B429-FD76C8D0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7CEC-5181-47EC-B65A-F5D442B3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7FD2-1BA7-4902-AD71-0196047F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29A7-C7E3-48EA-B4B9-6B8EF5BE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A05-FDC7-45AA-967A-DCBA575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FD0-BFF7-4FC2-8FC1-5EC5B29C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450-81BA-4601-AC6F-5DE13104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9CF-F679-4386-9E78-2AEA12B2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108-F7D2-4035-B1E7-9AF84FA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8EB-BA50-4029-9CA3-908979A1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407-5236-45F9-A583-78836B99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542240" y="-25560"/>
            <a:ext cx="10686240" cy="7440120"/>
            <a:chOff x="-1542240" y="-25560"/>
            <a:chExt cx="10686240" cy="7440120"/>
          </a:xfrm>
        </p:grpSpPr>
        <p:grpSp>
          <p:nvGrpSpPr>
            <p:cNvPr id="2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3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0" y="6280200"/>
              <a:ext cx="9144000" cy="605880"/>
              <a:chOff x="0" y="6280200"/>
              <a:chExt cx="9144000" cy="605880"/>
            </a:xfrm>
          </p:grpSpPr>
          <p:sp>
            <p:nvSpPr>
              <p:cNvPr id="19" name=""/>
              <p:cNvSpPr/>
              <p:nvPr/>
            </p:nvSpPr>
            <p:spPr>
              <a:xfrm>
                <a:off x="2590920" y="6280200"/>
                <a:ext cx="2757240" cy="60588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6280200"/>
                <a:ext cx="2757600" cy="605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5943600" y="6280560"/>
                <a:ext cx="2760840" cy="60552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048120" y="6280560"/>
                <a:ext cx="3301920" cy="60480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76520" y="6283080"/>
                <a:ext cx="1981080" cy="603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952880" y="6280920"/>
                <a:ext cx="1981440" cy="6048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V="1">
                <a:off x="7162920" y="6281280"/>
                <a:ext cx="1981080" cy="60408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100400" y="62197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8897000">
              <a:off x="2358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18897000">
              <a:off x="1215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8897000">
              <a:off x="47160" y="61189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flipV="1">
              <a:off x="913680" y="62064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flipV="1">
              <a:off x="38052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flipV="1">
              <a:off x="4819680" y="62827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632448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flipV="1">
              <a:off x="5486400" y="62064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62406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7F54-437C-4A6E-895A-84C65690C3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-1542240" y="-25560"/>
            <a:ext cx="10686240" cy="6897960"/>
            <a:chOff x="-1542240" y="-25560"/>
            <a:chExt cx="10686240" cy="6897960"/>
          </a:xfrm>
        </p:grpSpPr>
        <p:grpSp>
          <p:nvGrpSpPr>
            <p:cNvPr id="78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79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0" y="3319560"/>
              <a:ext cx="9144000" cy="1762920"/>
              <a:chOff x="0" y="3319560"/>
              <a:chExt cx="9144000" cy="176292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0" y="3948120"/>
                <a:ext cx="9144000" cy="605880"/>
                <a:chOff x="0" y="3948120"/>
                <a:chExt cx="9144000" cy="605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90920" y="3948120"/>
                  <a:ext cx="2757240" cy="60588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0" y="3948120"/>
                  <a:ext cx="2757600" cy="60552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943600" y="3948480"/>
                  <a:ext cx="2760840" cy="605520"/>
                </a:xfrm>
                <a:custGeom>
                  <a:avLst/>
                  <a:gdLst/>
                  <a:ahLst/>
                  <a:rect l="l" t="t" r="r" b="b"/>
                  <a:pathLst>
                    <a:path w="1739" h="4420">
                      <a:moveTo>
                        <a:pt x="494" y="4415"/>
                      </a:moveTo>
                      <a:lnTo>
                        <a:pt x="1739" y="44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4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48120" y="3948480"/>
                  <a:ext cx="3301920" cy="604800"/>
                </a:xfrm>
                <a:custGeom>
                  <a:avLst/>
                  <a:gdLst/>
                  <a:ahLst/>
                  <a:rect l="l" t="t" r="r" b="b"/>
                  <a:pathLst>
                    <a:path w="2080" h="4338">
                      <a:moveTo>
                        <a:pt x="0" y="7"/>
                      </a:moveTo>
                      <a:lnTo>
                        <a:pt x="1870" y="4338"/>
                      </a:lnTo>
                      <a:lnTo>
                        <a:pt x="2080" y="4338"/>
                      </a:lnTo>
                      <a:lnTo>
                        <a:pt x="103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676520" y="3951000"/>
                  <a:ext cx="1981080" cy="6030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952880" y="3948840"/>
                  <a:ext cx="1981440" cy="6048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7162920" y="3949200"/>
                  <a:ext cx="1981080" cy="60408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solidFill>
                <a:srgbClr val="0000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00400" y="3887640"/>
                <a:ext cx="1644840" cy="666720"/>
              </a:xfrm>
              <a:custGeom>
                <a:avLst/>
                <a:gdLst/>
                <a:ahLst/>
                <a:rect l="l" t="t" r="r" b="b"/>
                <a:pathLst>
                  <a:path w="1036" h="420">
                    <a:moveTo>
                      <a:pt x="1027" y="0"/>
                    </a:moveTo>
                    <a:cubicBezTo>
                      <a:pt x="508" y="159"/>
                      <a:pt x="167" y="347"/>
                      <a:pt x="0" y="417"/>
                    </a:cubicBezTo>
                    <a:cubicBezTo>
                      <a:pt x="0" y="417"/>
                      <a:pt x="12" y="418"/>
                      <a:pt x="24" y="420"/>
                    </a:cubicBezTo>
                    <a:cubicBezTo>
                      <a:pt x="237" y="321"/>
                      <a:pt x="708" y="105"/>
                      <a:pt x="1036" y="16"/>
                    </a:cubicBezTo>
                    <a:cubicBezTo>
                      <a:pt x="1036" y="16"/>
                      <a:pt x="1027" y="0"/>
                      <a:pt x="10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18897000">
                <a:off x="2358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8897000">
                <a:off x="1215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rot="18897000">
                <a:off x="47160" y="3786840"/>
                <a:ext cx="1641600" cy="77292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913680" y="3874320"/>
                <a:ext cx="563868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38052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4819680" y="3950640"/>
                <a:ext cx="2114640" cy="60804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632448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5486400" y="3874320"/>
                <a:ext cx="365760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908520"/>
                <a:ext cx="9144000" cy="2196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50000">
                    <a:srgbClr val="9ce157"/>
                  </a:gs>
                  <a:gs pos="100000">
                    <a:srgbClr val="00004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219320" y="2590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FD9D-3B33-4A7F-A02B-A640EFFAB8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Pontifícia Universidade Católica do Rio Grande  Sul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14972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e157"/>
                </a:solidFill>
                <a:latin typeface="Arial"/>
              </a:rPr>
              <a:t>Lógica &amp; Aritmétic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35600" y="54450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luno: Edgar Abr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24360" y="-316080"/>
            <a:ext cx="128268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38 0.06705 C -0.07535 0.07515 -0.12431 0.09503 -0.12431 0.11099 C -0.12431 0.12555 -0.07639 0.13642 -0.01233 0.13642 C 0.05156 0.13642 0.10555 0.12555 0.10555 0.11099 C 0.10555 0.09503 0.04965 0.0911 -0.01441 0.10174 C -0.07743 0.11376 -0.12431 0.13364 -0.12431 0.14821 C -0.12431 0.16301 -0.07535 0.17503 -0.01233 0.17503 C 0.05156 0.17503 0.10555 0.16301 0.10555 0.14821 C 0.10555 0.13364 0.04965 0.12971 -0.01337 0.14035 C -0.07743 0.15099 -0.12431 0.17087 -0.12431 0.18567 C -0.12431 0.20162 -0.07535 0.21364 -0.01146 0.21364 C 0.05156 0.21364 0.10555 0.20162 0.10555 0.18567 C 0.10555 0.17226 0.04965 0.16833 -0.01337 0.17758 C -0.07639 0.18821 -0.12431 0.20948 -0.12431 0.22428 C -0.12431 0.23885 -0.07431 0.25087 -0.01146 0.25087 C 0.05364 0.25087 0.10555 0.23885 0.10555 0.22428 C 0.10555 0.20948 0.05069 0.20555 -0.01233 0.21619 C -0.07535 0.22682 -0.12431 0.24694 -0.12431 0.26151 C -0.12431 0.27746 -0.07431 0.2881 -0.01042 0.2881 C 0.05364 0.2881 0.10555 0.27607 0.10555 0.26151 C 0.10555 0.24694 0.05069 0.24278 -0.01233 0.25341 C -0.07535 0.26428 -0.12431 0.28555 -0.12431 0.29873 C -0.12431 0.31353 -0.07344 0.32532 -0.01042 0.32532 C 0.05364 0.32532 0.10555 0.31353 0.10555 0.29873 C 0.10555 0.28555 0.05156 0.28139 -0.01233 0.29087 C -0.07535 0.30151 -0.12431 0.32278 -0.12431 0.33734 C -0.12431 0.35075 -0.07344 0.36393 -0.00938 0.36393 C 0.05468 0.36393 0.10555 0.35214 0.10555 0.33734 C 0.10555 0.32278 0.05156 0.31885 -0.01146 0.32948 C -0.07431 0.34012 -0.12535 0.36 -0.12431 0.3748 C -0.12344 0.38937 -0.07344 0.4 -0.00938 0.4 C 0.05468 0.4 0.10555 0.38798 0.10555 0.37341 C 0.10555 0.36 0.05364 0.35607 -0.00938 0.3681 E">
                                      <p:cBhvr>
                                        <p:cTn id="14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6560" y="198864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9ce157"/>
                </a:solidFill>
                <a:latin typeface="Arial"/>
              </a:rPr>
              <a:t>FIM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57 0.02497 C 0.05156 0.01433 0.06563 0.0037 0.07049 0.0037 C 0.10156 0.0037 0.13351 0.17017 0.13351 0.33665 C 0.13351 0.25271 0.14948 0.17017 0.16459 0.17017 C 0.18056 0.17017 0.19566 0.2541 0.19566 0.33665 C 0.19566 0.29526 0.20365 0.25271 0.21163 0.25271 C 0.21962 0.25271 0.22761 0.2941 0.22761 0.33665 C 0.22761 0.31537 0.2316 0.29526 0.23559 0.29526 C 0.23959 0.29526 0.24358 0.31653 0.24358 0.33665 C 0.24358 0.32601 0.24566 0.31537 0.24757 0.31537 C 0.24861 0.31537 0.25156 0.32601 0.25156 0.33665 C 0.25156 0.33133 0.25261 0.32601 0.25365 0.32601 C 0.25365 0.3274 0.25573 0.33133 0.25573 0.33665 C 0.25573 0.33387 0.25573 0.33133 0.25677 0.33133 C 0.25677 0.33271 0.25781 0.3341 0.25781 0.33665 C 0.25781 0.33526 0.25781 0.33387 0.25781 0.33271 C 0.25886 0.33271 0.25886 0.3341 0.25886 0.33549 C 0.2599 0.33549 0.2599 0.3341 0.2599 0.33271 C 0.26094 0.33271 0.26094 0.3341 0.26094 0.33549 E">
                                      <p:cBhvr>
                                        <p:cTn id="399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676160" y="1197000"/>
            <a:ext cx="5789160" cy="4147560"/>
            <a:chOff x="1676160" y="1197000"/>
            <a:chExt cx="5789160" cy="4147560"/>
          </a:xfrm>
        </p:grpSpPr>
        <p:sp>
          <p:nvSpPr>
            <p:cNvPr id="163" name="_s2054"/>
            <p:cNvSpPr/>
            <p:nvPr/>
          </p:nvSpPr>
          <p:spPr>
            <a:xfrm>
              <a:off x="3517920" y="1933560"/>
              <a:ext cx="2104920" cy="21052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2663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2055"/>
            <p:cNvSpPr/>
            <p:nvPr/>
          </p:nvSpPr>
          <p:spPr>
            <a:xfrm>
              <a:off x="4016880" y="1197000"/>
              <a:ext cx="110736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EB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2056"/>
            <p:cNvSpPr/>
            <p:nvPr/>
          </p:nvSpPr>
          <p:spPr>
            <a:xfrm>
              <a:off x="4211640" y="3135240"/>
              <a:ext cx="2104920" cy="2105640"/>
            </a:xfrm>
            <a:prstGeom prst="ellipse">
              <a:avLst/>
            </a:prstGeom>
            <a:solidFill>
              <a:srgbClr val="f98d43">
                <a:alpha val="50000"/>
              </a:srgbClr>
            </a:solidFill>
            <a:ln w="4680">
              <a:solidFill>
                <a:srgbClr val="f98d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2057"/>
            <p:cNvSpPr/>
            <p:nvPr/>
          </p:nvSpPr>
          <p:spPr>
            <a:xfrm>
              <a:off x="6357600" y="4818240"/>
              <a:ext cx="11077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OMETR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2058"/>
            <p:cNvSpPr/>
            <p:nvPr/>
          </p:nvSpPr>
          <p:spPr>
            <a:xfrm>
              <a:off x="2822760" y="3133440"/>
              <a:ext cx="2104920" cy="210528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2059"/>
            <p:cNvSpPr/>
            <p:nvPr/>
          </p:nvSpPr>
          <p:spPr>
            <a:xfrm>
              <a:off x="1676160" y="4818240"/>
              <a:ext cx="110736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D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 ESTATÍST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300720" y="220500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ÓGICA MATE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tebulb"/>
          <p:cNvSpPr/>
          <p:nvPr/>
        </p:nvSpPr>
        <p:spPr>
          <a:xfrm>
            <a:off x="4427640" y="3500280"/>
            <a:ext cx="360360" cy="438480"/>
          </a:xfrm>
          <a:prstGeom prst="pi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0" idx="4"/>
            <a:endCxn id="169" idx="1"/>
          </p:cNvCxnSpPr>
          <p:nvPr/>
        </p:nvCxnSpPr>
        <p:spPr>
          <a:xfrm flipV="1">
            <a:off x="4788000" y="2677320"/>
            <a:ext cx="1513440" cy="980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Importância da Lógic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15177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os alunos das séries iniciais e ensino fundamental estudassem lógica, não teriam dificuldades para entender expressões matemáticas, saberiam diferenciar “e” de “ou”, “quaisquer” de “alguns”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421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ógica matemática está presente em tudo, a única coisa a fazer é saber relaciona-la, vamos ver a presença da lógica na língua portugu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306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as vezes você não ouviu uma expressão do tip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500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... Não tem ninguém em c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437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ra, s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ão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tem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inguém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é sinal de que existe alguém em casa, quem sabe lógica sabe perfeitamente que a negação de uma negação é uma afirmação! O mesmo acontece com o outro exemp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393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...Não</a:t>
            </a:r>
            <a:r>
              <a:rPr b="1" lang="en-US" sz="1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existe nenhum número natural que seja neg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Álgebra e Aritmétic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55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o trazer um conteúdo de álgebra para a aritmética? Pode parecer uma tarefa simples mas não é nada fác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27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É necessário trabalhar a álgebra mas também trazê-la para o cotidiano para que os alunos possam ver a importância  e suas aplicações, de nada adianta um aluno saber resolver um “trinômio quadrado perfeito” se não sabe para qual motivo que ser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357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mos analisar três exemplos à segui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EX. 1 – Qual o número que somado com a sua metade é igual a 21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508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EX. 2 – Uma folha de jornal é dobrada seis vezes. Em quanto ficou reduzida sua superfície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4308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sse é um “problema” que pode sim, ser resolvido por tentativas, mas é sem dúvida nenhuma muito fácil de ser equacion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5661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ocê consegue equacionar este problema? Você consegue resolve-lo sem a ajuda de uma folha de jornal ou um lápis e um papel para desenhar ou esboçar uma idéi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95280" y="4381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77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EX. 3 – Oito estudantes se encontram e cada um cumprimenta o outro com um aperto de mão. Quantos apertos de mão se troca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1417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sse é um problema muito interessante uma vez que pode ser simulado em sala de aula, muito bom para introduzir assuntos como: seqüência, progressão aritmética, análise combinatória entre out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25146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P 1 – João foi para os EUA e depois de alguns meses já estava falando bem o inglês, mas tinha dificuldades financeira, assim mandou uma carta para o seu papai, que era um bom professor de matemática, dizendo o quanto ele precisava de dinheiro, o valor era o resultado da soma abaix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Problem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4479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 o objetivo de tornar a matemática + atraente devemos tentar fazer com que os alunos se sintam desfiados pela matemática e notem um pouco da utilidade e da importância que ela tem em nossas v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71800" y="3809880"/>
            <a:ext cx="2519280" cy="1828800"/>
            <a:chOff x="2971800" y="3809880"/>
            <a:chExt cx="2519280" cy="1828800"/>
          </a:xfrm>
        </p:grpSpPr>
        <p:graphicFrame>
          <p:nvGraphicFramePr>
            <p:cNvPr id="194" name=""/>
            <p:cNvGraphicFramePr/>
            <p:nvPr/>
          </p:nvGraphicFramePr>
          <p:xfrm>
            <a:off x="3634200" y="3809880"/>
            <a:ext cx="1796400" cy="95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34200" y="3809880"/>
                      <a:ext cx="1796400" cy="95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3574440" y="4213800"/>
            <a:ext cx="1856520" cy="95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74440" y="4213800"/>
                      <a:ext cx="1856520" cy="95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2971800" y="4596120"/>
            <a:ext cx="2519280" cy="104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1800" y="4596120"/>
                      <a:ext cx="2519280" cy="104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"/>
            <p:cNvGraphicFramePr/>
            <p:nvPr/>
          </p:nvGraphicFramePr>
          <p:xfrm>
            <a:off x="3214800" y="4197600"/>
            <a:ext cx="364320" cy="91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14800" y="4197600"/>
                      <a:ext cx="364320" cy="91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2" name=""/>
          <p:cNvSpPr/>
          <p:nvPr/>
        </p:nvSpPr>
        <p:spPr>
          <a:xfrm>
            <a:off x="380880" y="54100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Sabendo que cada letra corresponde a um algarismo, qual o valor que João pedi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0880" y="53352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se é um tipo de exercício impossível de resolver sem tentativas, o aluno vai precisar usar seus conhecimentos matemáticos, precisa saber o que quer dizer o “vai um”, quais são as possibilidades etc... É sem dúvida nenhuma muito interessante. Idem a esse temos outros com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429000" y="1828800"/>
            <a:ext cx="2398680" cy="1614600"/>
            <a:chOff x="3429000" y="1828800"/>
            <a:chExt cx="2398680" cy="1614600"/>
          </a:xfrm>
        </p:grpSpPr>
        <p:graphicFrame>
          <p:nvGraphicFramePr>
            <p:cNvPr id="205" name=""/>
            <p:cNvGraphicFramePr/>
            <p:nvPr/>
          </p:nvGraphicFramePr>
          <p:xfrm>
            <a:off x="3429000" y="1828800"/>
            <a:ext cx="2362320" cy="111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1828800"/>
                      <a:ext cx="2362320" cy="11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5334120" y="2401920"/>
            <a:ext cx="34740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401920"/>
                      <a:ext cx="34740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"/>
            <p:cNvGraphicFramePr/>
            <p:nvPr/>
          </p:nvGraphicFramePr>
          <p:xfrm>
            <a:off x="3429000" y="2854440"/>
            <a:ext cx="239868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2854440"/>
                      <a:ext cx="239868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"/>
            <p:cNvGraphicFramePr/>
            <p:nvPr/>
          </p:nvGraphicFramePr>
          <p:xfrm>
            <a:off x="3489480" y="2531880"/>
            <a:ext cx="345960" cy="384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89480" y="2531880"/>
                      <a:ext cx="34596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"/>
          <p:cNvSpPr/>
          <p:nvPr/>
        </p:nvSpPr>
        <p:spPr>
          <a:xfrm>
            <a:off x="395280" y="375120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98d43"/>
                </a:solidFill>
                <a:latin typeface="Arial"/>
              </a:rPr>
              <a:t>P 3 – Ana, Carlos e Diná gostam de gêneros literários diferentes: humor, mistério, esportes e aventura. Um dos colegas do grupo de Ana gosta mais de livro de mistério, enquanto Carlos e Diná não gostam de aventura. O gênero favorito de Pedro é esportes. Diná gostava de livros de humor mas acabou mudando de gosto. Qual o gênero de livro que Dina prefe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Test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32408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qui vai um pequeno exercício de calculo mental !!!! Este cálculo deve fazer-se mentalmente (e rapidamente), sem utilizar calculadora nem papel e caneta!!! Coloque a resposta no papel assim que lhe for ped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438280"/>
            <a:ext cx="84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e157"/>
                </a:solidFill>
                <a:latin typeface="Arial"/>
              </a:rPr>
              <a:t>Teste 1</a:t>
            </a: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 Tens 1000, acrescenta-lhe 40. Acrescenta mais 1000. Acrescenta mais 30 e novamente 1000. Acrescenta 20. Acrescenta 1000 e ainda 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040" y="32767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Qual é o total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040" y="38862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e157"/>
                </a:solidFill>
                <a:latin typeface="Arial"/>
              </a:rPr>
              <a:t>Teste 2</a:t>
            </a: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 Quantas letras “F” possui o texto abaix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441972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e157"/>
                </a:solidFill>
                <a:latin typeface="Arial"/>
              </a:rPr>
              <a:t>FINISHED FILES ARE THE RE-</a:t>
            </a:r>
            <a:br>
              <a:rPr sz="2800"/>
            </a:br>
            <a:r>
              <a:rPr b="0" lang="en-US" sz="2800" spc="-1" strike="noStrike">
                <a:solidFill>
                  <a:srgbClr val="9ce157"/>
                </a:solidFill>
                <a:latin typeface="Arial"/>
              </a:rPr>
              <a:t>SULT OF YEARS OF SCIENTIF-</a:t>
            </a:r>
            <a:br>
              <a:rPr sz="2800"/>
            </a:br>
            <a:r>
              <a:rPr b="0" lang="en-US" sz="2800" spc="-1" strike="noStrike">
                <a:solidFill>
                  <a:srgbClr val="9ce157"/>
                </a:solidFill>
                <a:latin typeface="Arial"/>
              </a:rPr>
              <a:t>IC STUDY COMBINED WITH </a:t>
            </a:r>
            <a:br>
              <a:rPr sz="2800"/>
            </a:br>
            <a:r>
              <a:rPr b="0" lang="en-US" sz="2800" spc="-1" strike="noStrike">
                <a:solidFill>
                  <a:srgbClr val="9ce157"/>
                </a:solidFill>
                <a:latin typeface="Arial"/>
              </a:rPr>
              <a:t>THE EXPERIENCE OF YEARS</a:t>
            </a:r>
            <a:r>
              <a:rPr b="0" lang="en-US" sz="1800" spc="-1" strike="noStrike">
                <a:solidFill>
                  <a:srgbClr val="9ce157"/>
                </a:solidFill>
                <a:latin typeface="Arial"/>
              </a:rPr>
              <a:t>  </a:t>
            </a: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220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3+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Test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5238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e157"/>
                </a:solidFill>
                <a:latin typeface="Arial"/>
              </a:rPr>
              <a:t>Teste 3</a:t>
            </a: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f98d43"/>
                </a:solidFill>
                <a:latin typeface="Arial"/>
              </a:rPr>
              <a:t> Faça cada calculo a seguir mentalment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781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89+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332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12+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75+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25+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63+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8d43"/>
                </a:solidFill>
                <a:latin typeface="Arial"/>
              </a:rPr>
              <a:t>123+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3200400"/>
            <a:ext cx="59436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e157"/>
                </a:solidFill>
                <a:latin typeface="Arial"/>
              </a:rPr>
              <a:t>RÁPIDO! PENSE EM UMA FERRAMENTA E UMA COR!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22:38:15Z</dcterms:created>
  <dc:creator>Formigão</dc:creator>
  <dc:description/>
  <dc:language>en-US</dc:language>
  <cp:lastModifiedBy>SM</cp:lastModifiedBy>
  <dcterms:modified xsi:type="dcterms:W3CDTF">2005-04-14T12:46:05Z</dcterms:modified>
  <cp:revision>45</cp:revision>
  <dc:subject/>
  <dc:title>Slide 1</dc:title>
</cp:coreProperties>
</file>