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695-5112-45C9-9C41-A23FFFD8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2AF9-664D-44D7-B6E0-66F4FB59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EFF-5B32-4EEC-A6FE-FF67B4A1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2D2D-3FA5-47B3-95DD-5836A5BE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61D6-4242-42BF-A0DA-2A122C06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F984-4A71-4531-8455-472826AC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D986-8F0F-471A-8820-782E21C4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2B60-0CE8-49A2-BD75-06DC32E6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20AC-6D93-44B0-B85F-2C3B53C3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6C53-9411-4DB3-896A-DA8CF923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0CE7-FF6B-4EF9-9CB7-CF820F9A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0B9E-8551-4AB9-BF92-AC95E8F2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DBC0-D9EC-4A0D-B1E8-5F99F76D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3171-95E0-45B0-9A37-8555FC66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67E9-3F0D-4163-8735-06146FA0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4CC2-4FD4-4A66-9750-48BC0EA9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16BC-AF54-4254-9198-FE84496F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13C-B6BA-4327-9269-9F7596CC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70A-FDB1-4786-AE50-FD63AC27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C58C-4D82-418D-BA5F-998A1D17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813-0B00-4262-B885-C0D7A3CB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C7C-D865-45C1-81E0-8940A8B8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D2E5-97B2-454B-8224-EFE1C368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E7C4-AF23-44FA-B894-72A2CCF0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D15D-417B-4766-9430-ABFBB9E18EF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C9BC-4764-4719-A187-781B318999B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studo dos Interval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8480" y="1447920"/>
            <a:ext cx="8885160" cy="10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) Intervalo  que tende ao infinito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666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4440" y="3005280"/>
            <a:ext cx="6858000" cy="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4840" y="3005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4    -3   -2   -1    0     1    2     3   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39625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009960"/>
            <a:ext cx="4713120" cy="0"/>
          </a:xfrm>
          <a:prstGeom prst="line">
            <a:avLst/>
          </a:prstGeom>
          <a:ln cap="sq" w="19080">
            <a:solidFill>
              <a:srgbClr val="ff3300"/>
            </a:solidFill>
            <a:miter/>
            <a:headEnd len="med" type="oval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3657600"/>
            <a:ext cx="845820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r descrição: { x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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-2}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r notação: [-2, +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 reta real: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2514600" y="5105520"/>
            <a:ext cx="1523880" cy="0"/>
          </a:xfrm>
          <a:prstGeom prst="line">
            <a:avLst/>
          </a:prstGeom>
          <a:ln cap="sq" w="12600">
            <a:solidFill>
              <a:srgbClr val="ff3300"/>
            </a:solidFill>
            <a:miter/>
            <a:headEnd len="med" type="oval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5181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2                 +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30481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57340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bservação: o intervalo pode tender ao infinito para a direita ou para a esquer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Operações com intervalos: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º) União de Intervalos: (a, b)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c, d) = (a, d)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990720"/>
            <a:ext cx="88851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514600"/>
            <a:ext cx="88851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2209680"/>
            <a:ext cx="44197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2666880"/>
            <a:ext cx="5257800" cy="0"/>
          </a:xfrm>
          <a:prstGeom prst="line">
            <a:avLst/>
          </a:prstGeom>
          <a:ln cap="sq" w="12600">
            <a:solidFill>
              <a:srgbClr val="00cc99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2286000"/>
            <a:ext cx="0" cy="16002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72400" y="2666880"/>
            <a:ext cx="0" cy="1143000"/>
          </a:xfrm>
          <a:prstGeom prst="line">
            <a:avLst/>
          </a:prstGeom>
          <a:ln cap="rnd" w="12600">
            <a:solidFill>
              <a:srgbClr val="ff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3886200"/>
            <a:ext cx="6705720" cy="0"/>
          </a:xfrm>
          <a:prstGeom prst="line">
            <a:avLst/>
          </a:prstGeom>
          <a:ln cap="sq" w="19080">
            <a:solidFill>
              <a:srgbClr val="ff33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2286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                                                    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28195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                                                               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4038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                                                                                     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5486400"/>
            <a:ext cx="2286000" cy="0"/>
          </a:xfrm>
          <a:prstGeom prst="line">
            <a:avLst/>
          </a:prstGeom>
          <a:ln cap="sq" w="19080">
            <a:solidFill>
              <a:srgbClr val="ffffcc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5486400"/>
            <a:ext cx="2286000" cy="0"/>
          </a:xfrm>
          <a:prstGeom prst="line">
            <a:avLst/>
          </a:prstGeom>
          <a:ln cap="sq" w="19080">
            <a:solidFill>
              <a:srgbClr val="00cc99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5638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           6               9          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3434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emplo: [4, 9]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[6, 12] = [ 4, 12]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5486400"/>
            <a:ext cx="327636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62485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r descrição: {x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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4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x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12}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erações com intervalos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º) Intersecção de Intervalos: (a, b)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c, d) = (c, b)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990720"/>
            <a:ext cx="88851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514600"/>
            <a:ext cx="88851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2209680"/>
            <a:ext cx="44197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2666880"/>
            <a:ext cx="5257800" cy="0"/>
          </a:xfrm>
          <a:prstGeom prst="line">
            <a:avLst/>
          </a:prstGeom>
          <a:ln cap="sq" w="12600">
            <a:solidFill>
              <a:srgbClr val="00cc99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4120" y="2209680"/>
            <a:ext cx="0" cy="16002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2666880"/>
            <a:ext cx="0" cy="1143000"/>
          </a:xfrm>
          <a:prstGeom prst="line">
            <a:avLst/>
          </a:prstGeom>
          <a:ln cap="rnd" w="12600">
            <a:solidFill>
              <a:srgbClr val="ff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3886200"/>
            <a:ext cx="2743200" cy="0"/>
          </a:xfrm>
          <a:prstGeom prst="line">
            <a:avLst/>
          </a:prstGeom>
          <a:ln cap="sq" w="19080">
            <a:solidFill>
              <a:srgbClr val="ff33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2286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                                                   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8195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                                                               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4038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                               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5486400"/>
            <a:ext cx="228600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95480" y="5486400"/>
            <a:ext cx="2286000" cy="0"/>
          </a:xfrm>
          <a:prstGeom prst="line">
            <a:avLst/>
          </a:prstGeom>
          <a:ln cap="sq" w="28440">
            <a:solidFill>
              <a:srgbClr val="00cc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54864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           6               9          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4648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emplo: [4, 9]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[6, 12] = [ 6, 9 ]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5486400"/>
            <a:ext cx="1295640" cy="0"/>
          </a:xfrm>
          <a:prstGeom prst="line">
            <a:avLst/>
          </a:prstGeom>
          <a:ln cap="sq"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erações com intervalos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º) Diferença  de Intervalos: (a, b)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c, d) = (a, c)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990720"/>
            <a:ext cx="88851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514600"/>
            <a:ext cx="88851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2209680"/>
            <a:ext cx="44197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2666880"/>
            <a:ext cx="5257800" cy="0"/>
          </a:xfrm>
          <a:prstGeom prst="line">
            <a:avLst/>
          </a:prstGeom>
          <a:ln cap="sq" w="12600">
            <a:solidFill>
              <a:srgbClr val="00cc99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2209680"/>
            <a:ext cx="0" cy="16002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43200" y="2666880"/>
            <a:ext cx="0" cy="1143000"/>
          </a:xfrm>
          <a:prstGeom prst="line">
            <a:avLst/>
          </a:prstGeom>
          <a:ln cap="rnd" w="12600">
            <a:solidFill>
              <a:srgbClr val="ff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3886200"/>
            <a:ext cx="1828800" cy="0"/>
          </a:xfrm>
          <a:prstGeom prst="line">
            <a:avLst/>
          </a:prstGeom>
          <a:ln cap="sq" w="19080">
            <a:solidFill>
              <a:srgbClr val="ff33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2286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                                                   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27432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                                                              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3962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                   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05120" y="5486400"/>
            <a:ext cx="228600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5486400"/>
            <a:ext cx="2286000" cy="0"/>
          </a:xfrm>
          <a:prstGeom prst="line">
            <a:avLst/>
          </a:prstGeom>
          <a:ln cap="sq" w="28440">
            <a:solidFill>
              <a:srgbClr val="00cc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54864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           6               9          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4648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emplo: [4, 9]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[6, 12] = [ 4, 6 ]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5486400"/>
            <a:ext cx="990360" cy="0"/>
          </a:xfrm>
          <a:prstGeom prst="line">
            <a:avLst/>
          </a:prstGeom>
          <a:ln cap="sq"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gradeço a atençã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ra sua melhor aprendizagem, faça as atividades propostas abaix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) Dados os intervalo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= [-6, 0] ,   B = [-2, 4]   e  C = [-3, 2]    D = ( 0, 3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lcule e represente por descrição , notação e na re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)A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B =                       b) A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C =        c) B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C =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) B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C =                      e)  C 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 =       d)  B 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D =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8480" y="6091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ense!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7680" y="16761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sidere as seguintes afirmaçõ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 tempo entre um período de aula e outr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 tempo entre uma badalada de sino e outr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 espaço entre as fendas  de uma grad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 espaço de tempo entre duas época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 espaço de tempo entre duas oscilações sonor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distância entre dois pont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 que se poderia dizer quanto as afirmaçõe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sposta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das as afirmações nos dão a idéia subjetiva de interval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partir delas vamos estudar Intervalos Numéricos, os quais serão estudados no Conjunto dos Números Reais (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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tervalos Numéric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rvalos Numéricos são subconjuntos do conjunto dos números  reais (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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emplo:Considere a reta dos números Rea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038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4362480"/>
            <a:ext cx="6858000" cy="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43434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4    -3    -2   -1    0     1    2     3   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0060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49528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distância entre dois pontos quaisquer sobre a reta real  representa um intervalo numérico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6480" y="436716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8480" y="62064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presentações dos Intervalos Numéric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sidere a reta dos números Rea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666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4440" y="3005280"/>
            <a:ext cx="6858000" cy="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4840" y="3005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4    -3    -2   -1    0     1    2     3   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9625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14560" y="3011400"/>
            <a:ext cx="1513080" cy="0"/>
          </a:xfrm>
          <a:prstGeom prst="line">
            <a:avLst/>
          </a:prstGeom>
          <a:ln cap="sq"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3429000"/>
            <a:ext cx="8915400" cy="33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) Por descrição: { x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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2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) Por notação: [ -1, 2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) Na reta real:                    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 no final da reta usa-se ponto fecha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 aberto, de acordo com o tipo de intervalo)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Observação: as notações podem ser [a, b] para intervalo fechado 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(a, b) para intervalo aberto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Usa-se colchetes ou parênteses respectivamente para fechado ou aberto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2390760" y="4673520"/>
            <a:ext cx="1523880" cy="0"/>
          </a:xfrm>
          <a:prstGeom prst="line">
            <a:avLst/>
          </a:prstGeom>
          <a:ln cap="sq" w="12600">
            <a:solidFill>
              <a:srgbClr val="ff33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24000" y="4653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1              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ipos de Intervalos Numéric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) Intervalo fechado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666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4440" y="3005280"/>
            <a:ext cx="6858000" cy="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4840" y="3005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4    -3    -2   -1    0     1    2     3   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9625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009960"/>
            <a:ext cx="1512720" cy="0"/>
          </a:xfrm>
          <a:prstGeom prst="line">
            <a:avLst/>
          </a:prstGeom>
          <a:ln cap="sq" w="190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657600"/>
            <a:ext cx="845820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r descrição: { x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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2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x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1}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r notação: [ -2, 1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 reta real: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514600" y="5105520"/>
            <a:ext cx="1523880" cy="0"/>
          </a:xfrm>
          <a:prstGeom prst="line">
            <a:avLst/>
          </a:prstGeom>
          <a:ln cap="sq" w="12600">
            <a:solidFill>
              <a:srgbClr val="ff33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2                 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6292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8480" y="1447920"/>
            <a:ext cx="8885160" cy="10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) Intervalo aberto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2666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4440" y="3005280"/>
            <a:ext cx="6858000" cy="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4840" y="3005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4    -3    -2   -1    0     1    2     3   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39625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3009960"/>
            <a:ext cx="1512720" cy="0"/>
          </a:xfrm>
          <a:prstGeom prst="line">
            <a:avLst/>
          </a:prstGeom>
          <a:ln cap="sq"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657600"/>
            <a:ext cx="845820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r descrição: { x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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2 &lt; x &lt; 1}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r notação: (-2, 1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 reta real: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2514600" y="5105520"/>
            <a:ext cx="1523880" cy="0"/>
          </a:xfrm>
          <a:prstGeom prst="line">
            <a:avLst/>
          </a:prstGeom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2                 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292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8006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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4800" y="274320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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8480" y="1447920"/>
            <a:ext cx="8885160" cy="10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) Intervalo Semi Aberto à esquerd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2666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440" y="3005280"/>
            <a:ext cx="6858000" cy="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4840" y="3005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4    -3   -2   -1    0     1    2     3   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39625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3009960"/>
            <a:ext cx="1512720" cy="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657600"/>
            <a:ext cx="845820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r descrição: { x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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2 &lt; x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1}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r notação: (-2, 1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 reta real: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2743200" y="5029200"/>
            <a:ext cx="1523880" cy="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5105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2                   1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6292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48006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4800" y="2743200"/>
            <a:ext cx="17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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8480" y="1447920"/>
            <a:ext cx="8885160" cy="10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) Intervalo Semi Aberto à direit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666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4440" y="3005280"/>
            <a:ext cx="6858000" cy="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4840" y="3005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4    -3   -2   -1    0     1    2     3   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39625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3009960"/>
            <a:ext cx="1512720" cy="0"/>
          </a:xfrm>
          <a:prstGeom prst="line">
            <a:avLst/>
          </a:prstGeom>
          <a:ln cap="sq" w="19080">
            <a:solidFill>
              <a:srgbClr val="ff3300"/>
            </a:solidFill>
            <a:miter/>
            <a:head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3657600"/>
            <a:ext cx="845820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r descrição: { x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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2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x &lt; 1}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r notação: [-2, 1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 reta real: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2514600" y="5105520"/>
            <a:ext cx="1523880" cy="0"/>
          </a:xfrm>
          <a:prstGeom prst="line">
            <a:avLst/>
          </a:prstGeom>
          <a:ln cap="sq" w="12600">
            <a:solidFill>
              <a:srgbClr val="ff3300"/>
            </a:solidFill>
            <a:miter/>
            <a:head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5181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2                   1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6292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48769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Wingdings 2"/>
                <a:ea typeface="Wingdings 2"/>
              </a:rPr>
              <a:t>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2160" y="27432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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20:03:43Z</dcterms:created>
  <dc:creator>BORGES</dc:creator>
  <dc:description/>
  <dc:language>en-US</dc:language>
  <cp:lastModifiedBy>User</cp:lastModifiedBy>
  <dcterms:modified xsi:type="dcterms:W3CDTF">2005-08-23T14:21:18Z</dcterms:modified>
  <cp:revision>13</cp:revision>
  <dc:subject/>
  <dc:title>Estudo dos Intervalos</dc:title>
</cp:coreProperties>
</file>