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7.png" ContentType="image/png"/>
  <Override PartName="/ppt/media/image4.gif" ContentType="image/gif"/>
  <Override PartName="/ppt/media/image8.png" ContentType="image/png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3EC4-9750-4F65-8408-F032F6F13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F11C-17A4-4B9D-8C58-DBB45E9C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14F1-CAD8-481F-9274-473755755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5876-6B7B-47B8-B2CD-E2F8A7B2A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ABD78-3112-4FB2-824F-942DC93C2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074B-3DF1-4739-B713-87002A69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17056-C660-4103-8AEA-67585EEE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A2CF-258B-416B-A1D1-3A247E24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92FB-EC04-4C67-A544-CB449501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2732-6362-4048-BCDC-78804404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EAAAC-E9BB-4C1B-9BD3-4FE6B78A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C600-F31B-477E-999C-3EC45705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164C-447A-4D12-9070-F660A6DB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C8ED-13CD-47A0-A49B-DF850959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DE97-B745-4813-880F-DF851DBC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C9A2-DD5B-4178-AC6C-957973E4F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6C98-3C0B-4E11-AAAC-6478AD12D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C070-2176-464E-A062-D0DCA0A9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167E-F524-4A67-A30D-8FD16F1F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85BF-8D9D-42E5-B47F-D970C15B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41B1-E259-476B-A0DD-A3E60D34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A79E-CF49-4315-88ED-307831E9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268F-B071-4F25-BADC-14588B97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F388-C95B-40C1-BB35-95E74CA4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B664-68A9-4B5C-B2B9-120893CEB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7621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504960" y="6248520"/>
            <a:ext cx="3276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73915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29BD-BB10-4747-845D-EF4665231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5099400" y="6061680"/>
            <a:ext cx="1638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733560" y="456840"/>
            <a:ext cx="4647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A HISTÓRIA DA</a:t>
            </a:r>
            <a:r>
              <a:rPr b="1" i="1" lang="en-US" sz="40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5181480"/>
            <a:ext cx="60199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cnologia em Processamento de 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sciplina de Matemá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urilo Mas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º LD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equals" descr=""/>
          <p:cNvPicPr/>
          <p:nvPr/>
        </p:nvPicPr>
        <p:blipFill>
          <a:blip r:embed="rId1"/>
          <a:stretch/>
        </p:blipFill>
        <p:spPr>
          <a:xfrm>
            <a:off x="2133720" y="380880"/>
            <a:ext cx="963360" cy="762120"/>
          </a:xfrm>
          <a:prstGeom prst="rect">
            <a:avLst/>
          </a:prstGeom>
          <a:ln w="0">
            <a:noFill/>
          </a:ln>
        </p:spPr>
      </p:pic>
      <p:pic>
        <p:nvPicPr>
          <p:cNvPr id="85" name="minus" descr=""/>
          <p:cNvPicPr/>
          <p:nvPr/>
        </p:nvPicPr>
        <p:blipFill>
          <a:blip r:embed="rId2"/>
          <a:stretch/>
        </p:blipFill>
        <p:spPr>
          <a:xfrm>
            <a:off x="8610480" y="609480"/>
            <a:ext cx="1128960" cy="703440"/>
          </a:xfrm>
          <a:prstGeom prst="rect">
            <a:avLst/>
          </a:prstGeom>
          <a:ln w="0">
            <a:noFill/>
          </a:ln>
        </p:spPr>
      </p:pic>
      <p:pic>
        <p:nvPicPr>
          <p:cNvPr id="86" name="pl" descr=""/>
          <p:cNvPicPr/>
          <p:nvPr/>
        </p:nvPicPr>
        <p:blipFill>
          <a:blip r:embed="rId3"/>
          <a:stretch/>
        </p:blipFill>
        <p:spPr>
          <a:xfrm>
            <a:off x="685800" y="2286000"/>
            <a:ext cx="82548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times" descr=""/>
          <p:cNvPicPr/>
          <p:nvPr/>
        </p:nvPicPr>
        <p:blipFill>
          <a:blip r:embed="rId4"/>
          <a:stretch/>
        </p:blipFill>
        <p:spPr>
          <a:xfrm>
            <a:off x="8991720" y="3962520"/>
            <a:ext cx="1071360" cy="788760"/>
          </a:xfrm>
          <a:prstGeom prst="rect">
            <a:avLst/>
          </a:prstGeom>
          <a:ln w="0">
            <a:noFill/>
          </a:ln>
        </p:spPr>
      </p:pic>
      <p:pic>
        <p:nvPicPr>
          <p:cNvPr id="88" name="prtnge" descr=""/>
          <p:cNvPicPr/>
          <p:nvPr/>
        </p:nvPicPr>
        <p:blipFill>
          <a:blip r:embed="rId5"/>
          <a:stretch/>
        </p:blipFill>
        <p:spPr>
          <a:xfrm>
            <a:off x="1752480" y="5257800"/>
            <a:ext cx="74952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div" descr=""/>
          <p:cNvPicPr/>
          <p:nvPr/>
        </p:nvPicPr>
        <p:blipFill>
          <a:blip r:embed="rId6"/>
          <a:stretch/>
        </p:blipFill>
        <p:spPr>
          <a:xfrm>
            <a:off x="7696080" y="1752480"/>
            <a:ext cx="773280" cy="981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831680" y="1981080"/>
            <a:ext cx="5301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00"/>
                </a:solidFill>
                <a:latin typeface="Arial"/>
              </a:rPr>
              <a:t>MATEMÁTIC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0800" y="3962520"/>
            <a:ext cx="561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E SUAS INFLUÊNC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6840" y="2437920"/>
            <a:ext cx="94489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Ára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ma de Numeração escrita do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ind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ação, na Trigonometria, o seno e a tang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4280" y="762120"/>
            <a:ext cx="673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História dentre os po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71120" y="2590920"/>
            <a:ext cx="874404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c. V e II a.C. </a:t>
            </a:r>
            <a:r>
              <a:rPr b="0" lang="pt-BR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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Teoria das Razões e das Progress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ício da Idade Média </a:t>
            </a:r>
            <a:r>
              <a:rPr b="0" lang="pt-BR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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Paralisação da matemática teó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7440" y="762120"/>
            <a:ext cx="539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História pelo temp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71120" y="2895480"/>
            <a:ext cx="87440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enascenç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os métodos matemáticos surgi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71680" y="990720"/>
            <a:ext cx="539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História pelo temp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71120" y="1447920"/>
            <a:ext cx="8744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Arial"/>
              </a:rPr>
              <a:t>Originou-se na Gré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mathematik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” em gr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thematica” em lat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Arial"/>
              </a:rPr>
              <a:t>Sentido g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iência que se ensin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72400" y="457200"/>
            <a:ext cx="509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Origem da Palav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3520" y="2057400"/>
            <a:ext cx="898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cc"/>
                </a:solidFill>
                <a:latin typeface="Verdana"/>
                <a:ea typeface="Times New Roman"/>
              </a:rPr>
              <a:t>Matemá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é o conjunto de disciplinas lógicas que tratam das relações existentes entre grandezas e operações,reúne métodos pelos quais essas relações são dedutíveis de outras conhecidas ou supostas.É,em suma,a ciência das relações de grandeza,ordem,forma,espaço e continu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71320" y="457200"/>
            <a:ext cx="583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onceito Abrang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pções intui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Íntima relação com objetos materiais e com figuras geométr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ciocínio, desligando-se das fig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samento matemático foi caminhando no sentido da abstr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11320" y="609480"/>
            <a:ext cx="288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once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3160" y="18284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máticos modernos exigem muito mais ri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s de demonstração mais rigoro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ógica tradicional de Aristóteles e os métodos da geometria gre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e do pensamento matemátic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1257120" y="5143320"/>
            <a:ext cx="1143000" cy="1067040"/>
          </a:xfrm>
          <a:custGeom>
            <a:avLst/>
            <a:gdLst>
              <a:gd name="textAreaLeft" fmla="*/ 537840 w 1143000"/>
              <a:gd name="textAreaRight" fmla="*/ 966600 w 1143000"/>
              <a:gd name="textAreaTop" fmla="*/ 667080 h 1067040"/>
              <a:gd name="textAreaBottom" fmla="*/ 9025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16835"/>
                </a:moveTo>
                <a:lnTo>
                  <a:pt x="13500" y="16835"/>
                </a:lnTo>
                <a:lnTo>
                  <a:pt x="13500" y="10165"/>
                </a:lnTo>
                <a:lnTo>
                  <a:pt x="10165" y="10165"/>
                </a:lnTo>
                <a:lnTo>
                  <a:pt x="15883" y="0"/>
                </a:lnTo>
                <a:lnTo>
                  <a:pt x="21600" y="10165"/>
                </a:lnTo>
                <a:lnTo>
                  <a:pt x="18265" y="10165"/>
                </a:lnTo>
                <a:lnTo>
                  <a:pt x="1826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53760" y="457200"/>
            <a:ext cx="366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Modernid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Arial"/>
              </a:rPr>
              <a:t>Muitos dos mestres matemáticos da história também são físicos, ou astrônom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Arial"/>
              </a:rPr>
              <a:t>Dois matemáticos importan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ales de Mil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laise Pas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95120" y="762120"/>
            <a:ext cx="434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MATEMÁ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6840" y="2133720"/>
            <a:ext cx="937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temático e filósofo gr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ua história </a:t>
            </a:r>
            <a:r>
              <a:rPr b="0" lang="pt-BR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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uma incógn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624 a.C. em Mileto, Ásia Menor (agora Turquia)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547 a.C. também em Milet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609480"/>
            <a:ext cx="52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TALES DE MILE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676160"/>
            <a:ext cx="9601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primeira medida exata do tempo pelo </a:t>
            </a:r>
            <a:r>
              <a:rPr b="0" i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gnô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construção de parapegmas (calendários astronômicos ou náuticos enriquecidos com indicações meteorológicas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edize o eclipse do Sol de 585 a.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nhecimentos de Astronomia e Matemática aprendendo Geometria no Egi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77720"/>
            <a:ext cx="60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TALES DE MILETO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(co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71480" y="2209320"/>
            <a:ext cx="9058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ovos anti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ão utilizavam apenas propriedades geométr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ras próp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8160" y="609480"/>
            <a:ext cx="340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Antiguid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6840" y="1676160"/>
            <a:ext cx="9448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 Babilônia, contato com tabelas e instrumentos astronô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ado o primeiro filósofo e o primeiro dos sete sábios, discípulo dos egípcios e caldeus, recebe o título comumente de "primeiro matemático'' verdadeiro, tentando organizar a Geometria de forma dedutiv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"Teorema de Tales" segundo o qual um ângulo inscrito num semicírculo é um ângulo re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477720"/>
            <a:ext cx="60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TALES DE MILETO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(co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937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Outros quatro teoremas fundamentais:</a:t>
            </a:r>
            <a:r>
              <a:rPr b="0" lang="pt-BR" sz="2800" spc="-1" strike="noStrike">
                <a:solidFill>
                  <a:srgbClr val="00cc99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"um circulo é bissectado por um diâmetro''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"os ângulos da base de um triângulo isósceles são iguais"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"os pares de ângulos opostos formados por duas retas que se cortam são iguais",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"se dois triângulos são tais que dois ângulos e um lado são iguais respectivamente a dois ângulos e um lado do outro, então, eles são congruentes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380880"/>
            <a:ext cx="60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TALES DE MILETO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(co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9448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arece provável que conseguiu medir a altura de uma pirâmide do Egito observando o comprimento das sombras no momento em que a sombra de um bastão vertical é igual á sua altu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stre de um grupo de seguidores de suas idéias, chamado "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scola Jáni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''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imeiro homem a que se atribuem descobertas matemáticas especif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380880"/>
            <a:ext cx="60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TALES DE MILETO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(co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6840" y="19047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ilósofo e Matemático FRANCÊ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*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623 em Cler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†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1662 em P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ão estudou Matemática antes dos 15 a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ibição imposta pelo pai matemát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81000" y="609480"/>
            <a:ext cx="468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BLAISE PASC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-360" y="1752480"/>
            <a:ext cx="9791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34920" indent="-477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vido pela curiosidade, começou a trabalhar em Geometria a partir dos 12 anos, chegando mesmo a descobrir, por si, que a soma dos ângulos de um triângulo é igual a dois ângulos ret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4920" indent="0" algn="just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4920" indent="-477720" algn="just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tão o seu pai resignou-se e ofereceu-lhe uma cópia do livro de Euclides.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4920" indent="0" algn="just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4920" indent="-47772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os 14 anos, reuniões d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rsen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28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uitas personalidades important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47280" y="533520"/>
            <a:ext cx="547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BLAISE PASCAL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(co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75960" y="1600200"/>
            <a:ext cx="9753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os 16 anos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ários teoremas de Geometria Projetiva, incluindo o hoje conhecido como "Hexagrama místico" em que demonstra que "se um hexágono estiver inscrito numa cônica, então as intersecções de cada um dos 3 pares de lados opostos são colineares"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nventou a primeir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áquina digital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aos 18 a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amada “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scalinn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ansportava a cabo o processo de adição e subtração, e posteriormente organizou a produção e comercialização destas máquinas de cal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47280" y="533520"/>
            <a:ext cx="547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BLAISE PASCAL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(co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9448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nde obra filosófic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"Pensées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que constitui um conjunto de reflexões pessoais acerca do sofrimento humano e da fé em Deus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m Física destacou-se pelo seu trabalh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"Tratado sobre o equilíbrio dos líquidos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relacionado com a pressão dos fluídos e hidráulica. O princípio de Pascal diz que a pressão em qualquer ponto de um fluido é a mesma, de forma a que a pressão aplicada num ponto é transmitida a todo o volume do contentor. Este é o princípio do macaco e do martelo hidráulicos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47280" y="533520"/>
            <a:ext cx="547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BLAISE PASCAL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(co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satelite" descr=""/>
          <p:cNvPicPr/>
          <p:nvPr/>
        </p:nvPicPr>
        <p:blipFill>
          <a:blip r:embed="rId1"/>
          <a:stretch/>
        </p:blipFill>
        <p:spPr>
          <a:xfrm>
            <a:off x="5029200" y="2743200"/>
            <a:ext cx="4800600" cy="36669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771120" y="2514240"/>
            <a:ext cx="8744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Mundo de hoje </a:t>
            </a:r>
            <a:r>
              <a:rPr b="0" lang="en-US" sz="32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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dependência fundamental da Matem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.ex.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as eletromagnéticas responsáveis pela inform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informação telefônica que liga pontos distantes da Ter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0560" y="533520"/>
            <a:ext cx="5336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MATEMÁTICA </a:t>
            </a:r>
            <a:br>
              <a:rPr sz="4400"/>
            </a:b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O MUNDO A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c" descr=""/>
          <p:cNvPicPr/>
          <p:nvPr/>
        </p:nvPicPr>
        <p:blipFill>
          <a:blip r:embed="rId1"/>
          <a:stretch/>
        </p:blipFill>
        <p:spPr>
          <a:xfrm>
            <a:off x="311040" y="838080"/>
            <a:ext cx="4870440" cy="54864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771120" y="2514240"/>
            <a:ext cx="8744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istência primária descoberta na Matemática. Após tentou-se com sucesso, existência Fís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putação desenvolvida primeiramente por Matemáticos (Von Neuman e A. Tur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 de compactação de imagens obtido através da adaptação de idéias de auto-similaridade de fractais do matemático M. Barns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90560" y="533520"/>
            <a:ext cx="5336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MATEMÁTICA </a:t>
            </a:r>
            <a:br>
              <a:rPr sz="4400"/>
            </a:b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O MUNDO A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6840" y="2209680"/>
            <a:ext cx="9296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 observarmos os livros ou textos de de outras ciências, como por exemplo, Biologia, Economia, Agronomia, Astronomia, Física, Filosofia, Computação, etc, que hoje, são utilizados, e compararmos com aqueles de anos atrás usávamos, vamos perceber estes contém muito mais fórmulas matemáticas e estatísticas do que no pass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7080" y="838080"/>
            <a:ext cx="378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ONCLUS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9448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Babilônios e Assí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or aproximação com essa ci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hecimentos em astrono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ções sistemá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são de circunfe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ções de semelhança de triângu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69960" y="228600"/>
            <a:ext cx="340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Antiguid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937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tendência de todas as ciências é cada vez mais de se "matematizarem" em função do desenvolvimento de Modelos Matemáticos que descrevem os fenômenos naturais de maneira adequ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 aceleramento do desenvolvimento tecnológico dos tempos atuais cria um fenômeno. É cada vez menor o tempo entre o desenvolvimento de uma teoria matemática e sua utilização prática.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77080" y="838080"/>
            <a:ext cx="378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ONCLUS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6840" y="2209680"/>
            <a:ext cx="9448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odemos afirmar, sem sombra de dúvida,  que o uso da Matemática, hoje em dia, é uma condição necessária e indispensável para o sucesso em uma grande quantidade de profissõ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s projeções para o futuro próximo indicam que esta tendência tende a se intensific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23720" y="609480"/>
            <a:ext cx="38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EM RESUM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6840" y="2362320"/>
            <a:ext cx="944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t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www.SoMatemática.com.b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t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http://site.PortalMatemático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 outros tantos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tes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encontrados pelo site de busca Yaho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30440" y="838080"/>
            <a:ext cx="344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Bibliografi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Arial"/>
              </a:rPr>
              <a:t>1793-1759 a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8080"/>
                </a:solidFill>
                <a:latin typeface="Arial"/>
              </a:rPr>
              <a:t>Hamurab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 de numeração e uma geometri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crita cuneiform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decimais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rações sexagesim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20800" y="533520"/>
            <a:ext cx="673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História dentre os po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9525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Eg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m áreas de inúmeras figuras e o volume de vários polied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úmeras regras matemá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riedades dos triâ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lados 3, 4 e 5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iângulo egíp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ção de problemas aritméticos e algéb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20800" y="533520"/>
            <a:ext cx="673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História dentre os po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71120" y="2057040"/>
            <a:ext cx="8744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Ma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Núm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Re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ntos (uma unidade) e barras (cinco unida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a número menor que vinte tinha seu próprio símbolo, figuras semelhantes a cabeças huma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20800" y="533520"/>
            <a:ext cx="673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História dentre os po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320" y="1904760"/>
            <a:ext cx="87440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Arial"/>
              </a:rPr>
              <a:t>Gre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8080"/>
                </a:solidFill>
                <a:latin typeface="Arial"/>
              </a:rPr>
              <a:t>Início da Evolu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8080"/>
                </a:solidFill>
                <a:latin typeface="Arial"/>
              </a:rPr>
              <a:t>Atribuíção de “</a:t>
            </a:r>
            <a:r>
              <a:rPr b="0" i="1" lang="pt-BR" sz="2800" spc="-1" strike="noStrike">
                <a:solidFill>
                  <a:srgbClr val="008080"/>
                </a:solidFill>
                <a:latin typeface="Arial"/>
              </a:rPr>
              <a:t>direitos autorais</a:t>
            </a:r>
            <a:r>
              <a:rPr b="0" lang="pt-BR" sz="2800" spc="-1" strike="noStrike">
                <a:solidFill>
                  <a:srgbClr val="00808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gípcios 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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a origem da geometria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enícios 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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a invenção do cálc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20800" y="533520"/>
            <a:ext cx="673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História dentre os po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6840" y="2743200"/>
            <a:ext cx="94489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Gre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féri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ciência espe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54280" y="1066680"/>
            <a:ext cx="673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História dentre os po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Esfé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Cujo desenvolvime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alexandrinos constituíram a trigonometria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Renascença, os logaritmos foram inven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54280" y="685800"/>
            <a:ext cx="673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História dentre os po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1T17:13:29Z</dcterms:created>
  <dc:creator>Murilo Masson</dc:creator>
  <dc:description/>
  <dc:language>en-US</dc:language>
  <cp:lastModifiedBy>XXX</cp:lastModifiedBy>
  <dcterms:modified xsi:type="dcterms:W3CDTF">2001-03-23T14:06:04Z</dcterms:modified>
  <cp:revision>10</cp:revision>
  <dc:subject/>
  <dc:title>Apresentação do PowerPoint</dc:title>
</cp:coreProperties>
</file>