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2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3F19-0093-44A7-BF92-674626CB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5FD6-7074-49A0-92A4-1CA0C8B0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04E4-D014-439C-BD38-BAD9B53F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DB1-99BC-483E-A13B-DAEDC2FE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A50B-75AF-4A32-AD9F-487C5362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A8E5-C53A-4E92-97F8-177ABC9D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EEFA-C908-45ED-9EAB-2BC0247D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0AC-99F4-4E83-ACC5-1E3B00CB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24D8-5660-44DC-B8AB-3A04DE76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743-76EA-4B76-B4A0-09160308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048F-BAB8-4BDA-B4A5-749F1B52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5C7B-B2F3-4EA9-B0FC-7C209BF7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76AA-E41C-4703-931B-0474F3B4F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50872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Gráfico da Função Quadr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o gráfico de uma função do segundo grau será uma parábola (no 3° ano vocês estudarão esse tipo de figur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processo de criação de gráfico é o mesmo para uma função do 1° grau, difere apenas em relação ao segundo mét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f(x)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516720" y="260280"/>
          <a:ext cx="79524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260280"/>
                    <a:ext cx="79524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57200" y="1600200"/>
          <a:ext cx="1306440" cy="3335400"/>
        </p:xfrm>
        <a:graphic>
          <a:graphicData uri="http://schemas.openxmlformats.org/drawingml/2006/table">
            <a:tbl>
              <a:tblPr/>
              <a:tblGrid>
                <a:gridCol w="654120"/>
                <a:gridCol w="65232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195640" y="1484280"/>
            <a:ext cx="6113160" cy="3973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050920" y="1484280"/>
            <a:ext cx="6336000" cy="4118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f(x)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1522080" cy="3341520"/>
        </p:xfrm>
        <a:graphic>
          <a:graphicData uri="http://schemas.openxmlformats.org/drawingml/2006/table">
            <a:tbl>
              <a:tblPr/>
              <a:tblGrid>
                <a:gridCol w="762120"/>
                <a:gridCol w="759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4581360" y="189000"/>
          <a:ext cx="3159360" cy="99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1360" y="189000"/>
                    <a:ext cx="315936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3"/>
          <a:srcRect l="6335" t="0" r="10128" b="0"/>
          <a:stretch/>
        </p:blipFill>
        <p:spPr>
          <a:xfrm>
            <a:off x="2484360" y="1341360"/>
            <a:ext cx="4969080" cy="4032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rcRect l="9202" t="0" r="19538" b="0"/>
          <a:stretch/>
        </p:blipFill>
        <p:spPr>
          <a:xfrm>
            <a:off x="2484360" y="1330200"/>
            <a:ext cx="5112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ores das constant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26920" y="1413000"/>
          <a:ext cx="6593040" cy="35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13000"/>
                    <a:ext cx="6593040" cy="35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° méto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ar as raízes da fun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valor d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ca o eixo do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ar o vértice da fun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4360" y="1916280"/>
          <a:ext cx="3240000" cy="55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16280"/>
                    <a:ext cx="324000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042920" y="5013360"/>
          <a:ext cx="2265480" cy="10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5013360"/>
                    <a:ext cx="226548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067280" y="2863800"/>
          <a:ext cx="4249800" cy="308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7280" y="2863800"/>
                    <a:ext cx="424980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0T14:20:14Z</dcterms:created>
  <dc:creator>.</dc:creator>
  <dc:description/>
  <dc:language>en-US</dc:language>
  <cp:lastModifiedBy>.</cp:lastModifiedBy>
  <dcterms:modified xsi:type="dcterms:W3CDTF">2006-05-25T21:06:06Z</dcterms:modified>
  <cp:revision>3</cp:revision>
  <dc:subject/>
  <dc:title>Função do 2° grau ou Função Quadrática</dc:title>
</cp:coreProperties>
</file>