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9.png" ContentType="image/png"/>
  <Override PartName="/ppt/media/image42.wmf" ContentType="image/x-wmf"/>
  <Override PartName="/ppt/media/image12.png" ContentType="image/png"/>
  <Override PartName="/ppt/media/image7.wmf" ContentType="image/x-wmf"/>
  <Override PartName="/ppt/media/image39.wmf" ContentType="image/x-wmf"/>
  <Override PartName="/ppt/media/image30.png" ContentType="image/png"/>
  <Override PartName="/ppt/media/image28.png" ContentType="image/png"/>
  <Override PartName="/ppt/media/image13.png" ContentType="image/png"/>
  <Override PartName="/ppt/media/image37.png" ContentType="image/png"/>
  <Override PartName="/ppt/media/image40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1.wmf" ContentType="image/x-wmf"/>
  <Override PartName="/ppt/media/image38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052-E258-47BB-ABD2-EA0E0B29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43C-654C-4BD9-8BA4-BD1914EE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568-F37B-413D-9332-6C6C8B86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37A-EE0C-4690-B33B-1BFE72B3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2F16-2768-47D7-8694-120C0ADB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3C97-E001-4989-9467-447F9600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1990-B1D6-48F2-9EC8-598FCBFD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D239-C73A-413C-87E2-973C4D04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09CB-5B01-4D1D-8681-960A2E12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497A-2634-4A6A-BDEB-00FE8C55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973C-EFBC-4275-923D-030F9A42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0B7-5885-41E3-8887-1479E246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CA50-36CE-4868-84F8-2F6BB9DE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1FE0-32FD-4896-9802-508F9E9D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B307-EA2F-4AB6-813B-B0A0F2FD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6C84-5A4B-4D00-BC0E-B54C8155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F24D-7B4A-4A6F-A09D-10414427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E21-DCFD-4C18-B364-F8B3A7E6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8CA-78C9-436C-B690-A074602E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291-B01B-45F0-8FC9-5C30BB57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1FD-9936-4A30-8C0E-94BCFEFB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716-A377-4E71-A543-82A3ACA3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AA6-F3B4-402B-8D36-FC503829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30E-E17B-46E3-A6E6-C9ECCD2F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techstri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EABF-5960-48B9-8A56-872CC3C3A5B1}" type="slidenum">
              <a:rPr b="0" lang="en-US" sz="1400" spc="-1" strike="noStrike">
                <a:solidFill>
                  <a:srgbClr val="99ccc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techstrip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D2EC-1110-426C-9B0C-F40D5635EF9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231720"/>
            <a:ext cx="7772400" cy="210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MARCUS VINICIUS </a:t>
            </a:r>
            <a:br>
              <a:rPr sz="4400"/>
            </a:b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DE</a:t>
            </a:r>
            <a:br>
              <a:rPr sz="4400"/>
            </a:b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OLIVEIR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880" y="1447920"/>
            <a:ext cx="8458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OMETRIA _x000b_ESPACIAL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DIAGONAL DO ORTOEDR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4920" y="2743200"/>
          <a:ext cx="384804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384804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610160" y="2209680"/>
                <a:ext cx="3809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505320" y="5410080"/>
                <a:ext cx="43750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990720" y="2971800"/>
                <a:ext cx="708660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DIAGONAL DO CUB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62120" y="1981080"/>
          <a:ext cx="380988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38098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194440" y="2700360"/>
                <a:ext cx="3949560" cy="15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5800" y="1828800"/>
                <a:ext cx="7848720" cy="33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PIRÂMI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INE-SE PIRÂMIDE COMO A UNIÃO DE TRÊS OU MAIS PONTOS CONTIDOS EM UM PLANO COM UM PONTO EXTERIOR A ESSE PLAN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2576520"/>
          <a:ext cx="3809880" cy="29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76520"/>
                    <a:ext cx="38098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ELEMENTOS DA PIRÂMI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676520" y="1600200"/>
          <a:ext cx="61722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0200"/>
                    <a:ext cx="61722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NOMECLATUR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3333ff"/>
                          </a:solidFill>
                          <a:uFillTx/>
                          <a:latin typeface="Arial Narrow"/>
                        </a:rPr>
                        <a:t>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3333ff"/>
                          </a:solidFill>
                          <a:uFillTx/>
                          <a:latin typeface="Arial Narrow"/>
                        </a:rPr>
                        <a:t>N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iâng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ia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uadr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uadra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ntágo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ntag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exágo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exag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PIRÂMIDE REGULA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É UMA PIRÂMIDE CUJA PROJEÇÃO DO VÉRTICE SOBRE A BASE COINCIDE COM O SEU CENTRO E QUE A BASE É UM POLÍGONO REGULAR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85800" y="2406600"/>
          <a:ext cx="38098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06600"/>
                    <a:ext cx="38098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APÓTEMA DE UMA PIRÂMIDE REGULA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65200" y="2101680"/>
          <a:ext cx="393048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2101680"/>
                    <a:ext cx="393048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 APÓTEMA DA BASE É O APÓTEMA DO POLÍGONO REGULAR DA BA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 APÓTEMA DA PIRÂMIDE É A ALTURA DO TRIÂNGULO ISÓCELES FORMADO NA FACE LATERA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ÁREA DE UMA PIRÂMI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ÁREA TOTAL DE UMA PIRÂMIDE É DADA PELA SOMA DAS ÁREAS DAS FACES LATERAIS COM A ÁREA DA BAS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4495680" cy="2873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ODOS OS DIREITOS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RESERVADO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O PRODUTOR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MARCUS VINICIUS DE OLIVEIR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VOLUME DE UMA PIRÂMI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 VOLUME DE UMA PIRÂMIDE É DADO PELA ÁREA DA BASE MULTIPLICADO PELA ALTURA E DIVIDIDO POR 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5800" y="2865600"/>
          <a:ext cx="3809880" cy="23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65600"/>
                    <a:ext cx="3809880" cy="23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SECÇÃO TRANSVERSA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286000" y="2079720"/>
          <a:ext cx="45720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079720"/>
                    <a:ext cx="45720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TRONCO DE PIRÂMI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1828800"/>
          <a:ext cx="549144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49144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VOLUME DO TRONC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62120" y="2133720"/>
                <a:ext cx="746748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</m:e>
                    </m:rad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33520" y="4572000"/>
                <a:ext cx="55432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REA DA BASE MAI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ÁREA DA BASE MEN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TETRAEDR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4772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62120" y="1143000"/>
                <a:ext cx="7696080" cy="33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É UM SÓLIDO QUE POSSUI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UATRO FACES LATERA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DO POR CONSEQUÊNCI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M PIRÂMIDE TRIANGULA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TETRAEDRO REGULA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666880" y="1828800"/>
          <a:ext cx="342900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828800"/>
                    <a:ext cx="342900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828800" y="5119560"/>
                <a:ext cx="5340240" cy="17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É UM TETRAEDRO FORMAD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IÂNGULOS EQUILÁTER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ALTURA DO TETRAEDRO REGULA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5800" y="2166840"/>
          <a:ext cx="380988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66840"/>
                    <a:ext cx="38098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8320" y="2716200"/>
                <a:ext cx="380988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ÁREA DO TETRAEDRO REGULA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600200" y="2133720"/>
                <a:ext cx="6019920" cy="41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ÁREA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CAD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IÂNGULO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ULTIPLICANDO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rPr>
                            <m:lit/>
                            <m:nor/>
                          </m:rPr>
                          <m:t xml:space="preserve"> POR 4: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CILINDR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80880" y="2597040"/>
          <a:ext cx="4114800" cy="31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7040"/>
                    <a:ext cx="411480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DOS DOIS PLANOS E DUAS CIRCUNFERÊNCIAS IDÊNTICAS CONTIDA NELES, CHAMA-SE CILINDRO A UNIÃO DE TODOS OS PONTOS PERTENCENTES ÀS CIRCUNFERÊNCIA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É NA REALIDADE PRISMA COM BASE CIRCUL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INTRODUÇÃO AO CONCEITO DE PRISMA</a:t>
            </a: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2576520"/>
          <a:ext cx="3809880" cy="29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76520"/>
                    <a:ext cx="38098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DO UM POLÍGONO SITUADO EM UM PLANO, É CHAMADO PRISMA O SÓLIDO FORMADO PELA PROJEÇÃO DESTE POLÍGONO EM OUTRO PLANO PARALELO, COM A UNIÃO DE TODOS OS PONT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ELEMENTOS DO CILINDR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143000" y="1600200"/>
          <a:ext cx="6477120" cy="48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4771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CILINDRO CIRCULAR RET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2057400"/>
          <a:ext cx="310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310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886200" y="2895480"/>
                <a:ext cx="476244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É O CILINDRO EM QUE O EIXO É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PENDICUL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À B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CILINDRO EQUILÁTER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1981080"/>
          <a:ext cx="3013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013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038480" y="3048120"/>
                <a:ext cx="47116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É O CILINDRO EM QU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 GERATRIZES SÃ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GUAIS AO DIÂMETR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S BAS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VOLUME DE UM CILINDR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063800" y="1981080"/>
          <a:ext cx="3052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981080"/>
                    <a:ext cx="3052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419720" y="2743200"/>
                <a:ext cx="431784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ÁREA DE UM CILINDR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62120" y="2133720"/>
          <a:ext cx="3052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3052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495680" y="2209680"/>
                <a:ext cx="3759480" cy="32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CON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5800" y="2479680"/>
          <a:ext cx="3809880" cy="31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79680"/>
                    <a:ext cx="380988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NOMINA-SE CONE CIRCULAR A UNIÃO DE TODOS OS SEGMENTOS QUE UNEM UMA CIRCUNFERÊNCIA CONTIDA EM UM PLANO E UM PONTO NÃO PERTENCENTE A ESSE PLAN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ELEMENTOS DO CON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209680" y="2057400"/>
          <a:ext cx="48006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8006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CONE CIRCULAR RET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914400" y="1981080"/>
          <a:ext cx="2897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2897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038480" y="3048120"/>
                <a:ext cx="47246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É O CONE EM QUE O EIX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É PERPENDICULAR À B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CONE EQUILÁTER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33520" y="2209680"/>
          <a:ext cx="309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309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267080" y="2819520"/>
                <a:ext cx="4508640" cy="24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É O CONE EM QUE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RATRIZ É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GRUENT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O DIÂMETRO DA B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VOLUME DO CON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27200" y="1981080"/>
          <a:ext cx="3725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1981080"/>
                    <a:ext cx="3725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952880" y="2971800"/>
                <a:ext cx="3613320" cy="17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ELEMENTOS DO PRISM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47920" y="1706400"/>
          <a:ext cx="5153040" cy="51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06400"/>
                    <a:ext cx="51530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ÁREA DO CON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819520" y="2209680"/>
          <a:ext cx="31827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209680"/>
                    <a:ext cx="31827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ÁREA DO CON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981080" y="2286000"/>
          <a:ext cx="502920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0"/>
                    <a:ext cx="502920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209680" y="609480"/>
                <a:ext cx="5159520" cy="563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R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IR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π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TRONCO DE CON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752480" y="1676520"/>
          <a:ext cx="5410440" cy="49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5410440" cy="49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219320" y="1905120"/>
                <a:ext cx="7924680" cy="36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ANDE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NOR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ONC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ESFER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027080" y="1981080"/>
          <a:ext cx="3125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981080"/>
                    <a:ext cx="3125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É A UNIÃO DE TODOS OS PONTOS DO ESPAÇO EM QUE A DISTÂNCIA AO CENTRO DADO É A MESMA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ÁREA DA ESFER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85800" y="2038320"/>
          <a:ext cx="380988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38320"/>
                    <a:ext cx="380988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ERIMENTALMENTE, PODE-SE CONSTATAR QUE UMA ESFERA TEM O EXATO PESO DE QUATRO CÍRCULOS CUJO RAIO É O MESMO QUE GEROU A ESFERA. SENDO DO MESMO MATERIA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5800" y="2286000"/>
                <a:ext cx="740412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FER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VOLUME DA ESFER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685800" y="2043000"/>
          <a:ext cx="380988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43000"/>
                    <a:ext cx="380988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648320" y="3340080"/>
                <a:ext cx="380988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UM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POLIEDRO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É UM SÓLIDO LIMITADO POR POLÍGONOS, QUE TEM, DOIS A DOIS, UM LADO COMU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4114800" cy="2630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CLASSIFICAÇÃO DE UM PRISMA : PRISMA RET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32160" y="1981080"/>
            <a:ext cx="399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ESTAS LATERAIS PERPENDICULARES À BA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2362320"/>
          <a:ext cx="449568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449568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POLIEDROS REGULARE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M POLIEDRO É REGULAR QUANDO TODOS OS SEUS LADOS SÃO CONGRUENTES E TODOS OS SEUS ÂNGULOS SÃO CONGRUENT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6400800" cy="4089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-1295280" y="-914400"/>
            <a:ext cx="11406240" cy="7291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TEOREMA DE EULLE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 : VÉRTI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: AREST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: FACES LATERAI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85800" y="3646440"/>
                <a:ext cx="3809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-1143000" y="380880"/>
            <a:ext cx="7520040" cy="48070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7520040" cy="480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219320" y="5486400"/>
                <a:ext cx="46479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CTAEDRO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7520040" cy="480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38280" y="5410080"/>
                <a:ext cx="251460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BO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895480" y="990720"/>
                <a:ext cx="3378240" cy="23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ÉRTICES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STA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ACES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295280" y="3352680"/>
                <a:ext cx="7848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RAVÉS DO TEPREMA DE EULLER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514600" y="4343400"/>
                <a:ext cx="3809880" cy="19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8-1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POLIEDROS DE PLATÃ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M POLIEDRO DE PLATÃO DEVE TER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DAS AS FACES COM O MESMO NÚMERO DE AREST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S VÉRTICES PARTA O MESMO NÚMERO DE ARESTA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95680" cy="287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04920" y="5562720"/>
                <a:ext cx="4190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COSAEDRO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SOMA DOS ÂNGULOS DAS FACES DE UM POLIEDRO CONVEX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600200" y="3505320"/>
                <a:ext cx="69343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PRISMA REGULA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É UM PRISMA RETO E OS POLÍGONOS DAS BASES SÃO POLÍGONOS REGULA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: CUB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80880" y="1981080"/>
          <a:ext cx="381024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38102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ÁREA DE UM PRISM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ÁREA DE UM PRISMA É DADA PELO DOBRO DA ÁREA DA BASE SOMADA À SOMA DAS ÁREAS DAS FACES LATERA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2820960"/>
            <a:ext cx="4190760" cy="2678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VOLUME DE UM PRISM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 VOLUME DE UM PRISMA É DADO PELA ÁREA DA BASE MULTIPLICADO PELA ALTUR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2576520"/>
          <a:ext cx="3809880" cy="29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76520"/>
                    <a:ext cx="38098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Impact"/>
              </a:rPr>
              <a:t>PRISMA OBLÍQU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 ARESTAS LATERAIS NÃO SÃO PERPENDICULARES À BA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85800" y="2635200"/>
          <a:ext cx="3809880" cy="28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35200"/>
                    <a:ext cx="3809880" cy="28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5-02-27T20:49:10Z</dcterms:modified>
  <cp:revision>12</cp:revision>
  <dc:subject/>
  <dc:title>MARCUS VINICIUS  DE OLIVEIRA</dc:title>
</cp:coreProperties>
</file>