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CBF-2415-43DB-B53D-D3CDA138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2B4-70E2-4937-9047-B133AB4A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A7B-78F0-40CE-B36C-D5A05443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0DA-4729-406A-A604-ADF8A99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9C98-5922-455A-BC44-04C79668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D5E3-0151-4FA1-9AFE-512708E4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B25B-E9AD-4436-8F31-0635089A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CC49-F4AC-44FC-AB5F-D33F5CB7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53B5-612E-4DD7-BC50-30253398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AA7-FB24-4068-93D6-DB2885FC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218-AF6A-4570-90E8-5C867A7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0A4-7A8C-4764-B795-491BC5D8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D222-A870-42E6-A575-949C8CF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29A-8DF9-43EC-8505-576B05D5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BFD4-B2F9-41B8-92D9-5474C378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5DB-9844-4867-A791-B77C5DE8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11B7-B863-426E-B6C1-CCD8F706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864-74DE-4E2F-8225-5D33C3DE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00E-5660-4186-8F24-CD02542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555-2C4F-46CA-95B2-810C0FB3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515-C4FE-44BE-B614-CACB4F57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4A8-16EC-424A-B476-9BCA354C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826-6C01-4108-89D1-D1CFF91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616-E9B1-4034-A184-26A9A2D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8D4-507A-4433-9AB1-ADDE30061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1199-B1B0-476D-91CD-10E0D4D16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12156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NÇÃO LINEA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m ponto como a, b é sempre colocado entre parênteses e separado por ( , ) o que forma o par ordenado e que representam as coordenadas do ponto P . O par ordenado é sempre nesta ordem P (x, 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 tempo depende do número de voltas. O número de voltas é independente (isso nessa experiênc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função é crescente, quanto mais voltas irá dar mais tempo vai levar. Ou seja quanto mais o valor de x aumenta mais aumenta o valor de y (isso nessa experiência)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reta da função crescente forma um ângulo menor que 90° com o eixo x. ( a &gt; 0, então: a é positivo, sendo assim o ângulo de declividade da reta agu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s.: O ângulo que se olha é no sentido anti-horário do eixo x para a reta.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590920" y="198108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32385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255276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286000"/>
            <a:ext cx="23619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or que 90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sc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1120" y="3011400"/>
            <a:ext cx="1220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48" y="73"/>
                </a:moveTo>
                <a:arcTo wR="10800" hR="10800" stAng="-5799543" swAng="5799543"/>
                <a:lnTo>
                  <a:pt x="10800" y="10800"/>
                </a:lnTo>
                <a:close/>
              </a:path>
              <a:path fill="none" w="21600" h="21600">
                <a:moveTo>
                  <a:pt x="9548" y="73"/>
                </a:moveTo>
                <a:arcTo wR="10800" hR="10800" stAng="-5799543" swAng="579954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1752480"/>
            <a:ext cx="533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9092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5372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502884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3040" y="5257800"/>
            <a:ext cx="1519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038480"/>
            <a:ext cx="19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or que 90 º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sc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3998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ara cada valor de x existe um e somente um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É uma função linear: definida por f (x) = 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todo x  E  R e a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= coeficiente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A figura do gráfico é uma reta (pois o expoente de x é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mpre que não tiver b a reta intercepta no ponto ( 0, 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conjunto dos primeiros números dos pares ordenados de uma relação é chamado domínio (x), e o conjunto dos segundos números dos pares ordenados de uma relação é chamado imagem (y). Ou melhor, os elementos do domínio são localizados no eixo x e os da imagem no eixo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762120"/>
            <a:ext cx="64008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o foi feito na tu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ravés do pedido da professora Maria Madalena Dullius, formamos duplas, sendo que cada grupo recebeu um tipo de função, e então tivemos a tarefa de inventar um experimento, para depois apresentar para os demais da tur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assim, obtemos variadas experiências, que um dia quando professoras podemos aplicar com nossos alu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lho realizado na disciplina de Matemática Aplicada, na UNIVATES, Lajeado – 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828800"/>
            <a:ext cx="7086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00"/>
                </a:solidFill>
                <a:latin typeface="Lucida Handwrit"/>
              </a:rPr>
              <a:t>Experimento   inventado por: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3300"/>
                </a:solidFill>
                <a:latin typeface="Lucida Handwrit"/>
              </a:rPr>
              <a:t>Alice Ahlert</a:t>
            </a:r>
            <a:br>
              <a:rPr sz="3600"/>
            </a:br>
            <a:r>
              <a:rPr b="0" lang="pt-BR" sz="3600" spc="-1" strike="noStrike">
                <a:solidFill>
                  <a:srgbClr val="003300"/>
                </a:solidFill>
                <a:latin typeface="Lucida Handwrit"/>
              </a:rPr>
              <a:t>Vanessa Paula Reginatto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xperiência: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ter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* Ferrorama (brinquedo com um t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* Cronôme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7092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00"/>
                </a:solidFill>
                <a:latin typeface="Comic Sans MS"/>
              </a:rPr>
              <a:t>Procedimento: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00"/>
                </a:solidFill>
                <a:latin typeface="Comic Sans MS"/>
              </a:rPr>
              <a:t>1º) Montar o ferrora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743200"/>
            <a:ext cx="3505320" cy="1371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971800"/>
            <a:ext cx="2819160" cy="9144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114800"/>
            <a:ext cx="76320" cy="1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772080"/>
            <a:ext cx="7632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4419720"/>
            <a:ext cx="1447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nto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419720"/>
            <a:ext cx="380880" cy="228600"/>
          </a:xfrm>
          <a:custGeom>
            <a:avLst/>
            <a:gdLst>
              <a:gd name="textAreaLeft" fmla="*/ 66600 w 380880"/>
              <a:gd name="textAreaRight" fmla="*/ 27612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809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1120" y="2819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09720" y="3048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34290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37339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90560" y="3733920"/>
            <a:ext cx="15228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361960" y="3581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564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56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4952880"/>
          <a:ext cx="25048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952880"/>
                    <a:ext cx="25048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00400" y="5638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erro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93480"/>
            <a:ext cx="74674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2°) Do ponto inicial soltar o trem, e após observar com o cronômetro em quanto tempo o trem faz uma volta. E em seguida observar e anotar quanto tempo leva para o trem fazer 2, 3, 4, 5... voltas.</a:t>
            </a:r>
            <a:br>
              <a:rPr sz="2000"/>
            </a:br>
            <a:r>
              <a:rPr b="0" lang="en-US" sz="4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6880" y="2286000"/>
            <a:ext cx="3124080" cy="4038480"/>
            <a:chOff x="2666880" y="2286000"/>
            <a:chExt cx="3124080" cy="4038480"/>
          </a:xfrm>
        </p:grpSpPr>
        <p:grpSp>
          <p:nvGrpSpPr>
            <p:cNvPr id="124" name=""/>
            <p:cNvGrpSpPr/>
            <p:nvPr/>
          </p:nvGrpSpPr>
          <p:grpSpPr>
            <a:xfrm>
              <a:off x="2673000" y="2289960"/>
              <a:ext cx="3110400" cy="4029480"/>
              <a:chOff x="2673000" y="2289960"/>
              <a:chExt cx="3110400" cy="4029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673000" y="2289960"/>
                <a:ext cx="1599840" cy="575280"/>
                <a:chOff x="2673000" y="2289960"/>
                <a:chExt cx="1599840" cy="575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732400" y="2289960"/>
                  <a:ext cx="148032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   (volta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73000" y="2289960"/>
                  <a:ext cx="159984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273200" y="2289960"/>
                <a:ext cx="1510200" cy="575280"/>
                <a:chOff x="4273200" y="2289960"/>
                <a:chExt cx="1510200" cy="575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32600" y="2289960"/>
                  <a:ext cx="139068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   (temp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273200" y="2289960"/>
                  <a:ext cx="151020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673000" y="2865240"/>
                <a:ext cx="1599840" cy="575640"/>
                <a:chOff x="2673000" y="2865240"/>
                <a:chExt cx="1599840" cy="5756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732400" y="2865240"/>
                  <a:ext cx="148032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673000" y="2865240"/>
                  <a:ext cx="159984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273200" y="2865240"/>
                <a:ext cx="1510200" cy="575640"/>
                <a:chOff x="4273200" y="2865240"/>
                <a:chExt cx="1510200" cy="5756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332600" y="2865240"/>
                  <a:ext cx="1390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273200" y="2865240"/>
                  <a:ext cx="15102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673000" y="3441240"/>
                <a:ext cx="1599840" cy="575280"/>
                <a:chOff x="2673000" y="3441240"/>
                <a:chExt cx="1599840" cy="5752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732400" y="3441240"/>
                  <a:ext cx="148032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673000" y="3441240"/>
                  <a:ext cx="159984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273200" y="3441240"/>
                <a:ext cx="1510200" cy="575280"/>
                <a:chOff x="4273200" y="3441240"/>
                <a:chExt cx="1510200" cy="575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32600" y="3441240"/>
                  <a:ext cx="139068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3,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73200" y="3441240"/>
                  <a:ext cx="151020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673000" y="4016880"/>
                <a:ext cx="1599840" cy="575640"/>
                <a:chOff x="2673000" y="4016880"/>
                <a:chExt cx="1599840" cy="575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732400" y="4016880"/>
                  <a:ext cx="148032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673000" y="4016880"/>
                  <a:ext cx="159984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273200" y="4016880"/>
                <a:ext cx="1510200" cy="575640"/>
                <a:chOff x="4273200" y="4016880"/>
                <a:chExt cx="1510200" cy="575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332600" y="4016880"/>
                  <a:ext cx="1390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6,5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73200" y="4016880"/>
                  <a:ext cx="15102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673000" y="4592520"/>
                <a:ext cx="1599840" cy="575280"/>
                <a:chOff x="2673000" y="4592520"/>
                <a:chExt cx="1599840" cy="5752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732400" y="4592520"/>
                  <a:ext cx="148032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673000" y="4592520"/>
                  <a:ext cx="159984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273200" y="4592520"/>
                <a:ext cx="1510200" cy="575280"/>
                <a:chOff x="4273200" y="4592520"/>
                <a:chExt cx="1510200" cy="575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332600" y="4592520"/>
                  <a:ext cx="139068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39,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273200" y="4592520"/>
                  <a:ext cx="151020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673000" y="5168160"/>
                <a:ext cx="1599840" cy="575640"/>
                <a:chOff x="2673000" y="5168160"/>
                <a:chExt cx="1599840" cy="5756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32400" y="5168160"/>
                  <a:ext cx="148032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673000" y="5168160"/>
                  <a:ext cx="159984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273200" y="5168160"/>
                <a:ext cx="1510200" cy="575640"/>
                <a:chOff x="4273200" y="5168160"/>
                <a:chExt cx="1510200" cy="575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332600" y="5168160"/>
                  <a:ext cx="139068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53,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273200" y="5168160"/>
                  <a:ext cx="1510200" cy="57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673000" y="5744160"/>
                <a:ext cx="1599840" cy="575280"/>
                <a:chOff x="2673000" y="5744160"/>
                <a:chExt cx="1599840" cy="575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732400" y="5744160"/>
                  <a:ext cx="148032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673000" y="5744160"/>
                  <a:ext cx="159984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273200" y="5744160"/>
                <a:ext cx="1510200" cy="575280"/>
                <a:chOff x="4273200" y="5744160"/>
                <a:chExt cx="1510200" cy="575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332600" y="5744160"/>
                  <a:ext cx="1390680" cy="57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66,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273200" y="5744160"/>
                  <a:ext cx="1510200" cy="57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666880" y="2286000"/>
              <a:ext cx="312408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0800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r>
              <a:rPr b="1" lang="en-US" sz="28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3°: Indicar a lei que expressa a função :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581280"/>
            <a:ext cx="3505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886200"/>
            <a:ext cx="281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(x) = 13,22 .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8362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4°) Fazer o gráfico da função: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1467000"/>
          <a:ext cx="632484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7000"/>
                    <a:ext cx="632484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om isso: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Temos o eixo x ( andar esquerda/ direita ou seja horizontal), também chamado de eixo da abcissas; e o eixo y (sobe e desce ou seja vertical ), também chamado de eixo das orden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048120" y="4266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421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3809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  ord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5257800"/>
            <a:ext cx="198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x    abcis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5108400"/>
            <a:ext cx="4572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48006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536580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952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22:52:36Z</dcterms:created>
  <dc:creator>Alan Rafael Ahlert</dc:creator>
  <dc:description/>
  <dc:language>en-US</dc:language>
  <cp:lastModifiedBy>Alan Rafael Ahlert</cp:lastModifiedBy>
  <dcterms:modified xsi:type="dcterms:W3CDTF">2005-02-18T23:37:30Z</dcterms:modified>
  <cp:revision>16</cp:revision>
  <dc:subject/>
  <dc:title>FUNÇÃO LINEAR</dc:title>
</cp:coreProperties>
</file>