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1220-303D-4D5F-9200-3D25400DD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13F7-DB5B-4A86-B0A6-24BB3AD6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C37E-57F1-4203-8544-1CAC00628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C1BF-5850-40EA-B68F-E5131615F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1A74-AAA8-4E60-B5BD-A73AA35FE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E0E7-C536-4E6D-84D3-389D1449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93162-FEB6-4336-9372-B6D7E87C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3AC3-59A1-4330-8FBD-D9786863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C048-9921-46BF-8386-1A86DE58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0D37-32DA-462D-84F9-6E4E8F5F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675A-EC6C-4E54-9C43-38B90000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4C90-59E2-4307-BE22-CD86F7E0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5F9A-CF69-4551-AB50-63E20FFB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0ACB-EC42-4F4C-8AFF-93C72D0F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4019-062C-4BB8-8451-0C3F39C5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A533-9ED2-4859-9E17-BB469A1C9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80A7-7715-44A2-921C-91501F4F8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0617-871F-42BD-8F03-975CD0F4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95BF-5BB6-463B-B0D8-BE187FF1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5143-401A-465A-8E9E-31478040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1C21-48D3-492C-B4F8-9F0375A1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4895-03AB-4DE8-8866-BC03E822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2D94-0EB9-490A-928C-AE8F5796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B212-22FC-4F9C-9BD4-F44DE315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9FBB7-2A05-48B7-8F72-057525308005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B67B-9DC8-49E4-964C-8048F9355D07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609480"/>
            <a:ext cx="7380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ourier New"/>
              </a:rPr>
              <a:t>ORGANIZANDO UMA EXCURSÃO: SUPERANDO DIFICULDADES DE APRENDIZAGEM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295280" y="2693520"/>
            <a:ext cx="693432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Courier New"/>
              </a:rPr>
              <a:t>Autor: Edelweis José Tavares Barbos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Courier New"/>
              </a:rPr>
              <a:t>Professor de Matemática da Rede Municipal de Caruaru, P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Courier New"/>
              </a:rPr>
              <a:t>Pós-graduando em Ensino da Matemática e as Novas Tecnologias, FABEJA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ourier New"/>
              </a:rPr>
              <a:t>4. CONCLUSÃ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3343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A atividade desenvolvida permitiu analisar as dificuldades e avanços surgidos no percurso da mesma, fazendo com que o trabalho com as operações de adição,subtração, multiplicação e divisão não fosse uma questão de algoritmo, e sim um processo de descobertas contextualizado e interacionista, havendo a oportunidade dos próprios alunos criarem, planejarem, executarem, tomarem decisões e explorarem possibilidades, e desta forma, interagirem entre eles e com o professor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7378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ourier New"/>
              </a:rPr>
              <a:t>5. REFERÊNCIA BIBLIOGRÁFIC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3343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DANTE, Luiz Roberto.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Courier New"/>
              </a:rPr>
              <a:t>Tudo é Matemática</a:t>
            </a: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. Rio de Janeiro: Ática, 2002.Cap. 3: Resolução de Problemas usando as Operações Fundamentais, p. 87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ourier New"/>
              </a:rPr>
              <a:t>1. INTRODUÇÃ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Esse relato de experiência diz respeito a atividade didática desenvolvida em turmas da 5a. Série, uma da rede pública e outra da rede privada de ensino, Caruaru, PE, cujos alunos apresentavam dificuldades de aprendizagem nas operações aritmética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ourier New"/>
              </a:rPr>
              <a:t>2. OBJETIV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2.1. Contribuir para a melhoria da aprendizagem das operações aritméticas, partindo de situações do cotidiano dos aluno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ourier New"/>
              </a:rPr>
              <a:t>3. METODOLOGI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83343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O Projeto de Trabalho foi escolhido como estratégia didática por permitir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a)socialização de conhecimentos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b)construção coletiva da aprendizagem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c)mediação de conflitos 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d)melhoria de relacionamentos interpessoai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ourier New"/>
              </a:rPr>
              <a:t>3.1. ESCOLHA DO TEM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83343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O tema excursão foi abordado pela possibilidade real de ser vivenciado pelo aluno junto aos seus familiar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ourier New"/>
              </a:rPr>
              <a:t>3.2. ROTEIRO DA ATIVIDAD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83343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O roteiro para esta atividade foi adaptado do livro de 5a. Série Coleção Tudo é Matemática (DANTE, 2004, p.87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Os alunos fizeram os cálculos de despesas por pessoa em um passeio onde estão programadas:visita a um parque temático (manhã), almoço e sessão  de teatro (tarde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ourier New"/>
              </a:rPr>
              <a:t>3.3. DESENVOLVIMENTO DA ATIVIDAD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83343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NewRoman"/>
                <a:ea typeface="Times New Roman"/>
              </a:rPr>
              <a:t>Tomando um dos grupos (com 4 alunos) como exemplo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Fig. 1 – Maquete Grupo “É Brincando Que se Aprende”, Escola Rede Pública, Caruaru, 2004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ourier New"/>
              </a:rPr>
              <a:t>3.3. DESENVOLVIMENTO DA ATIVIDAD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83343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Fig. 2 – Cartaz Grupo 2,Escola Rede Privada, Caruaru, 200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Quadro Demonstrativo 1. Organizando uma excursão – Despesas de Viagem, Grupo  “É Brincando que se Aprende”, </a:t>
            </a: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Escola Rede Pública, Caruaru, 2004.</a:t>
            </a:r>
            <a:br>
              <a:rPr sz="3200"/>
            </a:b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676520" y="2286000"/>
            <a:ext cx="6705000" cy="3886200"/>
            <a:chOff x="1676520" y="2286000"/>
            <a:chExt cx="6705000" cy="3886200"/>
          </a:xfrm>
        </p:grpSpPr>
        <p:grpSp>
          <p:nvGrpSpPr>
            <p:cNvPr id="308" name=""/>
            <p:cNvGrpSpPr/>
            <p:nvPr/>
          </p:nvGrpSpPr>
          <p:grpSpPr>
            <a:xfrm>
              <a:off x="1684440" y="2287800"/>
              <a:ext cx="6686640" cy="3881880"/>
              <a:chOff x="1684440" y="2287800"/>
              <a:chExt cx="6686640" cy="3881880"/>
            </a:xfrm>
          </p:grpSpPr>
          <p:grpSp>
            <p:nvGrpSpPr>
              <p:cNvPr id="309" name=""/>
              <p:cNvGrpSpPr/>
              <p:nvPr/>
            </p:nvGrpSpPr>
            <p:grpSpPr>
              <a:xfrm>
                <a:off x="1684440" y="2287800"/>
                <a:ext cx="5037480" cy="356400"/>
                <a:chOff x="1684440" y="2287800"/>
                <a:chExt cx="5037480" cy="35640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1761840" y="2287800"/>
                  <a:ext cx="4881240" cy="35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3366"/>
                      </a:solidFill>
                      <a:latin typeface="Courier New"/>
                      <a:ea typeface="Times New Roman"/>
                    </a:rPr>
                    <a:t>Dados/Valores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1684440" y="2287800"/>
                  <a:ext cx="5037480" cy="356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6722280" y="2287800"/>
                <a:ext cx="1648800" cy="356400"/>
                <a:chOff x="6722280" y="2287800"/>
                <a:chExt cx="1648800" cy="35640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6799680" y="2287800"/>
                  <a:ext cx="1493280" cy="35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3366"/>
                      </a:solidFill>
                      <a:latin typeface="Courier New"/>
                      <a:ea typeface="Times New Roman"/>
                    </a:rPr>
                    <a:t>Valor Total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722280" y="2287800"/>
                  <a:ext cx="1648800" cy="356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1684440" y="2644200"/>
                <a:ext cx="3126240" cy="277200"/>
                <a:chOff x="1684440" y="2644200"/>
                <a:chExt cx="3126240" cy="27720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1761840" y="2644200"/>
                  <a:ext cx="2970000" cy="27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3366"/>
                      </a:solidFill>
                      <a:latin typeface="Courier New"/>
                      <a:ea typeface="Times New Roman"/>
                    </a:rPr>
                    <a:t>N. de Pessoas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1684440" y="2644200"/>
                  <a:ext cx="3126240" cy="27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4811040" y="2644200"/>
                <a:ext cx="1910880" cy="277200"/>
                <a:chOff x="4811040" y="2644200"/>
                <a:chExt cx="1910880" cy="27720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4888440" y="2644200"/>
                  <a:ext cx="1754640" cy="27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3366"/>
                      </a:solidFill>
                      <a:latin typeface="Courier New"/>
                      <a:ea typeface="Times New Roman"/>
                    </a:rPr>
                    <a:t>38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4811040" y="2644200"/>
                  <a:ext cx="1910880" cy="27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6722280" y="2644200"/>
                <a:ext cx="1648800" cy="277200"/>
                <a:chOff x="6722280" y="2644200"/>
                <a:chExt cx="1648800" cy="27720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6799680" y="2644200"/>
                  <a:ext cx="1493280" cy="27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3366"/>
                      </a:solidFill>
                      <a:latin typeface="Courier New"/>
                      <a:ea typeface="Times New Roman"/>
                    </a:rPr>
                    <a:t>----- 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722280" y="2644200"/>
                  <a:ext cx="1648800" cy="27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1684440" y="2921400"/>
                <a:ext cx="3126240" cy="277200"/>
                <a:chOff x="1684440" y="2921400"/>
                <a:chExt cx="3126240" cy="27720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1761840" y="2921400"/>
                  <a:ext cx="2970000" cy="27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3366"/>
                      </a:solidFill>
                      <a:latin typeface="Courier New"/>
                      <a:ea typeface="Times New Roman"/>
                    </a:rPr>
                    <a:t>Poltrona Ocupada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1684440" y="2921400"/>
                  <a:ext cx="3126240" cy="27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4811040" y="2921400"/>
                <a:ext cx="1910880" cy="277200"/>
                <a:chOff x="4811040" y="2921400"/>
                <a:chExt cx="1910880" cy="27720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4888440" y="2921400"/>
                  <a:ext cx="1754640" cy="27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3366"/>
                      </a:solidFill>
                      <a:latin typeface="Courier New"/>
                      <a:ea typeface="Times New Roman"/>
                    </a:rPr>
                    <a:t>R$ 15,00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811040" y="2921400"/>
                  <a:ext cx="1910880" cy="27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6722280" y="2921400"/>
                <a:ext cx="1648800" cy="277200"/>
                <a:chOff x="6722280" y="2921400"/>
                <a:chExt cx="1648800" cy="27720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6799680" y="2921400"/>
                  <a:ext cx="1493280" cy="27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3366"/>
                      </a:solidFill>
                      <a:latin typeface="Courier New"/>
                      <a:ea typeface="Times New Roman"/>
                    </a:rPr>
                    <a:t>R$ 570,00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722280" y="2921400"/>
                  <a:ext cx="1648800" cy="27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1684440" y="3198960"/>
                <a:ext cx="3126240" cy="277200"/>
                <a:chOff x="1684440" y="3198960"/>
                <a:chExt cx="3126240" cy="27720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1761840" y="3198960"/>
                  <a:ext cx="2970000" cy="27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3366"/>
                      </a:solidFill>
                      <a:latin typeface="Courier New"/>
                      <a:ea typeface="Times New Roman"/>
                    </a:rPr>
                    <a:t>N. de Poltronas Vazias 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684440" y="3198960"/>
                  <a:ext cx="3126240" cy="27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4811040" y="3198960"/>
                <a:ext cx="1910880" cy="277200"/>
                <a:chOff x="4811040" y="3198960"/>
                <a:chExt cx="1910880" cy="27720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4888440" y="3198960"/>
                  <a:ext cx="1754640" cy="27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3366"/>
                      </a:solidFill>
                      <a:latin typeface="Courier New"/>
                      <a:ea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4811040" y="3198960"/>
                  <a:ext cx="1910880" cy="27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6722280" y="3198960"/>
                <a:ext cx="1648800" cy="277200"/>
                <a:chOff x="6722280" y="3198960"/>
                <a:chExt cx="1648800" cy="27720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6799680" y="3198960"/>
                  <a:ext cx="1493280" cy="27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3366"/>
                      </a:solidFill>
                      <a:latin typeface="Courier New"/>
                      <a:ea typeface="Times New Roman"/>
                    </a:rPr>
                    <a:t>-----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3366"/>
                      </a:solidFill>
                      <a:latin typeface="Courier New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722280" y="3198960"/>
                  <a:ext cx="1648800" cy="27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1684440" y="3476160"/>
                <a:ext cx="3126240" cy="277200"/>
                <a:chOff x="1684440" y="3476160"/>
                <a:chExt cx="3126240" cy="27720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1761840" y="3476160"/>
                  <a:ext cx="2970000" cy="27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3366"/>
                      </a:solidFill>
                      <a:latin typeface="Courier New"/>
                      <a:ea typeface="Times New Roman"/>
                    </a:rPr>
                    <a:t>Poltrona Vazia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1684440" y="3476160"/>
                  <a:ext cx="3126240" cy="27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4811040" y="3476160"/>
                <a:ext cx="1910880" cy="277200"/>
                <a:chOff x="4811040" y="3476160"/>
                <a:chExt cx="1910880" cy="27720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4888440" y="3476160"/>
                  <a:ext cx="1754640" cy="27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3366"/>
                      </a:solidFill>
                      <a:latin typeface="Courier New"/>
                      <a:ea typeface="Times New Roman"/>
                    </a:rPr>
                    <a:t>R$ 3,00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811040" y="3476160"/>
                  <a:ext cx="1910880" cy="27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6722280" y="3476160"/>
                <a:ext cx="1648800" cy="277200"/>
                <a:chOff x="6722280" y="3476160"/>
                <a:chExt cx="1648800" cy="27720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6799680" y="3476160"/>
                  <a:ext cx="1493280" cy="27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3366"/>
                      </a:solidFill>
                      <a:latin typeface="Courier New"/>
                      <a:ea typeface="Times New Roman"/>
                    </a:rPr>
                    <a:t>R$ 6,00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722280" y="3476160"/>
                  <a:ext cx="1648800" cy="27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1684440" y="3753360"/>
                <a:ext cx="3126240" cy="277200"/>
                <a:chOff x="1684440" y="3753360"/>
                <a:chExt cx="3126240" cy="27720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1761840" y="3753360"/>
                  <a:ext cx="2970000" cy="27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3366"/>
                      </a:solidFill>
                      <a:latin typeface="Courier New"/>
                      <a:ea typeface="Times New Roman"/>
                    </a:rPr>
                    <a:t>Almoço por pessoa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684440" y="3753360"/>
                  <a:ext cx="3126240" cy="27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4811040" y="3753360"/>
                <a:ext cx="1910880" cy="277200"/>
                <a:chOff x="4811040" y="3753360"/>
                <a:chExt cx="1910880" cy="27720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4888440" y="3753360"/>
                  <a:ext cx="1754640" cy="27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3366"/>
                      </a:solidFill>
                      <a:latin typeface="Courier New"/>
                      <a:ea typeface="Times New Roman"/>
                    </a:rPr>
                    <a:t>R$3,95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4811040" y="3753360"/>
                  <a:ext cx="1910880" cy="27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6722280" y="3753360"/>
                <a:ext cx="1648800" cy="277200"/>
                <a:chOff x="6722280" y="3753360"/>
                <a:chExt cx="1648800" cy="27720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6799680" y="3753360"/>
                  <a:ext cx="1493280" cy="27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3366"/>
                      </a:solidFill>
                      <a:latin typeface="Courier New"/>
                      <a:ea typeface="Times New Roman"/>
                    </a:rPr>
                    <a:t>R$150,00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722280" y="3753360"/>
                  <a:ext cx="1648800" cy="27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1684440" y="4030920"/>
                <a:ext cx="3126240" cy="356400"/>
                <a:chOff x="1684440" y="4030920"/>
                <a:chExt cx="3126240" cy="35640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761840" y="4030920"/>
                  <a:ext cx="2970000" cy="35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3366"/>
                      </a:solidFill>
                      <a:latin typeface="Courier New"/>
                      <a:ea typeface="Times New Roman"/>
                    </a:rPr>
                    <a:t>Ingresso da peça de teatro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684440" y="4030920"/>
                  <a:ext cx="3126240" cy="356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4811040" y="4030920"/>
                <a:ext cx="1910880" cy="356400"/>
                <a:chOff x="4811040" y="4030920"/>
                <a:chExt cx="1910880" cy="35640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4888440" y="4030920"/>
                  <a:ext cx="1754640" cy="35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3366"/>
                      </a:solidFill>
                      <a:latin typeface="Courier New"/>
                      <a:ea typeface="Times New Roman"/>
                    </a:rPr>
                    <a:t>R$ 3,00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811040" y="4030920"/>
                  <a:ext cx="1910880" cy="356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6722280" y="4030920"/>
                <a:ext cx="1648800" cy="356400"/>
                <a:chOff x="6722280" y="4030920"/>
                <a:chExt cx="1648800" cy="35640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6799680" y="4030920"/>
                  <a:ext cx="1493280" cy="35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3366"/>
                      </a:solidFill>
                      <a:latin typeface="Courier New"/>
                      <a:ea typeface="Times New Roman"/>
                    </a:rPr>
                    <a:t>R$ 114,00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6722280" y="4030920"/>
                  <a:ext cx="1648800" cy="356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1684440" y="4387320"/>
                <a:ext cx="3126240" cy="514800"/>
                <a:chOff x="1684440" y="4387320"/>
                <a:chExt cx="3126240" cy="51480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1761840" y="4387320"/>
                  <a:ext cx="2970000" cy="51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3366"/>
                      </a:solidFill>
                      <a:latin typeface="Courier New"/>
                      <a:ea typeface="Times New Roman"/>
                    </a:rPr>
                    <a:t>Ingresso do parque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3366"/>
                      </a:solidFill>
                      <a:latin typeface="Courier New"/>
                      <a:ea typeface="Times New Roman"/>
                    </a:rPr>
                    <a:t>Bloco com 10 ingressos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3366"/>
                      </a:solidFill>
                      <a:latin typeface="Courier New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684440" y="4387320"/>
                  <a:ext cx="3126240" cy="514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4811040" y="4387320"/>
                <a:ext cx="1910880" cy="514800"/>
                <a:chOff x="4811040" y="4387320"/>
                <a:chExt cx="1910880" cy="51480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4888440" y="4387320"/>
                  <a:ext cx="1754640" cy="51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3366"/>
                      </a:solidFill>
                      <a:latin typeface="Courier New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3366"/>
                      </a:solidFill>
                      <a:latin typeface="Courier New"/>
                      <a:ea typeface="Times New Roman"/>
                    </a:rPr>
                    <a:t>R$ 15,00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4811040" y="4387320"/>
                  <a:ext cx="1910880" cy="514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6722280" y="4387320"/>
                <a:ext cx="1648800" cy="514800"/>
                <a:chOff x="6722280" y="4387320"/>
                <a:chExt cx="1648800" cy="51480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6799680" y="4387320"/>
                  <a:ext cx="1493280" cy="51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3366"/>
                      </a:solidFill>
                      <a:latin typeface="Courier New"/>
                      <a:ea typeface="Times New Roman"/>
                    </a:rPr>
                    <a:t>R$ 45,00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3366"/>
                      </a:solidFill>
                      <a:latin typeface="Courier New"/>
                      <a:ea typeface="Times New Roman"/>
                    </a:rPr>
                    <a:t>(30 pessoas)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6722280" y="4387320"/>
                  <a:ext cx="1648800" cy="514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1684440" y="4902120"/>
                <a:ext cx="3126240" cy="435240"/>
                <a:chOff x="1684440" y="4902120"/>
                <a:chExt cx="3126240" cy="43524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1761840" y="4902120"/>
                  <a:ext cx="2970000" cy="43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3366"/>
                      </a:solidFill>
                      <a:latin typeface="Courier New"/>
                      <a:ea typeface="Times New Roman"/>
                    </a:rPr>
                    <a:t>Ingressos avulsos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684440" y="4902120"/>
                  <a:ext cx="3126240" cy="43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4811040" y="4902120"/>
                <a:ext cx="1910880" cy="435240"/>
                <a:chOff x="4811040" y="4902120"/>
                <a:chExt cx="1910880" cy="43524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4888440" y="4902120"/>
                  <a:ext cx="1754640" cy="43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3366"/>
                      </a:solidFill>
                      <a:latin typeface="Courier New"/>
                      <a:ea typeface="Times New Roman"/>
                    </a:rPr>
                    <a:t>R$ 2,00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811040" y="4902120"/>
                  <a:ext cx="1910880" cy="43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6722280" y="4902120"/>
                <a:ext cx="1648800" cy="435240"/>
                <a:chOff x="6722280" y="4902120"/>
                <a:chExt cx="1648800" cy="43524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6799680" y="4902120"/>
                  <a:ext cx="1493280" cy="43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3366"/>
                      </a:solidFill>
                      <a:latin typeface="Courier New"/>
                      <a:ea typeface="Times New Roman"/>
                    </a:rPr>
                    <a:t>R$ 16,00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3366"/>
                      </a:solidFill>
                      <a:latin typeface="Courier New"/>
                      <a:ea typeface="Times New Roman"/>
                    </a:rPr>
                    <a:t>(8 pessoas)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6722280" y="4902120"/>
                  <a:ext cx="1648800" cy="43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1684440" y="5337720"/>
                <a:ext cx="3126240" cy="277200"/>
                <a:chOff x="1684440" y="5337720"/>
                <a:chExt cx="3126240" cy="27720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1761840" y="5337720"/>
                  <a:ext cx="2970000" cy="27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3366"/>
                      </a:solidFill>
                      <a:latin typeface="Courier New"/>
                      <a:ea typeface="Times New Roman"/>
                    </a:rPr>
                    <a:t>Despesas extras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1684440" y="5337720"/>
                  <a:ext cx="3126240" cy="27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4811040" y="5337720"/>
                <a:ext cx="1910880" cy="277200"/>
                <a:chOff x="4811040" y="5337720"/>
                <a:chExt cx="1910880" cy="27720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4888440" y="5337720"/>
                  <a:ext cx="1754640" cy="27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3366"/>
                      </a:solidFill>
                      <a:latin typeface="Courier New"/>
                      <a:ea typeface="Times New Roman"/>
                    </a:rPr>
                    <a:t>R$ 65,00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4811040" y="5337720"/>
                  <a:ext cx="1910880" cy="27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6722280" y="5337720"/>
                <a:ext cx="1648800" cy="277200"/>
                <a:chOff x="6722280" y="5337720"/>
                <a:chExt cx="1648800" cy="27720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6799680" y="5337720"/>
                  <a:ext cx="1493280" cy="27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3366"/>
                      </a:solidFill>
                      <a:latin typeface="Courier New"/>
                      <a:ea typeface="Times New Roman"/>
                    </a:rPr>
                    <a:t>R$ 65,00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6722280" y="5337720"/>
                  <a:ext cx="1648800" cy="27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1684440" y="5614920"/>
                <a:ext cx="5037480" cy="277200"/>
                <a:chOff x="1684440" y="5614920"/>
                <a:chExt cx="5037480" cy="27720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1761840" y="5614920"/>
                  <a:ext cx="4881240" cy="27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3366"/>
                      </a:solidFill>
                      <a:latin typeface="Courier New"/>
                      <a:ea typeface="Times New Roman"/>
                    </a:rPr>
                    <a:t>Total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1684440" y="5614920"/>
                  <a:ext cx="5037480" cy="27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6722280" y="5614920"/>
                <a:ext cx="1648800" cy="277200"/>
                <a:chOff x="6722280" y="5614920"/>
                <a:chExt cx="1648800" cy="27720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6799680" y="5614920"/>
                  <a:ext cx="1493280" cy="27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3366"/>
                      </a:solidFill>
                      <a:latin typeface="Courier New"/>
                      <a:ea typeface="Times New Roman"/>
                    </a:rPr>
                    <a:t>R$ 966,00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6722280" y="5614920"/>
                  <a:ext cx="1648800" cy="27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1684440" y="5892480"/>
                <a:ext cx="5037480" cy="277200"/>
                <a:chOff x="1684440" y="5892480"/>
                <a:chExt cx="5037480" cy="27720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1761840" y="5892480"/>
                  <a:ext cx="4881240" cy="27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3366"/>
                      </a:solidFill>
                      <a:latin typeface="Courier New"/>
                      <a:ea typeface="Times New Roman"/>
                    </a:rPr>
                    <a:t>Total por aluno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1684440" y="5892480"/>
                  <a:ext cx="5037480" cy="27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6722280" y="5892480"/>
                <a:ext cx="1648800" cy="277200"/>
                <a:chOff x="6722280" y="5892480"/>
                <a:chExt cx="1648800" cy="27720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6799680" y="5892480"/>
                  <a:ext cx="1493280" cy="27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3366"/>
                      </a:solidFill>
                      <a:latin typeface="Courier New"/>
                      <a:ea typeface="Times New Roman"/>
                    </a:rPr>
                    <a:t>R$ 25,42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722280" y="5892480"/>
                  <a:ext cx="1648800" cy="27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8" name=""/>
            <p:cNvSpPr/>
            <p:nvPr/>
          </p:nvSpPr>
          <p:spPr>
            <a:xfrm>
              <a:off x="1676520" y="2286000"/>
              <a:ext cx="6705000" cy="3886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3240" y="79088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9T17:17:03Z</dcterms:created>
  <dc:creator>jose antonio</dc:creator>
  <dc:description/>
  <dc:language>en-US</dc:language>
  <cp:lastModifiedBy>jose antonio</cp:lastModifiedBy>
  <dcterms:modified xsi:type="dcterms:W3CDTF">2004-11-22T02:41:45Z</dcterms:modified>
  <cp:revision>20</cp:revision>
  <dc:subject/>
  <dc:title>ORGANIZANDO UMA EXCURSÃO: SUPERANDO DIFICULDADES DE APRENDIZAGEM</dc:title>
</cp:coreProperties>
</file>