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61FC-69B7-4C92-8D5B-2788EF91E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9CE4-75BA-4D73-9FE1-0820B8E7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92D-F45B-4B6F-BC5B-C9BEA4B8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B8A-CAE8-4A18-95D4-F57C4700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1647-B2F8-4C61-8312-AC717A0D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EF8F-A837-49D0-B4A5-D052DF85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056A-B31D-4C63-88FF-0000B15E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8DF4-0410-45F4-B861-4DBAE237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E1E6-6320-4EC8-AC33-6D508FA1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46B0-365E-4EB4-AF15-0F3F26F6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F5B4-D611-4AAF-8DDA-3EB2AB05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769-5DD5-4047-BFDC-99FFA573E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672AF-2516-47FF-9766-CC4D5FA6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C2A7-5E4D-4B79-94CF-733D234D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7A98-C3AB-4179-B9E3-18F55104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F917-0E0A-4F09-BDD3-E71F9467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5165-8A7D-4134-91F4-822DBC65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644-31D7-4496-A220-FB151671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996F-6E98-4AAD-87DC-47E1FD41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7E93-6A42-4F1B-8F3F-E81643F1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759-A046-466B-967F-D7A4BB76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8E6-8149-4FF2-BFD5-B9C05C1A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66EF-DF9E-43EB-9F58-93E2585F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D4E6-14B9-4C66-8181-272999DE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EDAB-45A6-45C3-A9E4-8C0CC7DA942A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8944-1C2A-4583-BD15-9C273E46CD4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996633"/>
                </a:solidFill>
                <a:latin typeface="Verdana"/>
              </a:rPr>
              <a:t>Equações e Inequações Modulares</a:t>
            </a:r>
            <a:endParaRPr b="0" lang="en-US" sz="6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400" spc="-1" strike="noStrike">
              <a:solidFill>
                <a:srgbClr val="a08366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6633"/>
                </a:solidFill>
                <a:latin typeface="Verdana"/>
              </a:rPr>
              <a:t>Tópicos a serem estudados:</a:t>
            </a:r>
            <a:r>
              <a:rPr b="1" lang="pt-BR" sz="3000" spc="-1" strike="noStrike">
                <a:solidFill>
                  <a:srgbClr val="996633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402000"/>
                </a:solidFill>
                <a:latin typeface="Verdana"/>
              </a:rPr>
              <a:t>Módulo</a:t>
            </a:r>
            <a:r>
              <a:rPr b="1" lang="pt-BR" sz="34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1" lang="pt-BR" sz="34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1" lang="pt-BR" sz="34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1" lang="pt-BR" sz="34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1" lang="pt-BR" sz="34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1" lang="pt-BR" sz="34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1" lang="pt-BR" sz="34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402000"/>
                </a:solidFill>
                <a:latin typeface="Verdana"/>
              </a:rPr>
              <a:t>Definição</a:t>
            </a:r>
            <a:r>
              <a:rPr b="1" lang="pt-BR" sz="24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402000"/>
                </a:solidFill>
                <a:latin typeface="Verdana"/>
              </a:rPr>
              <a:t>Interpretação Geométrica</a:t>
            </a:r>
            <a:r>
              <a:rPr b="1" lang="pt-BR" sz="24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1" lang="pt-BR" sz="2400" spc="-1" strike="noStrike">
                <a:solidFill>
                  <a:srgbClr val="402000"/>
                </a:solidFill>
                <a:latin typeface="Verdana"/>
              </a:rPr>
              <a:t>Algumas Propriedad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402000"/>
                </a:solidFill>
                <a:latin typeface="Verdana"/>
              </a:rPr>
              <a:t>Equações Modulares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402000"/>
                </a:solidFill>
                <a:latin typeface="Verdana"/>
              </a:rPr>
              <a:t>Inequações Modulares</a:t>
            </a:r>
            <a:endParaRPr b="0" lang="en-US" sz="3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6633"/>
                </a:solidFill>
                <a:latin typeface="Verdana"/>
              </a:rPr>
              <a:t>Módulo</a:t>
            </a:r>
            <a:r>
              <a:rPr b="1" lang="pt-BR" sz="4000" spc="-1" strike="noStrike">
                <a:solidFill>
                  <a:srgbClr val="996633"/>
                </a:solidFill>
                <a:latin typeface="Verdana"/>
              </a:rPr>
              <a:t>	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402000"/>
                </a:solidFill>
                <a:latin typeface="Verdana"/>
              </a:rPr>
              <a:t>Definição:</a:t>
            </a:r>
            <a:r>
              <a:rPr b="0" lang="pt-BR" sz="30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402000"/>
                </a:solidFill>
                <a:latin typeface="Verdana"/>
                <a:ea typeface="Courier New"/>
              </a:rPr>
              <a:t>Em todo número x podemos associar um valor absoluto de x ou um número real denominado </a:t>
            </a:r>
            <a:r>
              <a:rPr b="1" lang="pt-BR" sz="2400" spc="-1" strike="noStrike">
                <a:solidFill>
                  <a:srgbClr val="402000"/>
                </a:solidFill>
                <a:latin typeface="Verdana"/>
                <a:ea typeface="Courier New"/>
              </a:rPr>
              <a:t>módulo de x</a:t>
            </a:r>
            <a:r>
              <a:rPr b="0" lang="pt-BR" sz="2400" spc="-1" strike="noStrike">
                <a:solidFill>
                  <a:srgbClr val="402000"/>
                </a:solidFill>
                <a:latin typeface="Verdana"/>
                <a:ea typeface="Courier New"/>
              </a:rPr>
              <a:t>.</a:t>
            </a:r>
            <a:r>
              <a:rPr b="0" lang="pt-BR" sz="2400" spc="-1" strike="noStrike">
                <a:solidFill>
                  <a:srgbClr val="402000"/>
                </a:solidFill>
                <a:latin typeface="Verdana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402000"/>
                </a:solidFill>
                <a:latin typeface="Verdana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402000"/>
                </a:solidFill>
                <a:latin typeface="Verdana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402000"/>
                </a:solidFill>
                <a:latin typeface="Verdana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402000"/>
                </a:solidFill>
                <a:latin typeface="Verdana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402000"/>
                </a:solidFill>
                <a:latin typeface="Verdana"/>
                <a:ea typeface="Courier New"/>
              </a:rPr>
              <a:t>Se x é positivo ou nulo, o seu módulo é ele mesmo.</a:t>
            </a:r>
            <a:r>
              <a:rPr b="0" lang="pt-BR" sz="2400" spc="-1" strike="noStrike">
                <a:solidFill>
                  <a:srgbClr val="402000"/>
                </a:solidFill>
                <a:latin typeface="Verdana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402000"/>
                </a:solidFill>
                <a:latin typeface="Verdana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402000"/>
                </a:solidFill>
                <a:latin typeface="Verdana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402000"/>
                </a:solidFill>
                <a:latin typeface="Verdana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402000"/>
                </a:solidFill>
                <a:latin typeface="Verdana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402000"/>
                </a:solidFill>
                <a:latin typeface="Verdana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402000"/>
                </a:solidFill>
                <a:latin typeface="Verdana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402000"/>
                </a:solidFill>
                <a:latin typeface="Verdana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402000"/>
                </a:solidFill>
                <a:latin typeface="Verdana"/>
                <a:ea typeface="Courier New"/>
              </a:rPr>
              <a:t>Se x é negativo, o seu módulo é obtido trocando o seu sinal.</a:t>
            </a:r>
            <a:r>
              <a:rPr b="0" lang="pt-BR" sz="2400" spc="-1" strike="noStrike">
                <a:solidFill>
                  <a:srgbClr val="402000"/>
                </a:solidFill>
                <a:latin typeface="Verdana"/>
                <a:ea typeface="Courier New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  <a:ea typeface="Courier New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  <a:ea typeface="Courier New"/>
              </a:rPr>
              <a:t>	</a:t>
            </a:r>
            <a:r>
              <a:rPr b="0" lang="pt-BR" sz="3000" spc="-1" strike="noStrike">
                <a:solidFill>
                  <a:srgbClr val="402000"/>
                </a:solidFill>
                <a:latin typeface="Times New Roman"/>
                <a:ea typeface="Courier New"/>
              </a:rPr>
              <a:t>	</a:t>
            </a:r>
            <a:endParaRPr b="0" lang="en-US" sz="3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6633"/>
                </a:solidFill>
                <a:latin typeface="Verdana"/>
                <a:ea typeface="Courier New"/>
              </a:rPr>
              <a:t>Interpretação Geométrica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Verdana"/>
              </a:rPr>
              <a:t>Sabemos que um número real x está associado um ponto da reta. Podemos interpretar o </a:t>
            </a:r>
            <a:r>
              <a:rPr b="0" i="1" lang="pt-BR" sz="2400" spc="-1" strike="noStrike">
                <a:solidFill>
                  <a:srgbClr val="402000"/>
                </a:solidFill>
                <a:latin typeface="Verdana"/>
              </a:rPr>
              <a:t>módulo de x </a:t>
            </a:r>
            <a:r>
              <a:rPr b="0" lang="pt-BR" sz="2400" spc="-1" strike="noStrike">
                <a:solidFill>
                  <a:srgbClr val="402000"/>
                </a:solidFill>
                <a:latin typeface="Verdana"/>
              </a:rPr>
              <a:t>como sendo a distância do ponto que representa x ao ponto que representa o número 0.                                                                  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996633"/>
                </a:solidFill>
                <a:latin typeface="Verdana"/>
              </a:rPr>
              <a:t>Algumas propriedade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402000"/>
                </a:solidFill>
                <a:latin typeface="Verdana"/>
              </a:rPr>
              <a:t>Para resolver equações e inequações modulares existem dez propriedades básicas imediatas a serem estudadas antes mesmo da resolução ser realizada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Verdana"/>
              </a:rPr>
              <a:t>Estas propriedades estão disponíveis no trabalh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6633"/>
                </a:solidFill>
                <a:latin typeface="Verdana"/>
              </a:rPr>
              <a:t>Equação Modular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Verdana"/>
              </a:rPr>
              <a:t>As equações modulares são resolvidas através da aplicação de algumas propriedades que estão definidas no próprio trabalho dando a continuidade as propriedades citadas anteriorment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996633"/>
                </a:solidFill>
                <a:latin typeface="Verdana"/>
              </a:rPr>
              <a:t>Inequação Modular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02000"/>
                </a:solidFill>
                <a:latin typeface="Verdana"/>
              </a:rPr>
              <a:t>As inequações modulares também são resolvidas através da aplicação de algumas propriedades que estão disponíveis também no trabalho.</a:t>
            </a:r>
            <a:r>
              <a:rPr b="0" lang="pt-BR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996633"/>
                </a:solidFill>
                <a:latin typeface="Verdana"/>
              </a:rPr>
              <a:t>Elaborado por:</a:t>
            </a:r>
            <a:r>
              <a:rPr b="0" lang="pt-BR" sz="3000" spc="-1" strike="noStrike">
                <a:solidFill>
                  <a:srgbClr val="996633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Verdana"/>
              </a:rPr>
              <a:t>André Luís da Silva F. de Andrad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Verdana"/>
              </a:rPr>
              <a:t>Julliane Pereira Verdini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02000"/>
                </a:solidFill>
                <a:latin typeface="Verdana"/>
              </a:rPr>
              <a:t>Trabalho entregue para a Professora Luciana Arruda, disciplina de Introdução à Informática, 1º período do curso de Licenciatura em Matemática da Universidade Estácio de Sá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21:22:13Z</dcterms:created>
  <dc:creator>SESES</dc:creator>
  <dc:description/>
  <dc:language>en-US</dc:language>
  <cp:lastModifiedBy>SESES</cp:lastModifiedBy>
  <dcterms:modified xsi:type="dcterms:W3CDTF">2002-11-06T20:42:03Z</dcterms:modified>
  <cp:revision>9</cp:revision>
  <dc:subject/>
  <dc:title>Equações e Inequações Modulares</dc:title>
</cp:coreProperties>
</file>