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carbrake.wav" ContentType="audio/x-wav"/>
  <Override PartName="/ppt/media/click.wav" ContentType="audio/x-wav"/>
  <Override PartName="/ppt/media/image7.png" ContentType="image/png"/>
  <Override PartName="/ppt/media/hammer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8.png" ContentType="image/png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6B4B-F7B2-47A9-AEDC-5B49470E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BE51-A855-4E1B-A9C4-70E4BFE1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96F3-D0E9-493F-8546-8C22B89E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2E56-62FB-4E8F-A7C9-ED950ACD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FABE-ED79-47EA-B901-E4F18454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8ACF-4196-47BA-80E3-9680EA2F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7AF3-1213-4B4A-8220-2D9DB7F3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31DB-AB52-4EDD-85CD-525F64D4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426E-4F10-473B-B898-CE104929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15AC-2661-414D-B7BB-B8325F51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C192-DA4C-403B-BD92-5BF4CBF8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AB89-9095-4C6E-8D72-861B2C81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E4E9-5993-495A-BE31-40179B5F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37C2-6B57-4DDB-9567-E93996A3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2240-CFB9-4BB5-828B-51F68FC3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6598-0A56-4EFF-AEF3-ACCEAC3A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BD2D-6AEC-49A2-8D70-3CF58E5B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8ACA-3CF4-4A89-B142-4CB4BCB9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CBD2-447C-4C09-9135-F2C73096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26BF-B208-4FF2-85C5-38594867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1442-3E91-45A3-A82C-97217934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5F4D-0CEC-4838-BEEF-239036B9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1325-B39C-444D-9815-F17A8B2B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3ED3-D18A-4293-87C8-0479C2EC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DEBA-3A3E-4182-80E9-67E7CAD33E89}" type="slidenum">
              <a:rPr b="0" lang="pt-B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EA50-DFB6-4E7D-BCB5-C552BAA3FBE3}" type="slidenum">
              <a:rPr b="0" lang="pt-B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Geometria Analítica:</a:t>
            </a:r>
            <a:br>
              <a:rPr sz="2400"/>
            </a:b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Posições relativas entre ponto e circunferência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2286000"/>
            <a:ext cx="8534520" cy="341604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100000">
                <a:srgbClr val="00ac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A aula a seguir traz demonstrações e alguns exercícios resolvidos de posições que um determinado ponto pode assumir em relação a uma circunfer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Dispomos de três possibil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1ª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 Ponto interno em relação a circunfer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2ª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 Ponto pertencente a circunfer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3ª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 Ponto externo à circun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486400" y="5956200"/>
          <a:ext cx="3200400" cy="4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5956200"/>
                    <a:ext cx="320040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Geometria Analítica:</a:t>
            </a:r>
            <a:br>
              <a:rPr sz="2400"/>
            </a:b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Posições relativas entre ponto e circunferência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2514600"/>
            <a:ext cx="7924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réditos da A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odos os direitos reservados 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5943600"/>
            <a:ext cx="8534160" cy="39888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100000">
                <a:srgbClr val="00ac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m breve disponível no site: www.somatematica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4437000"/>
            <a:ext cx="813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ofessor: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Stanislau L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Geometria Analítica:</a:t>
            </a:r>
            <a:br>
              <a:rPr sz="2400"/>
            </a:b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Posições relativas entre ponto e circunferência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5146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2590920"/>
          <a:ext cx="807732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90920"/>
                    <a:ext cx="80773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914400" y="2057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ahoma"/>
              </a:rPr>
              <a:t>Lembre-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Geometria Analítica:</a:t>
            </a:r>
            <a:br>
              <a:rPr sz="2400"/>
            </a:b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Posições relativas entre ponto e circunferência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286000"/>
            <a:ext cx="87631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 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m relação à circunferência de equação ( x - a )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+ ( y - b )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= r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, o ponto P(m, n) pode ocupar as seguintes posi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50532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4920" y="3200400"/>
          <a:ext cx="403848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00400"/>
                    <a:ext cx="40384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5943600" y="37339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724280" y="4103640"/>
          <a:ext cx="4114800" cy="115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4103640"/>
                    <a:ext cx="411480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Geometria Analítica:</a:t>
            </a:r>
            <a:br>
              <a:rPr sz="2400"/>
            </a:b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Posições relativas entre ponto e circunferência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4382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0880" y="2455920"/>
          <a:ext cx="4038840" cy="35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455920"/>
                    <a:ext cx="4038840" cy="35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029200" y="25909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289548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343400" y="3657600"/>
          <a:ext cx="45720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657600"/>
                    <a:ext cx="4572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Geometria Analítica:</a:t>
            </a:r>
            <a:br>
              <a:rPr sz="2400"/>
            </a:b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Posições relativas entre ponto e circunferência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5909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28600" y="2362320"/>
          <a:ext cx="4267080" cy="34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62320"/>
                    <a:ext cx="4267080" cy="34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4800600" y="26668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495680" y="2455920"/>
          <a:ext cx="4419720" cy="20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455920"/>
                    <a:ext cx="441972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Geometria Analítica:</a:t>
            </a:r>
            <a:br>
              <a:rPr sz="2400"/>
            </a:b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Posições relativas entre ponto e circunferência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209680"/>
            <a:ext cx="8534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Tahoma"/>
              </a:rPr>
              <a:t>Exercício-1: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Qual a posição relativa do ponto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(3, 2) em relação à circunferência de equaç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327672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312408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38098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3352680"/>
            <a:ext cx="3886200" cy="131364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100000">
                <a:srgbClr val="00c39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ntão o ponto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P(3, 2)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pertence a circunferência uma vez que a distância do centro ao ponto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é igual ao ra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4812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7200" y="2587680"/>
                <a:ext cx="25146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80880" y="29718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ubstitui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904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28600" y="3724200"/>
                <a:ext cx="4343400" cy="22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Geometria Analítica:</a:t>
            </a:r>
            <a:br>
              <a:rPr sz="2400"/>
            </a:b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Posições relativas entre ponto e circunferência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2057400"/>
            <a:ext cx="86868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Tahoma"/>
              </a:rPr>
              <a:t>Exercício-2: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Qual a posição relativa do ponto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(-2, -3) em relação à circunferência de equaç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20040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37339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3276720"/>
            <a:ext cx="3733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3429000"/>
            <a:ext cx="3886200" cy="161856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100000">
                <a:srgbClr val="00c38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mo a distância do centro ao ponto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em questão é menor que zero podemos concluir que o ponto é interno a circunferê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576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4920" y="2428920"/>
                <a:ext cx="26668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228600" y="2819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ubstitui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04920" y="3352680"/>
                <a:ext cx="373356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57660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04920" y="4038480"/>
                <a:ext cx="457200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Geometria Analítica:</a:t>
            </a:r>
            <a:br>
              <a:rPr sz="2400"/>
            </a:b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Posições relativas entre ponto e circunferência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2133720"/>
            <a:ext cx="891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Tahoma"/>
              </a:rPr>
              <a:t>Exercício-3: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Qual a posição relativa do ponto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(1, 4) em relação à circunferência de equ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576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80880" y="2590920"/>
                <a:ext cx="3024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380880" y="3048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ubstitui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4320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57200" y="3622680"/>
                <a:ext cx="4648320" cy="22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334120" y="3581280"/>
            <a:ext cx="3429000" cy="161856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100000">
                <a:srgbClr val="00c39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Nesse caso a distância do ponto ao centro é maior que o raio concluímos então que o ponto é externo à circunfer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Geometria Analítica:</a:t>
            </a:r>
            <a:br>
              <a:rPr sz="2400"/>
            </a:b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Posições relativas entre ponto e circunferência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13372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esumo final: Quando temos um ponto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(m, n) e uma circunferência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, de centro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(a, b) e raio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, podemos afirmar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958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762120" y="3286080"/>
                <a:ext cx="47242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⇔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32958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62120" y="4191120"/>
                <a:ext cx="47242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r</m:t>
                    </m:r>
                    <m:r>
                      <m:t xml:space="preserve">⇔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32958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838080" y="5105520"/>
                <a:ext cx="46483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r</m:t>
                    </m:r>
                    <m:r>
                      <m:t xml:space="preserve">⇔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6386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4114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é interno a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5105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é externo a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18:56:00Z</dcterms:created>
  <dc:creator>Stanislau Lima</dc:creator>
  <dc:description/>
  <dc:language>en-US</dc:language>
  <cp:lastModifiedBy>USER</cp:lastModifiedBy>
  <dcterms:modified xsi:type="dcterms:W3CDTF">2005-06-16T03:29:31Z</dcterms:modified>
  <cp:revision>17</cp:revision>
  <dc:subject/>
  <dc:title>Geometria Analítica:  Posição Relativa entre ponto e circunferência.</dc:title>
</cp:coreProperties>
</file>