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59.png" ContentType="image/png"/>
  <Override PartName="/ppt/media/image4.wmf" ContentType="image/x-wmf"/>
  <Override PartName="/ppt/media/image16.wmf" ContentType="image/x-wmf"/>
  <Override PartName="/ppt/media/image81.wmf" ContentType="image/x-wmf"/>
  <Override PartName="/ppt/media/image56.wmf" ContentType="image/x-wmf"/>
  <Override PartName="/ppt/media/image54.wmf" ContentType="image/x-wmf"/>
  <Override PartName="/ppt/media/image53.wmf" ContentType="image/x-wmf"/>
  <Override PartName="/ppt/media/image51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png" ContentType="image/png"/>
  <Override PartName="/ppt/media/image43.wmf" ContentType="image/x-wmf"/>
  <Override PartName="/ppt/media/image41.wmf" ContentType="image/x-wmf"/>
  <Override PartName="/ppt/media/image7.png" ContentType="image/png"/>
  <Override PartName="/ppt/media/image42.wmf" ContentType="image/x-wmf"/>
  <Override PartName="/ppt/media/image39.png" ContentType="image/png"/>
  <Override PartName="/ppt/media/image61.wmf" ContentType="image/x-wmf"/>
  <Override PartName="/ppt/media/image37.wmf" ContentType="image/x-wmf"/>
  <Override PartName="/ppt/media/image36.png" ContentType="image/png"/>
  <Override PartName="/ppt/media/image34.png" ContentType="image/png"/>
  <Override PartName="/ppt/media/image32.wmf" ContentType="image/x-wmf"/>
  <Override PartName="/ppt/media/image14.wmf" ContentType="image/x-wmf"/>
  <Override PartName="/ppt/media/image17.png" ContentType="image/png"/>
  <Override PartName="/ppt/media/image57.wmf" ContentType="image/x-wmf"/>
  <Override PartName="/ppt/media/image19.wmf" ContentType="image/x-wmf"/>
  <Override PartName="/ppt/media/image58.wmf" ContentType="image/x-wmf"/>
  <Override PartName="/ppt/media/image22.wmf" ContentType="image/x-wmf"/>
  <Override PartName="/ppt/media/image24.png" ContentType="image/png"/>
  <Override PartName="/ppt/media/image21.wmf" ContentType="image/x-wmf"/>
  <Override PartName="/ppt/media/image64.png" ContentType="image/png"/>
  <Override PartName="/ppt/media/image25.wmf" ContentType="image/x-wmf"/>
  <Override PartName="/ppt/media/image27.png" ContentType="image/png"/>
  <Override PartName="/ppt/media/image67.wmf" ContentType="image/x-wmf"/>
  <Override PartName="/ppt/media/image23.wmf" ContentType="image/x-wmf"/>
  <Override PartName="/ppt/media/image60.wmf" ContentType="image/x-wmf"/>
  <Override PartName="/ppt/media/image20.png" ContentType="image/png"/>
  <Override PartName="/ppt/media/image79.png" ContentType="image/png"/>
  <Override PartName="/ppt/media/image66.wmf" ContentType="image/x-wmf"/>
  <Override PartName="/ppt/media/image77.wmf" ContentType="image/x-wmf"/>
  <Override PartName="/ppt/media/image18.png" ContentType="image/png"/>
  <Override PartName="/ppt/media/image40.wmf" ContentType="image/x-wmf"/>
  <Override PartName="/ppt/media/image65.wmf" ContentType="image/x-wmf"/>
  <Override PartName="/ppt/media/image76.wmf" ContentType="image/x-wmf"/>
  <Override PartName="/ppt/media/image55.png" ContentType="image/png"/>
  <Override PartName="/ppt/media/image75.wmf" ContentType="image/x-wmf"/>
  <Override PartName="/ppt/media/image63.wmf" ContentType="image/x-wmf"/>
  <Override PartName="/ppt/media/image73.wmf" ContentType="image/x-wmf"/>
  <Override PartName="/ppt/media/image15.png" ContentType="image/png"/>
  <Override PartName="/ppt/media/image72.wmf" ContentType="image/x-wmf"/>
  <Override PartName="/ppt/media/image2.png" ContentType="image/png"/>
  <Override PartName="/ppt/media/image70.wmf" ContentType="image/x-wmf"/>
  <Override PartName="/ppt/media/image28.wmf" ContentType="image/x-wmf"/>
  <Override PartName="/ppt/media/image30.png" ContentType="image/png"/>
  <Override PartName="/ppt/media/image68.wmf" ContentType="image/x-wmf"/>
  <Override PartName="/ppt/media/image62.wmf" ContentType="image/x-wmf"/>
  <Override PartName="/ppt/media/image31.wmf" ContentType="image/x-wmf"/>
  <Override PartName="/ppt/media/image74.png" ContentType="image/png"/>
  <Override PartName="/ppt/media/image5.wmf" ContentType="image/x-wmf"/>
  <Override PartName="/ppt/media/image35.wmf" ContentType="image/x-wmf"/>
  <Override PartName="/ppt/media/image69.png" ContentType="image/png"/>
  <Override PartName="/ppt/media/image26.wmf" ContentType="image/x-wmf"/>
  <Override PartName="/ppt/media/image8.wmf" ContentType="image/x-wmf"/>
  <Override PartName="/ppt/media/image38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78.wmf" ContentType="image/x-wmf"/>
  <Override PartName="/ppt/media/image10.png" ContentType="image/png"/>
  <Override PartName="/ppt/media/image5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48.wmf" ContentType="image/x-wmf"/>
  <Override PartName="/ppt/media/image12.png" ContentType="image/png"/>
  <Override PartName="/ppt/media/image71.wmf" ContentType="image/x-wmf"/>
  <Override PartName="/ppt/media/image49.png" ContentType="image/png"/>
  <Override PartName="/ppt/media/image52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6110-E6AA-4D06-9C9B-FE281127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6A3B-64BA-49B4-BDBF-7B1CE0B5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5455-9ED0-44A1-AA88-CB0855D0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7C50-2822-4488-A936-14268DF9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9A37-DB19-4C9A-A7D4-0A76E4FD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E728-FEED-4860-BACE-DD40C5B0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2A22-9E0F-43C0-A51D-6877A4AD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AC7E-1EE9-4ED6-A89C-C4A8B763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78F8-E67B-4241-9373-CEEDBA14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1FBB-3257-4917-AB8B-BF1D3B91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CEDD-A27C-46D9-9436-0F493C7B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C195-8C22-478E-85E7-FD373483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E482-89A8-414E-9951-3C2322C910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1.wmf"/><Relationship Id="rId1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1.wmf"/><Relationship Id="rId1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6.wmf"/><Relationship Id="rId1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wmf"/><Relationship Id="rId5" Type="http://schemas.openxmlformats.org/officeDocument/2006/relationships/image" Target="../media/image7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1.wmf"/><Relationship Id="rId10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3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 DE MATO GROS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RETARIA DE ESTADO DE CIENCIAS E TECNOLOG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IDADE DO ESTADO DE MATO GROS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ULDADE DE CIENCIAS EXA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MPUS UNIVERSITARIOS DE JANE VAN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ARTAMENTO DE MATEMÀ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CÔNICAS NO ENSINO MED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nei Villacien Lopes Silvei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ientador: Profº  João Severino filh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</a:t>
            </a:r>
            <a:r>
              <a:rPr b="1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áce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</a:t>
            </a:r>
            <a:r>
              <a:rPr b="1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5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99960" y="93600"/>
          <a:ext cx="7543800" cy="615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93600"/>
                    <a:ext cx="7543800" cy="615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3120" y="6162840"/>
            <a:ext cx="80010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é a equação da elipse com centro C(x</a:t>
            </a:r>
            <a:r>
              <a:rPr b="1" lang="pt-BR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y</a:t>
            </a:r>
            <a:r>
              <a:rPr b="1" lang="pt-BR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e F</a:t>
            </a:r>
            <a:r>
              <a:rPr b="1" lang="pt-BR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1" lang="pt-BR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ralela ao eixo x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quação reduzida da Elipse com centro na origem e F</a:t>
            </a:r>
            <a:r>
              <a:rPr b="1" i="1" lang="en-US" sz="24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</a:t>
            </a:r>
            <a:r>
              <a:rPr b="1" i="1" lang="en-US" sz="24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idos no eixo X</a:t>
            </a:r>
            <a:br>
              <a:rPr sz="2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0456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C = 0, F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ertencentes ao eixo x, então a equação da elipse é a seguin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09680" y="2209680"/>
          <a:ext cx="441972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209680"/>
                    <a:ext cx="44197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2743200" y="5029200"/>
          <a:ext cx="4267080" cy="16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5029200"/>
                    <a:ext cx="4267080" cy="16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quação da Elipse com F</a:t>
            </a:r>
            <a:r>
              <a:rPr b="1" i="1" lang="en-US" sz="24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</a:t>
            </a:r>
            <a:r>
              <a:rPr b="1" i="1" lang="en-US" sz="24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paralela ao eixo 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mos agora determinar uma equação para a elipse, no caso em que F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 paralela ao eixo y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ja C(x0, y0) o centro da elipse; então, as coordenadas do foco sã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x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y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c) e F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x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y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c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quer que seja um ponto p(x, y) da elipse, tem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124080" y="3581280"/>
          <a:ext cx="335304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581280"/>
                    <a:ext cx="33530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990720" y="38160"/>
          <a:ext cx="7086600" cy="68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160"/>
                    <a:ext cx="70866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28600" y="76320"/>
          <a:ext cx="7238880" cy="59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320"/>
                    <a:ext cx="7238880" cy="59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59432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é a equação da elipse com F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ralela ao eixo y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quação reduzida da Elipse com centro na origem e F</a:t>
            </a:r>
            <a:r>
              <a:rPr b="1" i="1" lang="en-US" sz="24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</a:t>
            </a:r>
            <a:r>
              <a:rPr b="1" i="1" lang="en-US" sz="24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idos no eixo 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C = 0, F1 e F2 pertencerem ao eixo y, então a equação da elipse é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334120" y="2514600"/>
          <a:ext cx="312552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514600"/>
                    <a:ext cx="312552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447920" y="3276720"/>
          <a:ext cx="3276360" cy="20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276720"/>
                    <a:ext cx="327636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PÉRBOLE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dos dois pontos distintos F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 F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pertencentes a um plano α, seja 2c a distancia entre eles. Hipérbole é o conjunto dos pontos de α, cuja diferença (em valor absoluto) das distancias a F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 F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é a constante 2a (sendo 0 &lt; 2a &lt; 2c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pérbole = {p є α / |p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p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 = 2a}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438280" y="3429000"/>
          <a:ext cx="3810240" cy="31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429000"/>
                    <a:ext cx="381024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EMENTOS DE UMA  HIPÉRBO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181480" y="1295280"/>
          <a:ext cx="3505320" cy="26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295280"/>
                    <a:ext cx="350532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0" y="990720"/>
          <a:ext cx="7620120" cy="464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990720"/>
                    <a:ext cx="76201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quação da Hipérbole com F</a:t>
            </a:r>
            <a:r>
              <a:rPr b="1" i="1" lang="en-US" sz="24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</a:t>
            </a:r>
            <a:r>
              <a:rPr b="1" i="1" lang="en-US" sz="24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paralela ao eixo X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ja C(xo , yo) o centro da hipérbole; então os focos sã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um ponto qualquer P da hipérbole, tem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819520" y="3200400"/>
          <a:ext cx="3886200" cy="33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200400"/>
                    <a:ext cx="388620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600200" y="2286000"/>
          <a:ext cx="274320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286000"/>
                    <a:ext cx="2743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457200" y="609480"/>
          <a:ext cx="792468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92468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80880" y="236232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envolvendo, temos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3276720"/>
          <a:ext cx="4419720" cy="16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276720"/>
                    <a:ext cx="44197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0" y="5257800"/>
            <a:ext cx="6400800" cy="6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é a equação da hipérbole com F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ralela ao eixo X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e trabalho representa um estudo de secções cônicas em seu aspecto histórico e geométrico. Relatando as secções que são obtidas através de um cone circular re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 uma pesquisa realizada junto ao corpo docente da Escola Estadual “José Bejo” em Glória D’Oes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quação reduzida da Hipérbole com F</a:t>
            </a:r>
            <a:r>
              <a:rPr b="1" i="1" lang="en-US" sz="24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</a:t>
            </a:r>
            <a:r>
              <a:rPr b="1" i="1" lang="en-US" sz="24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idos no eixo X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F1 e F2 pertence ao eixo X e C = 0, a hipérbole tem a seguinte equaçã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105520" y="2743200"/>
          <a:ext cx="321624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743200"/>
                    <a:ext cx="32162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990720" y="3276720"/>
          <a:ext cx="3276360" cy="20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276720"/>
                    <a:ext cx="327636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quação da Hipérbole com F</a:t>
            </a:r>
            <a:r>
              <a:rPr b="1" i="1" lang="en-US" sz="24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</a:t>
            </a:r>
            <a:r>
              <a:rPr b="1" i="1" lang="en-US" sz="24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alela ao eixo 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ja c(xo, yo) o centro da hipérbole, então os focos s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um ponto qualquer P(x, y) da hipérbole tem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23880" y="1600200"/>
          <a:ext cx="414684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41468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124080" y="2743200"/>
          <a:ext cx="3733920" cy="346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2743200"/>
                    <a:ext cx="373392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304920" y="609480"/>
          <a:ext cx="853416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8534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304920" y="23623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envolvendo, tem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3048120"/>
          <a:ext cx="3733920" cy="142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048120"/>
                    <a:ext cx="3733920" cy="14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0" y="4495680"/>
            <a:ext cx="91440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é a equação da hipérbole com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1" lang="en-US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1" lang="en-US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ralela ao eixo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quação reduzida da Hipérbole com centro na origem e F</a:t>
            </a:r>
            <a:r>
              <a:rPr b="1" i="1" lang="en-US" sz="24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</a:t>
            </a:r>
            <a:r>
              <a:rPr b="1" i="1" lang="en-US" sz="24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ntidos no eixo 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828800"/>
            <a:ext cx="9144000" cy="6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F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 F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tencem ao eixo y e c = 0, a hipérbole terá a seguinte equação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800600" y="2209680"/>
          <a:ext cx="321156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209680"/>
                    <a:ext cx="32115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838080" y="3200400"/>
          <a:ext cx="2971800" cy="18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200400"/>
                    <a:ext cx="297180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pérbole Eqüilátera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a hipérbole é eqüilátera quando o centro esta na origem e os seus eixos real e imaginário possuem a mesma medida, ou seja, 2a = 2b ou simplesmente a = 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nto temos a equação da hipérbole eqüilátera, com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equação reduzida , que é da formula ,                      e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pérbole eqüilátera a = b temos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é a formula da hipérbole eqüilátera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410080" y="2362320"/>
          <a:ext cx="1371600" cy="7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362320"/>
                    <a:ext cx="137160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724280" y="3124080"/>
          <a:ext cx="3733920" cy="6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124080"/>
                    <a:ext cx="37339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5715000" y="3809880"/>
          <a:ext cx="2471760" cy="274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3809880"/>
                    <a:ext cx="247176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ÁBOLA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dos um ponto F e uma reta d, pertencentes a um plano     , com F      d, seja P a distancia entre F e d, parábola é o conjunto dos pontos de,    que estão a mesma distancia de F e de 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ábola =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905120" y="3200400"/>
          <a:ext cx="266688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200400"/>
                    <a:ext cx="26668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295280" y="4114800"/>
            <a:ext cx="91440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F = P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410080" y="3276720"/>
          <a:ext cx="3429000" cy="298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3276720"/>
                    <a:ext cx="3429000" cy="29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7696080" y="1981080"/>
          <a:ext cx="30960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96080" y="1981080"/>
                    <a:ext cx="3096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629400" y="2057400"/>
          <a:ext cx="304920" cy="27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29400" y="2057400"/>
                    <a:ext cx="304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8381880" y="2362320"/>
          <a:ext cx="304920" cy="279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1880" y="2362320"/>
                    <a:ext cx="304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EMENTOS DE UMA PARÁBOL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: reta diretriz (reta fixa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: Foco (ponto fixo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p &gt; 0: parâmetr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F: eixo de simetri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: Vértice ( ponto médio de FB, FB ┴ d e B Є 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o p o parâmetro da parábola, BF = p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V =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867280" y="1905120"/>
          <a:ext cx="28735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905120"/>
                    <a:ext cx="28735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0" y="2743200"/>
          <a:ext cx="60948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743200"/>
                    <a:ext cx="6094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2514600" y="2590920"/>
          <a:ext cx="193356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590920"/>
                    <a:ext cx="19335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990720" y="4343400"/>
          <a:ext cx="1676160" cy="8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4343400"/>
                    <a:ext cx="16761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quação da Parábola com diretriz d paralela ao eixo Y e o foco à direita de d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066680" y="2057400"/>
          <a:ext cx="546732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54673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914400" y="167652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ja V(xo, yo), o vértice da parábola, então: o foco é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um ponto P(x,y) da parábola. Tem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562720" y="3048120"/>
          <a:ext cx="3124080" cy="28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3048120"/>
                    <a:ext cx="312408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762120" y="533520"/>
          <a:ext cx="5333760" cy="15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533376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76200" y="2438280"/>
            <a:ext cx="26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envolvendo, temos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04920" y="3352680"/>
          <a:ext cx="4190760" cy="95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352680"/>
                    <a:ext cx="419076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04920" y="4572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é a equação da parábola, quando a diretriz d esta paralela ao eixo y e o foco a direita de 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quação Reduzida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98108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ja V(0,0), o vértice da parábola, então o foco é                    a equação da diretriz d é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um ponto qualquer P(x,y) da parábola, tem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019920" y="1752480"/>
          <a:ext cx="129528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752480"/>
                    <a:ext cx="129528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371600" y="2286000"/>
          <a:ext cx="1755720" cy="11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286000"/>
                    <a:ext cx="175572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5943600" y="3809880"/>
          <a:ext cx="2895480" cy="264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809880"/>
                    <a:ext cx="2895480" cy="26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57200" y="3962520"/>
          <a:ext cx="1676520" cy="66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962520"/>
                    <a:ext cx="167652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376200" y="4648320"/>
            <a:ext cx="25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envolvendo, tem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762120" y="5257800"/>
          <a:ext cx="1523880" cy="59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5257800"/>
                    <a:ext cx="1523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ÓRIA DOS TERMOS, ELIPSE HIPÉRBOLE E PARÁBOL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de se entender o significado desses termos estudando as descobertas dos grandes matemáticos da histó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oclus, o comentador grego, registra que essas três curvas foram descobertas por Menaecm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olônio de Perga, repousa principalmente sobre seu extraordinário secções cônicas, no qual vamos estudar a seguir.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quação da Parábola com diretriz d paralela ao eixo Y e foco a esquerda da diretriz.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60020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ja V(xo,yo) o vértice da parábola, então, o foco é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a diretriz d tem equação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um ponto qualquer P(x,y) da parábola, tem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172200" y="1447920"/>
          <a:ext cx="159372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447920"/>
                    <a:ext cx="159372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914400" y="2209680"/>
          <a:ext cx="5994360" cy="108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209680"/>
                    <a:ext cx="599436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609480" y="3962520"/>
          <a:ext cx="1752840" cy="69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962520"/>
                    <a:ext cx="175284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5999040" y="3381480"/>
          <a:ext cx="2895840" cy="2636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99040" y="3381480"/>
                    <a:ext cx="2895840" cy="26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00240" y="4648320"/>
            <a:ext cx="25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envolvendo, tem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04920" y="5105520"/>
          <a:ext cx="4952880" cy="907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920" y="5105520"/>
                    <a:ext cx="495288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quação Reduzida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676520"/>
            <a:ext cx="883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ja V(0,0), o vértice da parábola, então o foco é                     , a equação da diretriz d é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um ponto qualquer da P(x,y) parábola, temo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105520" y="1447920"/>
          <a:ext cx="1295280" cy="9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447920"/>
                    <a:ext cx="12952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600200" y="1981080"/>
          <a:ext cx="1746360" cy="112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1981080"/>
                    <a:ext cx="17463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6095880" y="3048120"/>
          <a:ext cx="2691000" cy="289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3048120"/>
                    <a:ext cx="26910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33520" y="3733920"/>
          <a:ext cx="1904760" cy="75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3733920"/>
                    <a:ext cx="190476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300240" y="4572000"/>
            <a:ext cx="25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envolvendo, tem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09480" y="5105520"/>
          <a:ext cx="2438640" cy="82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5105520"/>
                    <a:ext cx="243864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quação da Parábola com diretriz paralela ao eixo X e foco acima da diretriz.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44792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ja V(xo,yo), o vértice da parábola, então , o foco é                            , e a diretriz da equação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um ponto qualquer P(x,y) da parábola, temos (Fig. 29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400800" y="1143000"/>
          <a:ext cx="2030400" cy="9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143000"/>
                    <a:ext cx="203040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523880" y="2133720"/>
          <a:ext cx="439272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2133720"/>
                    <a:ext cx="439272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5715000" y="3352680"/>
          <a:ext cx="3124080" cy="310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3352680"/>
                    <a:ext cx="3124080" cy="31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609480" y="3352680"/>
          <a:ext cx="1828800" cy="723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3352680"/>
                    <a:ext cx="1828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376200" y="4114800"/>
            <a:ext cx="25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envolvendo, tem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33520" y="4876920"/>
          <a:ext cx="4343400" cy="84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4876920"/>
                    <a:ext cx="434340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quação Reduzida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1371600"/>
            <a:ext cx="8915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ja V(0,0), o centro da parábola, então o foco é                         , e a equação da diretriz d é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um ponto qualquer P(x,y) da parábola, tem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5334120" y="1066680"/>
          <a:ext cx="152388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066680"/>
                    <a:ext cx="15238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1066680" y="1752480"/>
          <a:ext cx="1752840" cy="109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752480"/>
                    <a:ext cx="1752840" cy="10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5257800" y="3352680"/>
          <a:ext cx="3505320" cy="290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3352680"/>
                    <a:ext cx="350532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457200" y="3429000"/>
          <a:ext cx="2057400" cy="814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429000"/>
                    <a:ext cx="20574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300240" y="4267080"/>
            <a:ext cx="25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envolvendo, tem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57200" y="4876920"/>
          <a:ext cx="1828800" cy="715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4876920"/>
                    <a:ext cx="1828800" cy="71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quação da Parábola com diretriz paralela ao eixo X e foco abaixo da diretriz.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144792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ja V(xo, yo), o vértice da parábola, então o foco é                                  , e a diretriz tem equação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um ponto qualquer P(x,y), da parábola, tem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715000" y="1066680"/>
          <a:ext cx="1974960" cy="8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066680"/>
                    <a:ext cx="197496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1600200" y="2057400"/>
          <a:ext cx="4927680" cy="88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057400"/>
                    <a:ext cx="492768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5638680" y="3886200"/>
          <a:ext cx="3124440" cy="275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3886200"/>
                    <a:ext cx="312444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304920" y="3733920"/>
          <a:ext cx="2133360" cy="84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3733920"/>
                    <a:ext cx="213336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300240" y="4648320"/>
            <a:ext cx="25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envolvendo, tem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0" y="5181480"/>
          <a:ext cx="4572000" cy="83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5181480"/>
                    <a:ext cx="45720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quação Reduzida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121932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ja V(0,0), o vértice da parábola, então o foco é                       ,e a equação da diretriz d é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um ponto qualquer P(x,y), da parábola, tem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334120" y="990720"/>
          <a:ext cx="137160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990720"/>
                    <a:ext cx="13716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676520" y="1523880"/>
          <a:ext cx="1517400" cy="94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1523880"/>
                    <a:ext cx="151740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5334120" y="3276720"/>
            <a:ext cx="3504960" cy="3011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0" name=""/>
          <p:cNvGraphicFramePr/>
          <p:nvPr/>
        </p:nvGraphicFramePr>
        <p:xfrm>
          <a:off x="228600" y="3352680"/>
          <a:ext cx="2362320" cy="935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" y="3352680"/>
                    <a:ext cx="236232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223920" y="4343400"/>
            <a:ext cx="25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envolvendo, tem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57200" y="5029200"/>
          <a:ext cx="2514600" cy="85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7200" y="5029200"/>
                    <a:ext cx="251460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SQUISA REALIZADA NA ESCOLA JOSÉ BEJO EM GLÓRIA D’OESTE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– Você ensina as cônicas no 3º Ano do ensino médi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   ) Si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x ) N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2666880"/>
            <a:ext cx="8147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– Se você não ensina, qual é o motivo que não permite que o aluno adquira este aprendiza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3413160"/>
            <a:ext cx="8458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do o conteúdo estar no final do livro do 3º ano do ensino médio é muito difícil ser trabalhado; não encontramos tempo para ministrar o referido conteú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estado das cônicas fica mesmo restrito ao ensino superior, o máximo que se consegue é uma leve introdução de limite e das integrais, pois sabemos que o conteúdo trabalhado em sala de aula não pode ter somente volume,  mas sim qualidade, porque não adiantaria nada terminar o livro todo se no final ninguém aprendeu nada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 a resposta deste professor concluímos que a matéria cônicas está reservado somente para o ensino superior, já que o professor tem uma visão clara da educação, não basta somente o volume, o que é importante é a qualidade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DERAÇÕES FINAIS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1447920"/>
            <a:ext cx="8458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principal objetivo desta monografia é fazer com que alunos e professores, percebam a importância dos conceitos geométricos, assim como eles podem ser tratados geometricamente. Com isso ao desenvolver com os alunos o estudo das cônicas, como ênfase deve recair sobre a compreensão da história e saber desenvolver uma equação para a obtenção de sua equação geral e também verificaras relações que há entre elipse, hipérbole e parábola, e não apenas  na memorização de uma infinidade de equaçõ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estudo das cônicas pode ser feito de modo a enfatizar a história como obtê-las, como representa – las, graficamente e como relacionar seu elemento com as equações gerais que as representam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IBLIOGRAFIA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2197080"/>
            <a:ext cx="914400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OLE, Kátia Cristina, KIYUKAWA, Saburo, matemática, vol. 03, ed. Saraiva, São Paulo, 1998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IVA, Manoel, matemática, vol. 03, ed, moderna, São Pulo, 199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ESSI, Gelson, Fundamentos da matemática elementar, vol. 07, geometria analítica, 4ª edição, ed. atual, São Paulo. 199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S, howard, história da geometria, trad. Hygino H. Domingues, São Paulo, ed. Atual, 1992 (tópicos de historia da matemática para uso em sala de aula vol. 03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YER, Carl B., história da matemática, tradução Elza F. Gomid, 2ª edição, Garl Blucher, São Paulo, 1996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 CÔNIC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cônicas foram estudadas por Menaecmus, Euclides e Arquime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obra de nível mais avançada foi precisamente a feita por Apolônio de Perga, que substituiu qualquer estudo anter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OLÔNIO DE PERG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olônio nasceu em Perga na Panfilia, Sul da Ásia menor, que hoje é conhecida como Murtina ou Murtuna, na Turqu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cando conhecido como o “grande geômetra” ou o “geômetra magno”, deixou  uma vasta obra  que contribuiu para o desenvolvimento da matemát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s dados da vida de Apolônio são escassos e quase todos de notas que aparecem nas introduções dos diferentes livros de côn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reu cerca de 190 ac. Em Alexandria no Egit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ELIP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que é uma elips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dos dois pontos distintos F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 F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pertencentes ao plano α, seja 2c a distancia entre e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pse é o conjunto dos pontos α cuja soma das distancias a F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F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 a constante 2a (sendo 2a &gt; 2c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pse = {P є α / PF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PF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2a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029200" y="1447920"/>
          <a:ext cx="3200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447920"/>
                    <a:ext cx="3200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EMENTOS DE UMA ELIP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os :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 pontos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1" lang="pt-BR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1" lang="pt-BR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o ponto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que é o ponto médio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i-eixo maior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i-eixo menor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idistância focal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értice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os pontos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pt-BR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pt-BR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1" lang="pt-BR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1" lang="pt-BR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xo maior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xo menor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ância focal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486400" y="2209680"/>
          <a:ext cx="335268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3526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1866960" y="2739960"/>
          <a:ext cx="45720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66960" y="2739960"/>
                    <a:ext cx="4572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666880" y="4800600"/>
          <a:ext cx="914400" cy="3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4800600"/>
                    <a:ext cx="9144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743200" y="5181480"/>
          <a:ext cx="990720" cy="36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181480"/>
                    <a:ext cx="99072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124080" y="5638680"/>
          <a:ext cx="914400" cy="352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24080" y="5638680"/>
                    <a:ext cx="9144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quação da Elipse com  F</a:t>
            </a:r>
            <a:r>
              <a:rPr b="1" i="1" lang="en-US" sz="24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</a:t>
            </a:r>
            <a:r>
              <a:rPr b="1" i="1" lang="en-US" sz="24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paralela ao eixo X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mos determinar uma equação para elipse no caso que F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é paralela ao eixo x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ja C(x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y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o centro da elipse; então, as coordenadas dos focos são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x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c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e F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x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c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y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um ponto P(x, y) qualquer da elipse, temos: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276720" y="3657600"/>
          <a:ext cx="39621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657600"/>
                    <a:ext cx="39621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80880" y="247680"/>
          <a:ext cx="8458200" cy="66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47680"/>
                    <a:ext cx="8458200" cy="66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2286000" y="0"/>
            <a:ext cx="12952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p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F1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dp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F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2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5T13:37:11Z</dcterms:created>
  <dc:creator>Bejo</dc:creator>
  <dc:description/>
  <dc:language>en-US</dc:language>
  <cp:lastModifiedBy>Bejo</cp:lastModifiedBy>
  <dcterms:modified xsi:type="dcterms:W3CDTF">2005-06-27T19:02:34Z</dcterms:modified>
  <cp:revision>29</cp:revision>
  <dc:subject/>
  <dc:title>Apresentação do PowerPoint</dc:title>
</cp:coreProperties>
</file>