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883-1951-4322-B1EB-79C04496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58B-D50B-4783-8778-05EFFD17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29C-553F-4A3B-84B1-D3A1C72F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C15-9AAB-47A4-8C0E-DEE73845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679F-A810-4DA7-9BB1-1BA75FA5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5381-0D7C-4651-BB1D-EB9606A4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DA5D-5542-4C5E-B03D-EBE06A79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F6C7-C492-4E04-A43D-C0CB7395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3296-5D2E-44A2-9F5A-CCE82EA1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F5E6-15F8-41F9-81DD-9B782350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14D6-F881-4664-B830-B95A1520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ACF-4CD7-4D9E-9BE8-2C5286AB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61C4-9F6D-4854-8719-A19FDE3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59A2-5C44-454B-9A70-7500278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1497-35BA-48D3-B8D0-D9F333B0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2733-7E44-42D8-989A-B77F7061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5FF3-A065-4E9F-8C36-F67EC336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BB3-D312-4F84-AE62-672544B8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D07-AB60-45A8-9EE5-3B685DD0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E30-83B5-4040-8304-4A34FFEC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42E-1160-409F-8D5F-31487C4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4C7-4CAE-443F-B2C9-0F2ACD6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4E7-B7C0-4834-A504-35C07C8B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C0A-526A-4079-9BA1-B41635E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9F3-6329-49AF-9130-67875A322C4F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0781-F4CA-47E5-8ECF-1B968B150F8A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76520" y="990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990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38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981080"/>
            <a:ext cx="838188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  aula a seguir  trará  a definição e  equação da circunferência bem como alguns exercícios de aplicação resolvidos para melhor entendimento do conteúdo ex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ara isso é necessário que recordemos o conceito de distância entre po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14600" y="4343400"/>
          <a:ext cx="3962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343400"/>
                    <a:ext cx="3962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2096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Logo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 equação inicial representa uma circunferência de centro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(2, 4)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raio 1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3429000"/>
          <a:ext cx="3886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429000"/>
                    <a:ext cx="3886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33520" y="4724280"/>
          <a:ext cx="48765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24280"/>
                    <a:ext cx="4876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133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Exemplo 3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Vamos verificar se a equação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19920" y="2160720"/>
          <a:ext cx="289548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160720"/>
                    <a:ext cx="28954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57200" y="25146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Representa uma circunferê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3520" y="2936880"/>
          <a:ext cx="373356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936880"/>
                    <a:ext cx="37335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267080" y="3139920"/>
          <a:ext cx="45720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139920"/>
                    <a:ext cx="4572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876920" y="2820960"/>
          <a:ext cx="403848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2820960"/>
                    <a:ext cx="40384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33520" y="3807000"/>
          <a:ext cx="701028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807000"/>
                    <a:ext cx="70102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620120" y="3962520"/>
          <a:ext cx="457200" cy="28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3962520"/>
                    <a:ext cx="45720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57200" y="4572000"/>
          <a:ext cx="3962520" cy="7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" y="4572000"/>
                    <a:ext cx="3962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4495680" y="48769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mo a soma dos fatores no 1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4864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5257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Membro é positiva ou nula, nunca é negativa, então a equação em questão não representa circunferê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590920"/>
            <a:ext cx="815328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Créditos da 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Todos os direitos reservados 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rofº. Stanislau 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057400"/>
            <a:ext cx="830556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Definição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Arial"/>
              </a:rPr>
              <a:t>Circunferência é o conjunto de todos os pontos de um plano eqüidistantes de um ponto fixo, desse mesmo plano, denominado centro da circunferê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981080"/>
            <a:ext cx="8610480" cy="16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  <a:ea typeface="Arial"/>
              </a:rPr>
              <a:t>Equação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Assim, send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a, b) o centro 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x, y) um ponto qualquer da circunferência, a distância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d</a:t>
            </a:r>
            <a:r>
              <a:rPr b="0" lang="pt-BR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) é o raio dessa circunferência. Entã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4191120" cy="32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105520" y="3048120"/>
          <a:ext cx="373356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048120"/>
                    <a:ext cx="3733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209680"/>
            <a:ext cx="830592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Observação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o caso particular de o centro da circunferência estar na origem, ou seja a = b = 0, a equação da circunferência 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743200" y="3352680"/>
          <a:ext cx="33526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52680"/>
                    <a:ext cx="33526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362320"/>
            <a:ext cx="8458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Exemplo 1: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Vamos determinar a equação de uma circunferência com centro no ponto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O(-3, 1)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e raio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. Neste caso temos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a = -3 b = 1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r =3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. Usando a equação                               temos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38600" y="3200400"/>
          <a:ext cx="252432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8600" y="3200400"/>
                    <a:ext cx="25243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04920" y="396252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19112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962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3962520"/>
          <a:ext cx="289548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962520"/>
                    <a:ext cx="28954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352680" y="4130640"/>
          <a:ext cx="45720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130640"/>
                    <a:ext cx="4572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114800" y="3997440"/>
          <a:ext cx="289548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3997440"/>
                    <a:ext cx="2895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162920" y="4130640"/>
          <a:ext cx="457200" cy="2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4130640"/>
                    <a:ext cx="4572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80880" y="4927680"/>
          <a:ext cx="403884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4927680"/>
                    <a:ext cx="40388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495680" y="5045040"/>
          <a:ext cx="457200" cy="28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5045040"/>
                    <a:ext cx="4572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153040" y="4954680"/>
          <a:ext cx="3686040" cy="455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53040" y="4954680"/>
                    <a:ext cx="36860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Logo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 equação procurada 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crita na forma reduz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2892600"/>
          <a:ext cx="3048120" cy="54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92600"/>
                    <a:ext cx="304812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85800" y="35812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81040" y="4267080"/>
          <a:ext cx="368604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040" y="4267080"/>
                    <a:ext cx="36860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419720" y="4267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crita na forma g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133720"/>
            <a:ext cx="8382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Exemplo 2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Vamos determinar a equação da circunferência com centro no ponto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A(1, -2)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e que passa pelo ponto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(2, 3)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80880" y="3200400"/>
          <a:ext cx="36576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00400"/>
                    <a:ext cx="3657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114800" y="3276720"/>
          <a:ext cx="464832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276720"/>
                    <a:ext cx="46483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114800" y="4876920"/>
          <a:ext cx="373392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876920"/>
                    <a:ext cx="37339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Logo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 equação procurada 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743200"/>
          <a:ext cx="32767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3276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03848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crita na forma reduz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5812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267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crita na forma g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3962520"/>
          <a:ext cx="3962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962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ahoma"/>
              </a:rPr>
              <a:t>Geometria Analítica: A circun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8382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ahoma"/>
              </a:rPr>
              <a:t>Exemplo 3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Vamos verificar se a equação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5880" y="2133720"/>
          <a:ext cx="25146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133720"/>
                    <a:ext cx="2514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80880" y="2514600"/>
            <a:ext cx="8305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Representa uma circunferência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(Usando o processo conhecido como completando quadrados para decompor temo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3276720"/>
          <a:ext cx="4114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4114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572000" y="3581280"/>
          <a:ext cx="45720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581280"/>
                    <a:ext cx="4572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" y="4114800"/>
          <a:ext cx="594360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114800"/>
                    <a:ext cx="59436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477120" y="4343400"/>
          <a:ext cx="457200" cy="2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4343400"/>
                    <a:ext cx="4572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33520" y="5105520"/>
          <a:ext cx="2743200" cy="76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5105520"/>
                    <a:ext cx="27432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429000" y="5410080"/>
          <a:ext cx="457200" cy="28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5410080"/>
                    <a:ext cx="4572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191120" y="5105520"/>
          <a:ext cx="259056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91120" y="5105520"/>
                    <a:ext cx="2590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6:42:49Z</dcterms:created>
  <dc:creator>Desktop</dc:creator>
  <dc:description/>
  <dc:language>en-US</dc:language>
  <cp:lastModifiedBy>Stanislau Lima</cp:lastModifiedBy>
  <dcterms:modified xsi:type="dcterms:W3CDTF">2005-06-02T16:52:15Z</dcterms:modified>
  <cp:revision>14</cp:revision>
  <dc:subject/>
  <dc:title>Apresentação do PowerPoint</dc:title>
</cp:coreProperties>
</file>