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4.png" ContentType="image/png"/>
  <Override PartName="/ppt/media/image3.png" ContentType="image/png"/>
  <Override PartName="/ppt/media/image17.jpeg" ContentType="image/jpeg"/>
  <Override PartName="/ppt/media/image2.png" ContentType="image/png"/>
  <Override PartName="/ppt/media/image27.wmf" ContentType="image/x-wmf"/>
  <Override PartName="/ppt/media/image16.jpeg" ContentType="image/jpeg"/>
  <Override PartName="/ppt/media/image25.wmf" ContentType="image/x-wmf"/>
  <Override PartName="/ppt/media/image14.png" ContentType="image/png"/>
  <Override PartName="/ppt/media/image24.wmf" ContentType="image/x-wmf"/>
  <Override PartName="/ppt/media/image23.wmf" ContentType="image/x-wmf"/>
  <Override PartName="/ppt/media/image20.jpeg" ContentType="image/jpeg"/>
  <Override PartName="/ppt/media/image18.jpeg" ContentType="image/jpeg"/>
  <Override PartName="/ppt/media/image21.wmf" ContentType="image/x-wmf"/>
  <Override PartName="/ppt/media/image5.png" ContentType="image/png"/>
  <Override PartName="/ppt/media/image10.png" ContentType="image/png"/>
  <Override PartName="/ppt/media/image15.jpeg" ContentType="image/jpeg"/>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24650" cy="1108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AA1F4-E825-44E1-BD64-B37693ED5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B2731-27F9-47EB-B994-B3D01AD1F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84C81-C7C5-4AF7-AD16-FA96322AE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EC381-E32D-451B-BFE3-1EC8173B6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850999-10E3-4BC7-84B8-B7D5659510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F26D5-5DBF-4808-ACD2-37C76D81B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22CF7-C309-497E-9961-E34AF8314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AE97E-0FA7-47CF-80C8-4C548775A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CBB59-5B30-4068-ACA8-95E3FE119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B531E-DC55-4939-975A-7618F87C3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892C5-D82A-4864-9EC9-7FD9CE777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D317C-A2B0-4580-9D65-283A4BB67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FE7C5-10E2-471B-884B-BD9EA6D3B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A1A45-2AD9-49FE-9BA1-CB56381DB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44124-F3AE-48C6-8FAE-CEFB1C4D5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11CE0E-A5BD-419C-8420-89C0DF1E60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2AB024-B70C-4B43-99CF-17FFF64E40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B1E10-BAB7-48CD-8ACA-01C3180BD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25CB1-5B33-496B-8147-5AF89B907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AED33-0E8E-4651-A4A8-F901D0CEC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7E9DA-B420-4398-91C6-C6579424A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1C8D2-7889-4CD7-BBD4-6D78AB2AE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FBB6F-6EF4-4CAF-91A4-26A1DDF5A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8D531-8166-4131-8526-2A84CAD7A0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Expbanna" descr=""/>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0FEAE-F290-404D-B25A-4368D247C69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EXPHORSA" descr=""/>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4" name="PlaceHolder 2"/>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2A93E-A7B5-4577-A590-7C9B9CE8BB0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grpSp>
        <p:nvGrpSpPr>
          <p:cNvPr id="47" name=""/>
          <p:cNvGrpSpPr/>
          <p:nvPr/>
        </p:nvGrpSpPr>
        <p:grpSpPr>
          <a:xfrm>
            <a:off x="0" y="0"/>
            <a:ext cx="6362640" cy="6858000"/>
            <a:chOff x="0" y="0"/>
            <a:chExt cx="6362640" cy="6858000"/>
          </a:xfrm>
        </p:grpSpPr>
        <p:pic>
          <p:nvPicPr>
            <p:cNvPr id="48" name="Expbanna" descr=""/>
            <p:cNvPicPr/>
            <p:nvPr/>
          </p:nvPicPr>
          <p:blipFill>
            <a:blip r:embed="rId3"/>
            <a:stretch/>
          </p:blipFill>
          <p:spPr>
            <a:xfrm>
              <a:off x="0" y="0"/>
              <a:ext cx="685800" cy="6858000"/>
            </a:xfrm>
            <a:prstGeom prst="rect">
              <a:avLst/>
            </a:prstGeom>
            <a:ln w="0">
              <a:noFill/>
            </a:ln>
          </p:spPr>
        </p:pic>
        <p:pic>
          <p:nvPicPr>
            <p:cNvPr id="49" name="EXPHORSA" descr=""/>
            <p:cNvPicPr/>
            <p:nvPr/>
          </p:nvPicPr>
          <p:blipFill>
            <a:blip r:embed="rId4"/>
            <a:stretch/>
          </p:blipFill>
          <p:spPr>
            <a:xfrm>
              <a:off x="3505320" y="5715000"/>
              <a:ext cx="2857320" cy="95400"/>
            </a:xfrm>
            <a:prstGeom prst="rect">
              <a:avLst/>
            </a:prstGeom>
            <a:ln w="0">
              <a:noFill/>
            </a:ln>
          </p:spPr>
        </p:pic>
      </p:grpSp>
      <p:pic>
        <p:nvPicPr>
          <p:cNvPr id="50" name="EXPHORSA" descr=""/>
          <p:cNvPicPr/>
          <p:nvPr/>
        </p:nvPicPr>
        <p:blipFill>
          <a:blip r:embed="rId5"/>
          <a:stretch/>
        </p:blipFill>
        <p:spPr>
          <a:xfrm>
            <a:off x="1981080" y="3657600"/>
            <a:ext cx="5715000" cy="9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imes New Roman"/>
              </a:rPr>
              <a:t>TRABALHO DE HISTÓRIA</a:t>
            </a:r>
            <a:br>
              <a:rPr sz="4400"/>
            </a:br>
            <a:r>
              <a:rPr b="1" lang="en-US" sz="4400" spc="-1" strike="noStrike">
                <a:solidFill>
                  <a:srgbClr val="482400"/>
                </a:solidFill>
                <a:latin typeface="Times New Roman"/>
              </a:rPr>
              <a:t>DA MATEMÁTICA</a:t>
            </a:r>
            <a:endParaRPr b="0" lang="en-US" sz="4400" spc="-1" strike="noStrike">
              <a:solidFill>
                <a:srgbClr val="482400"/>
              </a:solidFill>
              <a:latin typeface="Times New Roman"/>
            </a:endParaRPr>
          </a:p>
        </p:txBody>
      </p:sp>
      <p:sp>
        <p:nvSpPr>
          <p:cNvPr id="88" name=""/>
          <p:cNvSpPr/>
          <p:nvPr/>
        </p:nvSpPr>
        <p:spPr>
          <a:xfrm>
            <a:off x="1066680" y="2133720"/>
            <a:ext cx="7848720" cy="3237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ma: </a:t>
            </a:r>
            <a:r>
              <a:rPr b="1" lang="en-US" sz="3600" spc="-1" strike="noStrike">
                <a:solidFill>
                  <a:srgbClr val="000000"/>
                </a:solidFill>
                <a:latin typeface="Times New Roman"/>
              </a:rPr>
              <a:t>MATEMÁTICOS GREGOS</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ora: </a:t>
            </a:r>
            <a:r>
              <a:rPr b="1" lang="en-US" sz="2800" spc="-1" strike="noStrike">
                <a:solidFill>
                  <a:srgbClr val="000000"/>
                </a:solidFill>
                <a:latin typeface="Times New Roman"/>
              </a:rPr>
              <a:t>Malba Neto Silv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so: </a:t>
            </a:r>
            <a:r>
              <a:rPr b="1" lang="en-US" sz="2800" spc="-1" strike="noStrike">
                <a:solidFill>
                  <a:srgbClr val="000000"/>
                </a:solidFill>
                <a:latin typeface="Times New Roman"/>
              </a:rPr>
              <a:t>Matemáti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érie: </a:t>
            </a:r>
            <a:r>
              <a:rPr b="1" lang="en-US" sz="2800" spc="-1" strike="noStrike">
                <a:solidFill>
                  <a:srgbClr val="000000"/>
                </a:solidFill>
                <a:latin typeface="Times New Roman"/>
              </a:rPr>
              <a:t>1º ano</a:t>
            </a:r>
            <a:endParaRPr b="0" lang="en-US" sz="2800" spc="-1" strike="noStrike">
              <a:solidFill>
                <a:srgbClr val="000000"/>
              </a:solidFill>
              <a:latin typeface="Times New Roman"/>
            </a:endParaRPr>
          </a:p>
        </p:txBody>
      </p:sp>
      <p:sp>
        <p:nvSpPr>
          <p:cNvPr id="89" name=""/>
          <p:cNvSpPr/>
          <p:nvPr/>
        </p:nvSpPr>
        <p:spPr>
          <a:xfrm>
            <a:off x="838080" y="5943600"/>
            <a:ext cx="83059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FUNDAÇÃO EDUCACIONAL NORDESTE MINEIRO</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FACULDADE DE FILOSOFIA, CIÊNCIAS E LETRAS DE TEOFILO OTONI.</a:t>
            </a:r>
            <a:endParaRPr b="0" lang="en-US" sz="1800" spc="-1" strike="noStrike">
              <a:solidFill>
                <a:srgbClr val="000000"/>
              </a:solidFill>
              <a:latin typeface="Times New Roman"/>
            </a:endParaRPr>
          </a:p>
        </p:txBody>
      </p:sp>
    </p:spTree>
  </p:cSld>
  <p:transition>
    <p:pull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conica" descr=""/>
          <p:cNvPicPr/>
          <p:nvPr/>
        </p:nvPicPr>
        <p:blipFill>
          <a:blip r:embed="rId2"/>
          <a:stretch/>
        </p:blipFill>
        <p:spPr>
          <a:xfrm>
            <a:off x="1295280" y="382680"/>
            <a:ext cx="1447920" cy="2209680"/>
          </a:xfrm>
          <a:prstGeom prst="rect">
            <a:avLst/>
          </a:prstGeom>
          <a:ln w="0">
            <a:noFill/>
          </a:ln>
        </p:spPr>
      </p:pic>
      <p:sp>
        <p:nvSpPr>
          <p:cNvPr id="128" name=""/>
          <p:cNvSpPr/>
          <p:nvPr/>
        </p:nvSpPr>
        <p:spPr>
          <a:xfrm rot="16200000">
            <a:off x="-2962800" y="2962800"/>
            <a:ext cx="6568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 I P É R B O L E</a:t>
            </a:r>
            <a:endParaRPr b="0" lang="en-US" sz="3600" spc="-1" strike="noStrike">
              <a:solidFill>
                <a:srgbClr val="000000"/>
              </a:solidFill>
              <a:latin typeface="Times New Roman"/>
            </a:endParaRPr>
          </a:p>
        </p:txBody>
      </p:sp>
      <p:pic>
        <p:nvPicPr>
          <p:cNvPr id="129" name="hiperbole" descr=""/>
          <p:cNvPicPr/>
          <p:nvPr/>
        </p:nvPicPr>
        <p:blipFill>
          <a:blip r:embed="rId3"/>
          <a:stretch/>
        </p:blipFill>
        <p:spPr>
          <a:xfrm>
            <a:off x="2895480" y="380880"/>
            <a:ext cx="5969160" cy="6185160"/>
          </a:xfrm>
          <a:prstGeom prst="rect">
            <a:avLst/>
          </a:prstGeom>
          <a:ln w="0">
            <a:noFill/>
          </a:ln>
        </p:spPr>
      </p:pic>
    </p:spTree>
  </p:cSld>
  <p:transition>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0" name="conica" descr=""/>
          <p:cNvPicPr/>
          <p:nvPr/>
        </p:nvPicPr>
        <p:blipFill>
          <a:blip r:embed="rId2"/>
          <a:stretch/>
        </p:blipFill>
        <p:spPr>
          <a:xfrm>
            <a:off x="1295280" y="382680"/>
            <a:ext cx="1447920" cy="2209680"/>
          </a:xfrm>
          <a:prstGeom prst="rect">
            <a:avLst/>
          </a:prstGeom>
          <a:ln w="0">
            <a:noFill/>
          </a:ln>
        </p:spPr>
      </p:pic>
      <p:sp>
        <p:nvSpPr>
          <p:cNvPr id="131" name=""/>
          <p:cNvSpPr/>
          <p:nvPr/>
        </p:nvSpPr>
        <p:spPr>
          <a:xfrm rot="16200000">
            <a:off x="-2962800" y="2962800"/>
            <a:ext cx="6568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 A R Á B O L A</a:t>
            </a:r>
            <a:endParaRPr b="0" lang="en-US" sz="3600" spc="-1" strike="noStrike">
              <a:solidFill>
                <a:srgbClr val="000000"/>
              </a:solidFill>
              <a:latin typeface="Times New Roman"/>
            </a:endParaRPr>
          </a:p>
        </p:txBody>
      </p:sp>
      <p:pic>
        <p:nvPicPr>
          <p:cNvPr id="132" name="parabola" descr=""/>
          <p:cNvPicPr/>
          <p:nvPr/>
        </p:nvPicPr>
        <p:blipFill>
          <a:blip r:embed="rId3"/>
          <a:stretch/>
        </p:blipFill>
        <p:spPr>
          <a:xfrm>
            <a:off x="4724280" y="304920"/>
            <a:ext cx="4051440" cy="6184800"/>
          </a:xfrm>
          <a:prstGeom prst="rect">
            <a:avLst/>
          </a:prstGeom>
          <a:ln w="0">
            <a:noFill/>
          </a:ln>
        </p:spPr>
      </p:pic>
    </p:spTree>
  </p:cSld>
  <p:transition>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figura92" descr=""/>
          <p:cNvPicPr/>
          <p:nvPr/>
        </p:nvPicPr>
        <p:blipFill>
          <a:blip r:embed="rId2"/>
          <a:stretch/>
        </p:blipFill>
        <p:spPr>
          <a:xfrm>
            <a:off x="3429000" y="1511280"/>
            <a:ext cx="5537160" cy="5118120"/>
          </a:xfrm>
          <a:prstGeom prst="rect">
            <a:avLst/>
          </a:prstGeom>
          <a:ln w="0">
            <a:noFill/>
          </a:ln>
        </p:spPr>
      </p:pic>
      <p:sp>
        <p:nvSpPr>
          <p:cNvPr id="134" name=""/>
          <p:cNvSpPr/>
          <p:nvPr/>
        </p:nvSpPr>
        <p:spPr>
          <a:xfrm>
            <a:off x="781200" y="228600"/>
            <a:ext cx="39621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FC – base</a:t>
            </a:r>
            <a:endParaRPr b="0" lang="en-US" sz="2400" spc="-1" strike="noStrike">
              <a:solidFill>
                <a:srgbClr val="000000"/>
              </a:solidFill>
              <a:latin typeface="Times New Roman"/>
            </a:endParaRPr>
          </a:p>
        </p:txBody>
      </p:sp>
      <p:sp>
        <p:nvSpPr>
          <p:cNvPr id="135" name=""/>
          <p:cNvSpPr/>
          <p:nvPr/>
        </p:nvSpPr>
        <p:spPr>
          <a:xfrm>
            <a:off x="781200" y="2933640"/>
            <a:ext cx="39621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K e ABC – semelhantes</a:t>
            </a:r>
            <a:endParaRPr b="0" lang="en-US" sz="2400" spc="-1" strike="noStrike">
              <a:solidFill>
                <a:srgbClr val="000000"/>
              </a:solidFill>
              <a:latin typeface="Times New Roman"/>
            </a:endParaRPr>
          </a:p>
        </p:txBody>
      </p:sp>
      <p:sp>
        <p:nvSpPr>
          <p:cNvPr id="136" name=""/>
          <p:cNvSpPr/>
          <p:nvPr/>
        </p:nvSpPr>
        <p:spPr>
          <a:xfrm>
            <a:off x="781200" y="685800"/>
            <a:ext cx="39621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C – secção triangular</a:t>
            </a:r>
            <a:endParaRPr b="0" lang="en-US" sz="2400" spc="-1" strike="noStrike">
              <a:solidFill>
                <a:srgbClr val="000000"/>
              </a:solidFill>
              <a:latin typeface="Times New Roman"/>
            </a:endParaRPr>
          </a:p>
        </p:txBody>
      </p:sp>
      <p:sp>
        <p:nvSpPr>
          <p:cNvPr id="137" name=""/>
          <p:cNvSpPr/>
          <p:nvPr/>
        </p:nvSpPr>
        <p:spPr>
          <a:xfrm>
            <a:off x="781200" y="1143000"/>
            <a:ext cx="3962160" cy="1015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 – qualquer ponto de DP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PE // BFC</a:t>
            </a:r>
            <a:endParaRPr b="0" lang="en-US" sz="2400" spc="-1" strike="noStrike">
              <a:solidFill>
                <a:srgbClr val="000000"/>
              </a:solidFill>
              <a:latin typeface="Times New Roman"/>
            </a:endParaRPr>
          </a:p>
        </p:txBody>
      </p:sp>
      <p:sp>
        <p:nvSpPr>
          <p:cNvPr id="138" name=""/>
          <p:cNvSpPr/>
          <p:nvPr/>
        </p:nvSpPr>
        <p:spPr>
          <a:xfrm>
            <a:off x="771480" y="2133720"/>
            <a:ext cx="396252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PK – secção subcontrária (círculo)</a:t>
            </a:r>
            <a:endParaRPr b="0" lang="en-US" sz="2400" spc="-1" strike="noStrike">
              <a:solidFill>
                <a:srgbClr val="000000"/>
              </a:solidFill>
              <a:latin typeface="Times New Roman"/>
            </a:endParaRPr>
          </a:p>
        </p:txBody>
      </p:sp>
      <p:sp>
        <p:nvSpPr>
          <p:cNvPr id="139" name=""/>
          <p:cNvSpPr/>
          <p:nvPr/>
        </p:nvSpPr>
        <p:spPr>
          <a:xfrm>
            <a:off x="3933720" y="5238720"/>
            <a:ext cx="4029120" cy="1009800"/>
          </a:xfrm>
          <a:prstGeom prst="ellipse">
            <a:avLst/>
          </a:prstGeom>
          <a:solidFill>
            <a:srgbClr val="b4a5f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962520" y="1933560"/>
            <a:ext cx="4002120" cy="3822840"/>
          </a:xfrm>
          <a:custGeom>
            <a:avLst/>
            <a:gdLst/>
            <a:ahLst/>
            <a:rect l="l" t="t" r="r" b="b"/>
            <a:pathLst>
              <a:path w="17647" h="16856">
                <a:moveTo>
                  <a:pt x="15529" y="0"/>
                </a:moveTo>
                <a:lnTo>
                  <a:pt x="201" y="16342"/>
                </a:lnTo>
                <a:lnTo>
                  <a:pt x="34" y="16624"/>
                </a:lnTo>
                <a:lnTo>
                  <a:pt x="0" y="16856"/>
                </a:lnTo>
                <a:lnTo>
                  <a:pt x="17647" y="16856"/>
                </a:lnTo>
                <a:lnTo>
                  <a:pt x="15529" y="0"/>
                </a:lnTo>
                <a:close/>
              </a:path>
            </a:pathLst>
          </a:custGeom>
          <a:solidFill>
            <a:srgbClr val="fff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87920" y="3724200"/>
            <a:ext cx="2148120" cy="579600"/>
          </a:xfrm>
          <a:custGeom>
            <a:avLst/>
            <a:gdLst/>
            <a:ahLst/>
            <a:rect l="l" t="t" r="r" b="b"/>
            <a:pathLst>
              <a:path w="9469" h="2554">
                <a:moveTo>
                  <a:pt x="4734" y="2554"/>
                </a:moveTo>
                <a:lnTo>
                  <a:pt x="4977" y="2551"/>
                </a:lnTo>
                <a:lnTo>
                  <a:pt x="5217" y="2547"/>
                </a:lnTo>
                <a:lnTo>
                  <a:pt x="5453" y="2538"/>
                </a:lnTo>
                <a:lnTo>
                  <a:pt x="5686" y="2527"/>
                </a:lnTo>
                <a:lnTo>
                  <a:pt x="5915" y="2513"/>
                </a:lnTo>
                <a:lnTo>
                  <a:pt x="6139" y="2495"/>
                </a:lnTo>
                <a:lnTo>
                  <a:pt x="6358" y="2475"/>
                </a:lnTo>
                <a:lnTo>
                  <a:pt x="6573" y="2452"/>
                </a:lnTo>
                <a:lnTo>
                  <a:pt x="6783" y="2427"/>
                </a:lnTo>
                <a:lnTo>
                  <a:pt x="6987" y="2399"/>
                </a:lnTo>
                <a:lnTo>
                  <a:pt x="7186" y="2368"/>
                </a:lnTo>
                <a:lnTo>
                  <a:pt x="7377" y="2335"/>
                </a:lnTo>
                <a:lnTo>
                  <a:pt x="7564" y="2299"/>
                </a:lnTo>
                <a:lnTo>
                  <a:pt x="7743" y="2261"/>
                </a:lnTo>
                <a:lnTo>
                  <a:pt x="7915" y="2220"/>
                </a:lnTo>
                <a:lnTo>
                  <a:pt x="8079" y="2179"/>
                </a:lnTo>
                <a:lnTo>
                  <a:pt x="8236" y="2134"/>
                </a:lnTo>
                <a:lnTo>
                  <a:pt x="8384" y="2088"/>
                </a:lnTo>
                <a:lnTo>
                  <a:pt x="8526" y="2040"/>
                </a:lnTo>
                <a:lnTo>
                  <a:pt x="8658" y="1990"/>
                </a:lnTo>
                <a:lnTo>
                  <a:pt x="8781" y="1938"/>
                </a:lnTo>
                <a:lnTo>
                  <a:pt x="8895" y="1884"/>
                </a:lnTo>
                <a:lnTo>
                  <a:pt x="9000" y="1829"/>
                </a:lnTo>
                <a:lnTo>
                  <a:pt x="9095" y="1773"/>
                </a:lnTo>
                <a:lnTo>
                  <a:pt x="9180" y="1714"/>
                </a:lnTo>
                <a:lnTo>
                  <a:pt x="9255" y="1656"/>
                </a:lnTo>
                <a:lnTo>
                  <a:pt x="9319" y="1595"/>
                </a:lnTo>
                <a:lnTo>
                  <a:pt x="9372" y="1533"/>
                </a:lnTo>
                <a:lnTo>
                  <a:pt x="9413" y="1471"/>
                </a:lnTo>
                <a:lnTo>
                  <a:pt x="9443" y="1407"/>
                </a:lnTo>
                <a:lnTo>
                  <a:pt x="9462" y="1343"/>
                </a:lnTo>
                <a:lnTo>
                  <a:pt x="9469" y="1276"/>
                </a:lnTo>
                <a:lnTo>
                  <a:pt x="9462" y="1211"/>
                </a:lnTo>
                <a:lnTo>
                  <a:pt x="9443" y="1146"/>
                </a:lnTo>
                <a:lnTo>
                  <a:pt x="9413" y="1082"/>
                </a:lnTo>
                <a:lnTo>
                  <a:pt x="9372" y="1019"/>
                </a:lnTo>
                <a:lnTo>
                  <a:pt x="9319" y="958"/>
                </a:lnTo>
                <a:lnTo>
                  <a:pt x="9255" y="898"/>
                </a:lnTo>
                <a:lnTo>
                  <a:pt x="9180" y="839"/>
                </a:lnTo>
                <a:lnTo>
                  <a:pt x="9095" y="780"/>
                </a:lnTo>
                <a:lnTo>
                  <a:pt x="9000" y="724"/>
                </a:lnTo>
                <a:lnTo>
                  <a:pt x="8895" y="669"/>
                </a:lnTo>
                <a:lnTo>
                  <a:pt x="8781" y="616"/>
                </a:lnTo>
                <a:lnTo>
                  <a:pt x="8658" y="564"/>
                </a:lnTo>
                <a:lnTo>
                  <a:pt x="8526" y="513"/>
                </a:lnTo>
                <a:lnTo>
                  <a:pt x="8384" y="466"/>
                </a:lnTo>
                <a:lnTo>
                  <a:pt x="8236" y="420"/>
                </a:lnTo>
                <a:lnTo>
                  <a:pt x="8079" y="374"/>
                </a:lnTo>
                <a:lnTo>
                  <a:pt x="7915" y="332"/>
                </a:lnTo>
                <a:lnTo>
                  <a:pt x="7743" y="293"/>
                </a:lnTo>
                <a:lnTo>
                  <a:pt x="7564" y="254"/>
                </a:lnTo>
                <a:lnTo>
                  <a:pt x="7377" y="219"/>
                </a:lnTo>
                <a:lnTo>
                  <a:pt x="7186" y="186"/>
                </a:lnTo>
                <a:lnTo>
                  <a:pt x="6987" y="155"/>
                </a:lnTo>
                <a:lnTo>
                  <a:pt x="6783" y="126"/>
                </a:lnTo>
                <a:lnTo>
                  <a:pt x="6573" y="101"/>
                </a:lnTo>
                <a:lnTo>
                  <a:pt x="6358" y="78"/>
                </a:lnTo>
                <a:lnTo>
                  <a:pt x="6139" y="58"/>
                </a:lnTo>
                <a:lnTo>
                  <a:pt x="5915" y="40"/>
                </a:lnTo>
                <a:lnTo>
                  <a:pt x="5686" y="26"/>
                </a:lnTo>
                <a:lnTo>
                  <a:pt x="5453" y="15"/>
                </a:lnTo>
                <a:lnTo>
                  <a:pt x="5217" y="7"/>
                </a:lnTo>
                <a:lnTo>
                  <a:pt x="4977" y="2"/>
                </a:lnTo>
                <a:lnTo>
                  <a:pt x="4734" y="0"/>
                </a:lnTo>
                <a:lnTo>
                  <a:pt x="4491" y="2"/>
                </a:lnTo>
                <a:lnTo>
                  <a:pt x="4251" y="7"/>
                </a:lnTo>
                <a:lnTo>
                  <a:pt x="4015" y="15"/>
                </a:lnTo>
                <a:lnTo>
                  <a:pt x="3782" y="26"/>
                </a:lnTo>
                <a:lnTo>
                  <a:pt x="3554" y="40"/>
                </a:lnTo>
                <a:lnTo>
                  <a:pt x="3329" y="58"/>
                </a:lnTo>
                <a:lnTo>
                  <a:pt x="3109" y="78"/>
                </a:lnTo>
                <a:lnTo>
                  <a:pt x="2894" y="101"/>
                </a:lnTo>
                <a:lnTo>
                  <a:pt x="2684" y="126"/>
                </a:lnTo>
                <a:lnTo>
                  <a:pt x="2480" y="155"/>
                </a:lnTo>
                <a:lnTo>
                  <a:pt x="2282" y="186"/>
                </a:lnTo>
                <a:lnTo>
                  <a:pt x="2090" y="219"/>
                </a:lnTo>
                <a:lnTo>
                  <a:pt x="1905" y="254"/>
                </a:lnTo>
                <a:lnTo>
                  <a:pt x="1726" y="293"/>
                </a:lnTo>
                <a:lnTo>
                  <a:pt x="1554" y="332"/>
                </a:lnTo>
                <a:lnTo>
                  <a:pt x="1388" y="374"/>
                </a:lnTo>
                <a:lnTo>
                  <a:pt x="1232" y="420"/>
                </a:lnTo>
                <a:lnTo>
                  <a:pt x="1083" y="466"/>
                </a:lnTo>
                <a:lnTo>
                  <a:pt x="942" y="513"/>
                </a:lnTo>
                <a:lnTo>
                  <a:pt x="811" y="564"/>
                </a:lnTo>
                <a:lnTo>
                  <a:pt x="687" y="616"/>
                </a:lnTo>
                <a:lnTo>
                  <a:pt x="572" y="669"/>
                </a:lnTo>
                <a:lnTo>
                  <a:pt x="468" y="724"/>
                </a:lnTo>
                <a:lnTo>
                  <a:pt x="373" y="780"/>
                </a:lnTo>
                <a:lnTo>
                  <a:pt x="288" y="839"/>
                </a:lnTo>
                <a:lnTo>
                  <a:pt x="213" y="898"/>
                </a:lnTo>
                <a:lnTo>
                  <a:pt x="149" y="958"/>
                </a:lnTo>
                <a:lnTo>
                  <a:pt x="96" y="1019"/>
                </a:lnTo>
                <a:lnTo>
                  <a:pt x="54" y="1082"/>
                </a:lnTo>
                <a:lnTo>
                  <a:pt x="24" y="1146"/>
                </a:lnTo>
                <a:lnTo>
                  <a:pt x="5" y="1211"/>
                </a:lnTo>
                <a:lnTo>
                  <a:pt x="0" y="1276"/>
                </a:lnTo>
                <a:lnTo>
                  <a:pt x="5" y="1343"/>
                </a:lnTo>
                <a:lnTo>
                  <a:pt x="24" y="1407"/>
                </a:lnTo>
                <a:lnTo>
                  <a:pt x="54" y="1471"/>
                </a:lnTo>
                <a:lnTo>
                  <a:pt x="96" y="1533"/>
                </a:lnTo>
                <a:lnTo>
                  <a:pt x="149" y="1595"/>
                </a:lnTo>
                <a:lnTo>
                  <a:pt x="213" y="1656"/>
                </a:lnTo>
                <a:lnTo>
                  <a:pt x="288" y="1714"/>
                </a:lnTo>
                <a:lnTo>
                  <a:pt x="373" y="1773"/>
                </a:lnTo>
                <a:lnTo>
                  <a:pt x="468" y="1829"/>
                </a:lnTo>
                <a:lnTo>
                  <a:pt x="572" y="1884"/>
                </a:lnTo>
                <a:lnTo>
                  <a:pt x="687" y="1938"/>
                </a:lnTo>
                <a:lnTo>
                  <a:pt x="811" y="1990"/>
                </a:lnTo>
                <a:lnTo>
                  <a:pt x="942" y="2040"/>
                </a:lnTo>
                <a:lnTo>
                  <a:pt x="1083" y="2088"/>
                </a:lnTo>
                <a:lnTo>
                  <a:pt x="1232" y="2134"/>
                </a:lnTo>
                <a:lnTo>
                  <a:pt x="1388" y="2179"/>
                </a:lnTo>
                <a:lnTo>
                  <a:pt x="1554" y="2220"/>
                </a:lnTo>
                <a:lnTo>
                  <a:pt x="1726" y="2261"/>
                </a:lnTo>
                <a:lnTo>
                  <a:pt x="1905" y="2299"/>
                </a:lnTo>
                <a:lnTo>
                  <a:pt x="2090" y="2335"/>
                </a:lnTo>
                <a:lnTo>
                  <a:pt x="2282" y="2368"/>
                </a:lnTo>
                <a:lnTo>
                  <a:pt x="2480" y="2399"/>
                </a:lnTo>
                <a:lnTo>
                  <a:pt x="2684" y="2427"/>
                </a:lnTo>
                <a:lnTo>
                  <a:pt x="2894" y="2452"/>
                </a:lnTo>
                <a:lnTo>
                  <a:pt x="3109" y="2475"/>
                </a:lnTo>
                <a:lnTo>
                  <a:pt x="3329" y="2495"/>
                </a:lnTo>
                <a:lnTo>
                  <a:pt x="3554" y="2513"/>
                </a:lnTo>
                <a:lnTo>
                  <a:pt x="3782" y="2527"/>
                </a:lnTo>
                <a:lnTo>
                  <a:pt x="4015" y="2538"/>
                </a:lnTo>
                <a:lnTo>
                  <a:pt x="4251" y="2547"/>
                </a:lnTo>
                <a:lnTo>
                  <a:pt x="4491" y="2551"/>
                </a:lnTo>
                <a:lnTo>
                  <a:pt x="4734" y="2554"/>
                </a:lnTo>
                <a:close/>
              </a:path>
            </a:pathLst>
          </a:custGeom>
          <a:solidFill>
            <a:srgbClr val="e7791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970600" y="3510000"/>
            <a:ext cx="1879560" cy="1355760"/>
          </a:xfrm>
          <a:custGeom>
            <a:avLst/>
            <a:gdLst/>
            <a:ahLst/>
            <a:rect l="l" t="t" r="r" b="b"/>
            <a:pathLst>
              <a:path w="8288" h="5979">
                <a:moveTo>
                  <a:pt x="4894" y="1891"/>
                </a:moveTo>
                <a:lnTo>
                  <a:pt x="5102" y="2034"/>
                </a:lnTo>
                <a:lnTo>
                  <a:pt x="5307" y="2180"/>
                </a:lnTo>
                <a:lnTo>
                  <a:pt x="5505" y="2325"/>
                </a:lnTo>
                <a:lnTo>
                  <a:pt x="5698" y="2472"/>
                </a:lnTo>
                <a:lnTo>
                  <a:pt x="5887" y="2618"/>
                </a:lnTo>
                <a:lnTo>
                  <a:pt x="6070" y="2765"/>
                </a:lnTo>
                <a:lnTo>
                  <a:pt x="6247" y="2912"/>
                </a:lnTo>
                <a:lnTo>
                  <a:pt x="6419" y="3057"/>
                </a:lnTo>
                <a:lnTo>
                  <a:pt x="6585" y="3203"/>
                </a:lnTo>
                <a:lnTo>
                  <a:pt x="6744" y="3347"/>
                </a:lnTo>
                <a:lnTo>
                  <a:pt x="6896" y="3490"/>
                </a:lnTo>
                <a:lnTo>
                  <a:pt x="7043" y="3632"/>
                </a:lnTo>
                <a:lnTo>
                  <a:pt x="7182" y="3771"/>
                </a:lnTo>
                <a:lnTo>
                  <a:pt x="7313" y="3909"/>
                </a:lnTo>
                <a:lnTo>
                  <a:pt x="7437" y="4044"/>
                </a:lnTo>
                <a:lnTo>
                  <a:pt x="7554" y="4178"/>
                </a:lnTo>
                <a:lnTo>
                  <a:pt x="7663" y="4308"/>
                </a:lnTo>
                <a:lnTo>
                  <a:pt x="7764" y="4436"/>
                </a:lnTo>
                <a:lnTo>
                  <a:pt x="7857" y="4559"/>
                </a:lnTo>
                <a:lnTo>
                  <a:pt x="7941" y="4681"/>
                </a:lnTo>
                <a:lnTo>
                  <a:pt x="8018" y="4798"/>
                </a:lnTo>
                <a:lnTo>
                  <a:pt x="8084" y="4911"/>
                </a:lnTo>
                <a:lnTo>
                  <a:pt x="8142" y="5019"/>
                </a:lnTo>
                <a:lnTo>
                  <a:pt x="8191" y="5124"/>
                </a:lnTo>
                <a:lnTo>
                  <a:pt x="8229" y="5224"/>
                </a:lnTo>
                <a:lnTo>
                  <a:pt x="8259" y="5319"/>
                </a:lnTo>
                <a:lnTo>
                  <a:pt x="8279" y="5409"/>
                </a:lnTo>
                <a:lnTo>
                  <a:pt x="8288" y="5492"/>
                </a:lnTo>
                <a:lnTo>
                  <a:pt x="8287" y="5572"/>
                </a:lnTo>
                <a:lnTo>
                  <a:pt x="8276" y="5645"/>
                </a:lnTo>
                <a:lnTo>
                  <a:pt x="8254" y="5711"/>
                </a:lnTo>
                <a:lnTo>
                  <a:pt x="8220" y="5770"/>
                </a:lnTo>
                <a:lnTo>
                  <a:pt x="8176" y="5823"/>
                </a:lnTo>
                <a:lnTo>
                  <a:pt x="8122" y="5869"/>
                </a:lnTo>
                <a:lnTo>
                  <a:pt x="8059" y="5906"/>
                </a:lnTo>
                <a:lnTo>
                  <a:pt x="7987" y="5935"/>
                </a:lnTo>
                <a:lnTo>
                  <a:pt x="7904" y="5957"/>
                </a:lnTo>
                <a:lnTo>
                  <a:pt x="7813" y="5971"/>
                </a:lnTo>
                <a:lnTo>
                  <a:pt x="7714" y="5979"/>
                </a:lnTo>
                <a:lnTo>
                  <a:pt x="7607" y="5979"/>
                </a:lnTo>
                <a:lnTo>
                  <a:pt x="7493" y="5971"/>
                </a:lnTo>
                <a:lnTo>
                  <a:pt x="7370" y="5957"/>
                </a:lnTo>
                <a:lnTo>
                  <a:pt x="7240" y="5936"/>
                </a:lnTo>
                <a:lnTo>
                  <a:pt x="7103" y="5908"/>
                </a:lnTo>
                <a:lnTo>
                  <a:pt x="6960" y="5874"/>
                </a:lnTo>
                <a:lnTo>
                  <a:pt x="6811" y="5832"/>
                </a:lnTo>
                <a:lnTo>
                  <a:pt x="6655" y="5785"/>
                </a:lnTo>
                <a:lnTo>
                  <a:pt x="6494" y="5731"/>
                </a:lnTo>
                <a:lnTo>
                  <a:pt x="6328" y="5671"/>
                </a:lnTo>
                <a:lnTo>
                  <a:pt x="6156" y="5604"/>
                </a:lnTo>
                <a:lnTo>
                  <a:pt x="5979" y="5532"/>
                </a:lnTo>
                <a:lnTo>
                  <a:pt x="5798" y="5454"/>
                </a:lnTo>
                <a:lnTo>
                  <a:pt x="5614" y="5369"/>
                </a:lnTo>
                <a:lnTo>
                  <a:pt x="5425" y="5280"/>
                </a:lnTo>
                <a:lnTo>
                  <a:pt x="5233" y="5184"/>
                </a:lnTo>
                <a:lnTo>
                  <a:pt x="5037" y="5082"/>
                </a:lnTo>
                <a:lnTo>
                  <a:pt x="4839" y="4976"/>
                </a:lnTo>
                <a:lnTo>
                  <a:pt x="4638" y="4864"/>
                </a:lnTo>
                <a:lnTo>
                  <a:pt x="4434" y="4747"/>
                </a:lnTo>
                <a:lnTo>
                  <a:pt x="4229" y="4626"/>
                </a:lnTo>
                <a:lnTo>
                  <a:pt x="4022" y="4499"/>
                </a:lnTo>
                <a:lnTo>
                  <a:pt x="3813" y="4366"/>
                </a:lnTo>
                <a:lnTo>
                  <a:pt x="3605" y="4230"/>
                </a:lnTo>
                <a:lnTo>
                  <a:pt x="3394" y="4089"/>
                </a:lnTo>
                <a:lnTo>
                  <a:pt x="3186" y="3944"/>
                </a:lnTo>
                <a:lnTo>
                  <a:pt x="2983" y="3799"/>
                </a:lnTo>
                <a:lnTo>
                  <a:pt x="2783" y="3653"/>
                </a:lnTo>
                <a:lnTo>
                  <a:pt x="2590" y="3506"/>
                </a:lnTo>
                <a:lnTo>
                  <a:pt x="2401" y="3360"/>
                </a:lnTo>
                <a:lnTo>
                  <a:pt x="2218" y="3213"/>
                </a:lnTo>
                <a:lnTo>
                  <a:pt x="2041" y="3067"/>
                </a:lnTo>
                <a:lnTo>
                  <a:pt x="1869" y="2921"/>
                </a:lnTo>
                <a:lnTo>
                  <a:pt x="1703" y="2776"/>
                </a:lnTo>
                <a:lnTo>
                  <a:pt x="1544" y="2632"/>
                </a:lnTo>
                <a:lnTo>
                  <a:pt x="1392" y="2488"/>
                </a:lnTo>
                <a:lnTo>
                  <a:pt x="1245" y="2347"/>
                </a:lnTo>
                <a:lnTo>
                  <a:pt x="1107" y="2207"/>
                </a:lnTo>
                <a:lnTo>
                  <a:pt x="975" y="2069"/>
                </a:lnTo>
                <a:lnTo>
                  <a:pt x="851" y="1934"/>
                </a:lnTo>
                <a:lnTo>
                  <a:pt x="734" y="1801"/>
                </a:lnTo>
                <a:lnTo>
                  <a:pt x="625" y="1670"/>
                </a:lnTo>
                <a:lnTo>
                  <a:pt x="524" y="1543"/>
                </a:lnTo>
                <a:lnTo>
                  <a:pt x="432" y="1419"/>
                </a:lnTo>
                <a:lnTo>
                  <a:pt x="347" y="1298"/>
                </a:lnTo>
                <a:lnTo>
                  <a:pt x="270" y="1180"/>
                </a:lnTo>
                <a:lnTo>
                  <a:pt x="204" y="1068"/>
                </a:lnTo>
                <a:lnTo>
                  <a:pt x="146" y="959"/>
                </a:lnTo>
                <a:lnTo>
                  <a:pt x="97" y="854"/>
                </a:lnTo>
                <a:lnTo>
                  <a:pt x="59" y="755"/>
                </a:lnTo>
                <a:lnTo>
                  <a:pt x="29" y="660"/>
                </a:lnTo>
                <a:lnTo>
                  <a:pt x="9" y="570"/>
                </a:lnTo>
                <a:lnTo>
                  <a:pt x="0" y="486"/>
                </a:lnTo>
                <a:lnTo>
                  <a:pt x="1" y="407"/>
                </a:lnTo>
                <a:lnTo>
                  <a:pt x="12" y="334"/>
                </a:lnTo>
                <a:lnTo>
                  <a:pt x="34" y="268"/>
                </a:lnTo>
                <a:lnTo>
                  <a:pt x="68" y="208"/>
                </a:lnTo>
                <a:lnTo>
                  <a:pt x="112" y="155"/>
                </a:lnTo>
                <a:lnTo>
                  <a:pt x="166" y="111"/>
                </a:lnTo>
                <a:lnTo>
                  <a:pt x="229" y="73"/>
                </a:lnTo>
                <a:lnTo>
                  <a:pt x="301" y="43"/>
                </a:lnTo>
                <a:lnTo>
                  <a:pt x="384" y="21"/>
                </a:lnTo>
                <a:lnTo>
                  <a:pt x="475" y="7"/>
                </a:lnTo>
                <a:lnTo>
                  <a:pt x="574" y="0"/>
                </a:lnTo>
                <a:lnTo>
                  <a:pt x="681" y="0"/>
                </a:lnTo>
                <a:lnTo>
                  <a:pt x="795" y="7"/>
                </a:lnTo>
                <a:lnTo>
                  <a:pt x="918" y="21"/>
                </a:lnTo>
                <a:lnTo>
                  <a:pt x="1048" y="42"/>
                </a:lnTo>
                <a:lnTo>
                  <a:pt x="1185" y="70"/>
                </a:lnTo>
                <a:lnTo>
                  <a:pt x="1328" y="105"/>
                </a:lnTo>
                <a:lnTo>
                  <a:pt x="1477" y="146"/>
                </a:lnTo>
                <a:lnTo>
                  <a:pt x="1633" y="193"/>
                </a:lnTo>
                <a:lnTo>
                  <a:pt x="1794" y="247"/>
                </a:lnTo>
                <a:lnTo>
                  <a:pt x="1960" y="308"/>
                </a:lnTo>
                <a:lnTo>
                  <a:pt x="2132" y="374"/>
                </a:lnTo>
                <a:lnTo>
                  <a:pt x="2309" y="447"/>
                </a:lnTo>
                <a:lnTo>
                  <a:pt x="2490" y="525"/>
                </a:lnTo>
                <a:lnTo>
                  <a:pt x="2674" y="609"/>
                </a:lnTo>
                <a:lnTo>
                  <a:pt x="2864" y="699"/>
                </a:lnTo>
                <a:lnTo>
                  <a:pt x="3055" y="794"/>
                </a:lnTo>
                <a:lnTo>
                  <a:pt x="3251" y="896"/>
                </a:lnTo>
                <a:lnTo>
                  <a:pt x="3449" y="1003"/>
                </a:lnTo>
                <a:lnTo>
                  <a:pt x="3650" y="1114"/>
                </a:lnTo>
                <a:lnTo>
                  <a:pt x="3854" y="1231"/>
                </a:lnTo>
                <a:lnTo>
                  <a:pt x="4059" y="1353"/>
                </a:lnTo>
                <a:lnTo>
                  <a:pt x="4266" y="1480"/>
                </a:lnTo>
                <a:lnTo>
                  <a:pt x="4475" y="1613"/>
                </a:lnTo>
                <a:lnTo>
                  <a:pt x="4684" y="1749"/>
                </a:lnTo>
                <a:lnTo>
                  <a:pt x="4894" y="1891"/>
                </a:lnTo>
                <a:close/>
              </a:path>
            </a:pathLst>
          </a:custGeom>
          <a:solidFill>
            <a:srgbClr val="84c32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991120" y="1935000"/>
            <a:ext cx="1859040" cy="2924280"/>
          </a:xfrm>
          <a:custGeom>
            <a:avLst/>
            <a:gdLst/>
            <a:ahLst/>
            <a:rect l="l" t="t" r="r" b="b"/>
            <a:pathLst>
              <a:path w="8199" h="12892">
                <a:moveTo>
                  <a:pt x="6571" y="0"/>
                </a:moveTo>
                <a:lnTo>
                  <a:pt x="8199" y="12892"/>
                </a:lnTo>
                <a:lnTo>
                  <a:pt x="0" y="7010"/>
                </a:lnTo>
                <a:lnTo>
                  <a:pt x="6571" y="0"/>
                </a:lnTo>
                <a:close/>
              </a:path>
            </a:pathLst>
          </a:custGeom>
          <a:solidFill>
            <a:srgbClr val="0093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4" name="figuras921" descr=""/>
          <p:cNvPicPr/>
          <p:nvPr/>
        </p:nvPicPr>
        <p:blipFill>
          <a:blip r:embed="rId3"/>
          <a:stretch/>
        </p:blipFill>
        <p:spPr>
          <a:xfrm>
            <a:off x="990720" y="3962520"/>
            <a:ext cx="2112840" cy="2300040"/>
          </a:xfrm>
          <a:prstGeom prst="rect">
            <a:avLst/>
          </a:prstGeom>
          <a:ln w="0">
            <a:noFill/>
          </a:ln>
        </p:spPr>
      </p:pic>
    </p:spTree>
  </p:cSld>
  <p:transition>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5" name="figura92" descr=""/>
          <p:cNvPicPr/>
          <p:nvPr/>
        </p:nvPicPr>
        <p:blipFill>
          <a:blip r:embed="rId2"/>
          <a:stretch/>
        </p:blipFill>
        <p:spPr>
          <a:xfrm>
            <a:off x="3429000" y="1511280"/>
            <a:ext cx="5537160" cy="5118120"/>
          </a:xfrm>
          <a:prstGeom prst="rect">
            <a:avLst/>
          </a:prstGeom>
          <a:ln w="0">
            <a:noFill/>
          </a:ln>
        </p:spPr>
      </p:pic>
      <p:sp>
        <p:nvSpPr>
          <p:cNvPr id="146" name=""/>
          <p:cNvSpPr/>
          <p:nvPr/>
        </p:nvSpPr>
        <p:spPr>
          <a:xfrm>
            <a:off x="914400" y="304920"/>
            <a:ext cx="3962520" cy="2684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MD e EM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M*MK = DM*ME = PM²</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M = x, HK = a, PM = 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y² = x(a-x) ou x² + y² = ax</a:t>
            </a:r>
            <a:endParaRPr b="0" lang="en-US" sz="2400" spc="-1" strike="noStrike">
              <a:solidFill>
                <a:srgbClr val="000000"/>
              </a:solidFill>
              <a:latin typeface="Times New Roman"/>
            </a:endParaRPr>
          </a:p>
        </p:txBody>
      </p:sp>
      <p:sp>
        <p:nvSpPr>
          <p:cNvPr id="147" name=""/>
          <p:cNvSpPr/>
          <p:nvPr/>
        </p:nvSpPr>
        <p:spPr>
          <a:xfrm>
            <a:off x="5527800" y="3525840"/>
            <a:ext cx="1120680" cy="495360"/>
          </a:xfrm>
          <a:custGeom>
            <a:avLst/>
            <a:gdLst/>
            <a:ahLst/>
            <a:rect l="l" t="t" r="r" b="b"/>
            <a:pathLst>
              <a:path w="8472" h="3746">
                <a:moveTo>
                  <a:pt x="3447" y="0"/>
                </a:moveTo>
                <a:lnTo>
                  <a:pt x="8472" y="3746"/>
                </a:lnTo>
                <a:lnTo>
                  <a:pt x="0" y="3746"/>
                </a:lnTo>
                <a:lnTo>
                  <a:pt x="3447" y="0"/>
                </a:lnTo>
                <a:close/>
              </a:path>
            </a:pathLst>
          </a:custGeom>
          <a:solidFill>
            <a:srgbClr val="ffff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648480" y="4021200"/>
            <a:ext cx="1176480" cy="833400"/>
          </a:xfrm>
          <a:custGeom>
            <a:avLst/>
            <a:gdLst/>
            <a:ahLst/>
            <a:rect l="l" t="t" r="r" b="b"/>
            <a:pathLst>
              <a:path w="8891" h="6298">
                <a:moveTo>
                  <a:pt x="8891" y="6298"/>
                </a:moveTo>
                <a:lnTo>
                  <a:pt x="0" y="0"/>
                </a:lnTo>
                <a:lnTo>
                  <a:pt x="8078" y="0"/>
                </a:lnTo>
                <a:lnTo>
                  <a:pt x="8891" y="6298"/>
                </a:lnTo>
                <a:close/>
              </a:path>
            </a:pathLst>
          </a:custGeom>
          <a:solidFill>
            <a:srgbClr val="ffff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figura93" descr=""/>
          <p:cNvPicPr/>
          <p:nvPr/>
        </p:nvPicPr>
        <p:blipFill>
          <a:blip r:embed="rId2"/>
          <a:stretch/>
        </p:blipFill>
        <p:spPr>
          <a:xfrm>
            <a:off x="2133720" y="1295280"/>
            <a:ext cx="5537160" cy="5118120"/>
          </a:xfrm>
          <a:prstGeom prst="rect">
            <a:avLst/>
          </a:prstGeom>
          <a:ln w="0">
            <a:noFill/>
          </a:ln>
        </p:spPr>
      </p:pic>
    </p:spTree>
  </p:cSld>
  <p:transition>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1066680" y="533520"/>
            <a:ext cx="7620120" cy="563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 name="figuras94" descr=""/>
          <p:cNvPicPr/>
          <p:nvPr/>
        </p:nvPicPr>
        <p:blipFill>
          <a:blip r:embed="rId2"/>
          <a:stretch/>
        </p:blipFill>
        <p:spPr>
          <a:xfrm>
            <a:off x="1371600" y="762120"/>
            <a:ext cx="3048120" cy="2006640"/>
          </a:xfrm>
          <a:prstGeom prst="rect">
            <a:avLst/>
          </a:prstGeom>
          <a:ln w="0">
            <a:noFill/>
          </a:ln>
        </p:spPr>
      </p:pic>
      <p:pic>
        <p:nvPicPr>
          <p:cNvPr id="152" name="figuras95" descr=""/>
          <p:cNvPicPr/>
          <p:nvPr/>
        </p:nvPicPr>
        <p:blipFill>
          <a:blip r:embed="rId3"/>
          <a:stretch/>
        </p:blipFill>
        <p:spPr>
          <a:xfrm>
            <a:off x="4267080" y="3527280"/>
            <a:ext cx="3962520" cy="968400"/>
          </a:xfrm>
          <a:prstGeom prst="rect">
            <a:avLst/>
          </a:prstGeom>
          <a:ln w="0">
            <a:noFill/>
          </a:ln>
        </p:spPr>
      </p:pic>
      <p:pic>
        <p:nvPicPr>
          <p:cNvPr id="153" name="figuras96" descr=""/>
          <p:cNvPicPr/>
          <p:nvPr/>
        </p:nvPicPr>
        <p:blipFill>
          <a:blip r:embed="rId4"/>
          <a:stretch/>
        </p:blipFill>
        <p:spPr>
          <a:xfrm>
            <a:off x="5181480" y="762120"/>
            <a:ext cx="3187800" cy="2173320"/>
          </a:xfrm>
          <a:prstGeom prst="rect">
            <a:avLst/>
          </a:prstGeom>
          <a:ln w="0">
            <a:noFill/>
          </a:ln>
        </p:spPr>
      </p:pic>
      <p:pic>
        <p:nvPicPr>
          <p:cNvPr id="154" name="figuras97" descr=""/>
          <p:cNvPicPr/>
          <p:nvPr/>
        </p:nvPicPr>
        <p:blipFill>
          <a:blip r:embed="rId5"/>
          <a:stretch/>
        </p:blipFill>
        <p:spPr>
          <a:xfrm>
            <a:off x="1066680" y="3124080"/>
            <a:ext cx="4865760" cy="2975040"/>
          </a:xfrm>
          <a:prstGeom prst="rect">
            <a:avLst/>
          </a:prstGeom>
          <a:ln w="0">
            <a:noFill/>
          </a:ln>
        </p:spPr>
      </p:pic>
    </p:spTree>
  </p:cSld>
  <p:transition>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1066680" y="38088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imes New Roman"/>
              </a:rPr>
              <a:t>Astronomia</a:t>
            </a:r>
            <a:endParaRPr b="0" lang="en-US" sz="4400" spc="-1" strike="noStrike">
              <a:solidFill>
                <a:srgbClr val="000000"/>
              </a:solidFill>
              <a:latin typeface="Times New Roman"/>
            </a:endParaRPr>
          </a:p>
        </p:txBody>
      </p:sp>
      <p:sp>
        <p:nvSpPr>
          <p:cNvPr id="156" name=""/>
          <p:cNvSpPr/>
          <p:nvPr/>
        </p:nvSpPr>
        <p:spPr>
          <a:xfrm>
            <a:off x="5486400" y="1981080"/>
            <a:ext cx="3352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olônio foi também um astrônomo célebre.</a:t>
            </a:r>
            <a:endParaRPr b="0" lang="en-US" sz="2400" spc="-1" strike="noStrike">
              <a:solidFill>
                <a:srgbClr val="000000"/>
              </a:solidFill>
              <a:latin typeface="Times New Roman"/>
            </a:endParaRPr>
          </a:p>
        </p:txBody>
      </p:sp>
      <p:grpSp>
        <p:nvGrpSpPr>
          <p:cNvPr id="157" name=""/>
          <p:cNvGrpSpPr/>
          <p:nvPr/>
        </p:nvGrpSpPr>
        <p:grpSpPr>
          <a:xfrm>
            <a:off x="685800" y="1828800"/>
            <a:ext cx="4952880" cy="4952880"/>
            <a:chOff x="685800" y="1828800"/>
            <a:chExt cx="4952880" cy="4952880"/>
          </a:xfrm>
        </p:grpSpPr>
        <p:sp>
          <p:nvSpPr>
            <p:cNvPr id="158" name=""/>
            <p:cNvSpPr/>
            <p:nvPr/>
          </p:nvSpPr>
          <p:spPr>
            <a:xfrm>
              <a:off x="685800" y="1828800"/>
              <a:ext cx="4952880" cy="4952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9" name="figura91" descr=""/>
            <p:cNvPicPr/>
            <p:nvPr/>
          </p:nvPicPr>
          <p:blipFill>
            <a:blip r:embed="rId2"/>
            <a:stretch/>
          </p:blipFill>
          <p:spPr>
            <a:xfrm>
              <a:off x="990720" y="2133720"/>
              <a:ext cx="4127400" cy="4430520"/>
            </a:xfrm>
            <a:prstGeom prst="rect">
              <a:avLst/>
            </a:prstGeom>
            <a:ln w="0">
              <a:noFill/>
            </a:ln>
          </p:spPr>
        </p:pic>
      </p:grpSp>
    </p:spTree>
  </p:cSld>
  <p:transition>
    <p:pull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p:nvPr/>
        </p:nvSpPr>
        <p:spPr>
          <a:xfrm>
            <a:off x="1371600" y="2895480"/>
            <a:ext cx="4419720" cy="265356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Que Apolônio, o maior geômetra da antiguidade, não tenha desenvolvido a geometria analítica se deveu provavelmente à pobreza de curvas mais do que de idéias.</a:t>
            </a:r>
            <a:endParaRPr b="0" lang="en-US" sz="2800" spc="-1" strike="noStrike">
              <a:solidFill>
                <a:srgbClr val="000000"/>
              </a:solidFill>
              <a:latin typeface="Times New Roman"/>
            </a:endParaRPr>
          </a:p>
        </p:txBody>
      </p:sp>
      <p:pic>
        <p:nvPicPr>
          <p:cNvPr id="161" name="ApoloniP7" descr=""/>
          <p:cNvPicPr/>
          <p:nvPr/>
        </p:nvPicPr>
        <p:blipFill>
          <a:blip r:embed="rId2"/>
          <a:stretch/>
        </p:blipFill>
        <p:spPr>
          <a:xfrm>
            <a:off x="5638680" y="304920"/>
            <a:ext cx="3149640" cy="4495680"/>
          </a:xfrm>
          <a:prstGeom prst="rect">
            <a:avLst/>
          </a:prstGeom>
          <a:ln w="0">
            <a:noFill/>
          </a:ln>
        </p:spPr>
      </p:pic>
    </p:spTree>
  </p:cSld>
  <p:transition>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1066680" y="38088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imes New Roman"/>
              </a:rPr>
              <a:t>Bibliografia</a:t>
            </a:r>
            <a:endParaRPr b="0" lang="en-US" sz="4400" spc="-1" strike="noStrike">
              <a:solidFill>
                <a:srgbClr val="000000"/>
              </a:solidFill>
              <a:latin typeface="Times New Roman"/>
            </a:endParaRPr>
          </a:p>
        </p:txBody>
      </p:sp>
      <p:sp>
        <p:nvSpPr>
          <p:cNvPr id="163" name=""/>
          <p:cNvSpPr/>
          <p:nvPr/>
        </p:nvSpPr>
        <p:spPr>
          <a:xfrm>
            <a:off x="1752480" y="2286000"/>
            <a:ext cx="62485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www.klickeducação.com.b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www.sobiografias.com.br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www.somatematica.com.b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História da Educação – Cal Boy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1646280" y="3367080"/>
            <a:ext cx="1066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Élvio</a:t>
            </a:r>
            <a:endParaRPr b="0" lang="en-US" sz="2800" spc="-1" strike="noStrike">
              <a:solidFill>
                <a:srgbClr val="000000"/>
              </a:solidFill>
              <a:latin typeface="Times New Roman"/>
            </a:endParaRPr>
          </a:p>
        </p:txBody>
      </p:sp>
      <p:sp>
        <p:nvSpPr>
          <p:cNvPr id="91" name=""/>
          <p:cNvSpPr/>
          <p:nvPr/>
        </p:nvSpPr>
        <p:spPr>
          <a:xfrm>
            <a:off x="1066680" y="38088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imes New Roman"/>
              </a:rPr>
              <a:t>Participantes</a:t>
            </a:r>
            <a:endParaRPr b="0" lang="en-US" sz="4400" spc="-1" strike="noStrike">
              <a:solidFill>
                <a:srgbClr val="000000"/>
              </a:solidFill>
              <a:latin typeface="Times New Roman"/>
            </a:endParaRPr>
          </a:p>
        </p:txBody>
      </p:sp>
      <p:pic>
        <p:nvPicPr>
          <p:cNvPr id="92" name="elvio" descr=""/>
          <p:cNvPicPr/>
          <p:nvPr/>
        </p:nvPicPr>
        <p:blipFill>
          <a:blip r:embed="rId2"/>
          <a:stretch/>
        </p:blipFill>
        <p:spPr>
          <a:xfrm>
            <a:off x="1523880" y="1676520"/>
            <a:ext cx="1311480" cy="1639800"/>
          </a:xfrm>
          <a:prstGeom prst="rect">
            <a:avLst/>
          </a:prstGeom>
          <a:ln w="0">
            <a:noFill/>
          </a:ln>
        </p:spPr>
      </p:pic>
      <p:pic>
        <p:nvPicPr>
          <p:cNvPr id="93" name="fernanda" descr=""/>
          <p:cNvPicPr/>
          <p:nvPr/>
        </p:nvPicPr>
        <p:blipFill>
          <a:blip r:embed="rId3"/>
          <a:stretch/>
        </p:blipFill>
        <p:spPr>
          <a:xfrm>
            <a:off x="4259160" y="1676520"/>
            <a:ext cx="1311480" cy="1639800"/>
          </a:xfrm>
          <a:prstGeom prst="rect">
            <a:avLst/>
          </a:prstGeom>
          <a:ln w="0">
            <a:noFill/>
          </a:ln>
        </p:spPr>
      </p:pic>
      <p:pic>
        <p:nvPicPr>
          <p:cNvPr id="94" name="jaime" descr=""/>
          <p:cNvPicPr/>
          <p:nvPr/>
        </p:nvPicPr>
        <p:blipFill>
          <a:blip r:embed="rId4"/>
          <a:stretch/>
        </p:blipFill>
        <p:spPr>
          <a:xfrm>
            <a:off x="7002360" y="1676520"/>
            <a:ext cx="1311480" cy="1639800"/>
          </a:xfrm>
          <a:prstGeom prst="rect">
            <a:avLst/>
          </a:prstGeom>
          <a:ln w="0">
            <a:noFill/>
          </a:ln>
        </p:spPr>
      </p:pic>
      <p:pic>
        <p:nvPicPr>
          <p:cNvPr id="95" name="marilene" descr=""/>
          <p:cNvPicPr/>
          <p:nvPr/>
        </p:nvPicPr>
        <p:blipFill>
          <a:blip r:embed="rId5"/>
          <a:stretch/>
        </p:blipFill>
        <p:spPr>
          <a:xfrm>
            <a:off x="2811600" y="4308480"/>
            <a:ext cx="1309680" cy="1639800"/>
          </a:xfrm>
          <a:prstGeom prst="rect">
            <a:avLst/>
          </a:prstGeom>
          <a:ln w="0">
            <a:noFill/>
          </a:ln>
        </p:spPr>
      </p:pic>
      <p:pic>
        <p:nvPicPr>
          <p:cNvPr id="96" name="victor" descr=""/>
          <p:cNvPicPr/>
          <p:nvPr/>
        </p:nvPicPr>
        <p:blipFill>
          <a:blip r:embed="rId6"/>
          <a:stretch/>
        </p:blipFill>
        <p:spPr>
          <a:xfrm>
            <a:off x="5707080" y="4308480"/>
            <a:ext cx="1311120" cy="1639800"/>
          </a:xfrm>
          <a:prstGeom prst="rect">
            <a:avLst/>
          </a:prstGeom>
          <a:ln w="0">
            <a:noFill/>
          </a:ln>
        </p:spPr>
      </p:pic>
      <p:sp>
        <p:nvSpPr>
          <p:cNvPr id="97" name=""/>
          <p:cNvSpPr/>
          <p:nvPr/>
        </p:nvSpPr>
        <p:spPr>
          <a:xfrm>
            <a:off x="3962520" y="336708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rnanda</a:t>
            </a:r>
            <a:endParaRPr b="0" lang="en-US" sz="2800" spc="-1" strike="noStrike">
              <a:solidFill>
                <a:srgbClr val="000000"/>
              </a:solidFill>
              <a:latin typeface="Times New Roman"/>
            </a:endParaRPr>
          </a:p>
        </p:txBody>
      </p:sp>
      <p:sp>
        <p:nvSpPr>
          <p:cNvPr id="98" name=""/>
          <p:cNvSpPr/>
          <p:nvPr/>
        </p:nvSpPr>
        <p:spPr>
          <a:xfrm>
            <a:off x="6705720" y="336708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aime</a:t>
            </a:r>
            <a:endParaRPr b="0" lang="en-US" sz="2800" spc="-1" strike="noStrike">
              <a:solidFill>
                <a:srgbClr val="000000"/>
              </a:solidFill>
              <a:latin typeface="Times New Roman"/>
            </a:endParaRPr>
          </a:p>
        </p:txBody>
      </p:sp>
      <p:sp>
        <p:nvSpPr>
          <p:cNvPr id="99" name=""/>
          <p:cNvSpPr/>
          <p:nvPr/>
        </p:nvSpPr>
        <p:spPr>
          <a:xfrm>
            <a:off x="2514600" y="6019920"/>
            <a:ext cx="1905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Marilene</a:t>
            </a:r>
            <a:endParaRPr b="0" lang="en-US" sz="2800" spc="-1" strike="noStrike">
              <a:solidFill>
                <a:srgbClr val="000000"/>
              </a:solidFill>
              <a:latin typeface="Times New Roman"/>
            </a:endParaRPr>
          </a:p>
        </p:txBody>
      </p:sp>
      <p:sp>
        <p:nvSpPr>
          <p:cNvPr id="100" name=""/>
          <p:cNvSpPr/>
          <p:nvPr/>
        </p:nvSpPr>
        <p:spPr>
          <a:xfrm>
            <a:off x="5410080" y="6019920"/>
            <a:ext cx="1905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ctor</a:t>
            </a:r>
            <a:endParaRPr b="0" lang="en-US" sz="2800" spc="-1" strike="noStrike">
              <a:solidFill>
                <a:srgbClr val="000000"/>
              </a:solidFill>
              <a:latin typeface="Times New Roman"/>
            </a:endParaRPr>
          </a:p>
        </p:txBody>
      </p:sp>
    </p:spTree>
  </p:cSld>
  <p:transition>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228240"/>
            <a:ext cx="76201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82400"/>
                </a:solidFill>
                <a:latin typeface="Times New Roman"/>
              </a:rPr>
              <a:t>APOLÔNIO</a:t>
            </a:r>
            <a:endParaRPr b="0" lang="en-US" sz="6600" spc="-1" strike="noStrike">
              <a:solidFill>
                <a:srgbClr val="482400"/>
              </a:solidFill>
              <a:latin typeface="Times New Roman"/>
            </a:endParaRPr>
          </a:p>
        </p:txBody>
      </p:sp>
      <p:pic>
        <p:nvPicPr>
          <p:cNvPr id="102" name="ApoloniP7" descr=""/>
          <p:cNvPicPr/>
          <p:nvPr/>
        </p:nvPicPr>
        <p:blipFill>
          <a:blip r:embed="rId2"/>
          <a:stretch/>
        </p:blipFill>
        <p:spPr>
          <a:xfrm>
            <a:off x="3124080" y="1523880"/>
            <a:ext cx="3149640" cy="4496040"/>
          </a:xfrm>
          <a:prstGeom prst="rect">
            <a:avLst/>
          </a:prstGeom>
          <a:ln w="0">
            <a:noFill/>
          </a:ln>
        </p:spPr>
      </p:pic>
      <p:sp>
        <p:nvSpPr>
          <p:cNvPr id="103" name=""/>
          <p:cNvSpPr/>
          <p:nvPr/>
        </p:nvSpPr>
        <p:spPr>
          <a:xfrm>
            <a:off x="3124080" y="6019920"/>
            <a:ext cx="3124440" cy="581400"/>
          </a:xfrm>
          <a:prstGeom prst="rect">
            <a:avLst/>
          </a:prstGeom>
          <a:solidFill>
            <a:srgbClr val="4824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62 - 190 aC;</a:t>
            </a:r>
            <a:endParaRPr b="0" lang="en-US" sz="3200" spc="-1" strike="noStrike">
              <a:solidFill>
                <a:srgbClr val="000000"/>
              </a:solidFill>
              <a:latin typeface="Times New Roman"/>
            </a:endParaRPr>
          </a:p>
        </p:txBody>
      </p:sp>
    </p:spTree>
  </p:cSld>
  <p:transition>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perga" descr=""/>
          <p:cNvPicPr/>
          <p:nvPr/>
        </p:nvPicPr>
        <p:blipFill>
          <a:blip r:embed="rId2"/>
          <a:stretch/>
        </p:blipFill>
        <p:spPr>
          <a:xfrm>
            <a:off x="990720" y="1905120"/>
            <a:ext cx="4572000" cy="4572000"/>
          </a:xfrm>
          <a:prstGeom prst="rect">
            <a:avLst/>
          </a:prstGeom>
          <a:ln w="0">
            <a:noFill/>
          </a:ln>
        </p:spPr>
      </p:pic>
      <p:sp>
        <p:nvSpPr>
          <p:cNvPr id="1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imes New Roman"/>
              </a:rPr>
              <a:t>Origem</a:t>
            </a:r>
            <a:endParaRPr b="0" lang="en-US" sz="4400" spc="-1" strike="noStrike">
              <a:solidFill>
                <a:srgbClr val="482400"/>
              </a:solidFill>
              <a:latin typeface="Times New Roman"/>
            </a:endParaRPr>
          </a:p>
        </p:txBody>
      </p:sp>
      <p:sp>
        <p:nvSpPr>
          <p:cNvPr id="106" name=""/>
          <p:cNvSpPr/>
          <p:nvPr/>
        </p:nvSpPr>
        <p:spPr>
          <a:xfrm>
            <a:off x="5791320" y="1752480"/>
            <a:ext cx="312408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sceu em </a:t>
            </a:r>
            <a:r>
              <a:rPr b="1" lang="en-US" sz="2400" spc="-1" strike="noStrike" u="sng">
                <a:solidFill>
                  <a:srgbClr val="ff0000"/>
                </a:solidFill>
                <a:uFillTx/>
                <a:latin typeface="Times New Roman"/>
              </a:rPr>
              <a:t>Perga</a:t>
            </a:r>
            <a:r>
              <a:rPr b="1" lang="en-US" sz="2400" spc="-1" strike="noStrike">
                <a:solidFill>
                  <a:srgbClr val="000000"/>
                </a:solidFill>
                <a:latin typeface="Times New Roman"/>
              </a:rPr>
              <a:t> no sul da Ásia Menor. Quando jovem foi para Alexandria a fim de estudar com os sucessores de Euclides e acabou ficando na cidade por longo tempo. </a:t>
            </a:r>
            <a:endParaRPr b="0" lang="en-US" sz="2400" spc="-1" strike="noStrike">
              <a:solidFill>
                <a:srgbClr val="000000"/>
              </a:solidFill>
              <a:latin typeface="Times New Roman"/>
            </a:endParaRPr>
          </a:p>
        </p:txBody>
      </p:sp>
      <p:sp>
        <p:nvSpPr>
          <p:cNvPr id="107" name=""/>
          <p:cNvSpPr/>
          <p:nvPr/>
        </p:nvSpPr>
        <p:spPr>
          <a:xfrm rot="13885200">
            <a:off x="2095200" y="2171160"/>
            <a:ext cx="304920" cy="533520"/>
          </a:xfrm>
          <a:prstGeom prst="downArrow">
            <a:avLst>
              <a:gd name="adj1" fmla="val 50000"/>
              <a:gd name="adj2" fmla="val 43743"/>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1066680" y="38088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imes New Roman"/>
              </a:rPr>
              <a:t>Obras</a:t>
            </a:r>
            <a:endParaRPr b="0" lang="en-US" sz="4400" spc="-1" strike="noStrike">
              <a:solidFill>
                <a:srgbClr val="000000"/>
              </a:solidFill>
              <a:latin typeface="Times New Roman"/>
            </a:endParaRPr>
          </a:p>
        </p:txBody>
      </p:sp>
      <p:sp>
        <p:nvSpPr>
          <p:cNvPr id="109" name=""/>
          <p:cNvSpPr/>
          <p:nvPr/>
        </p:nvSpPr>
        <p:spPr>
          <a:xfrm>
            <a:off x="1066680" y="2286000"/>
            <a:ext cx="4038840" cy="1983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bora tenha escrito sobre múltiplos assuntos matemáticos, sua fama se deve principalmente a </a:t>
            </a:r>
            <a:r>
              <a:rPr b="1" lang="en-US" sz="2800" spc="-1" strike="noStrike">
                <a:solidFill>
                  <a:srgbClr val="ff0000"/>
                </a:solidFill>
                <a:latin typeface="Times New Roman"/>
              </a:rPr>
              <a:t>Secções Cônica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10" name="apol1" descr=""/>
          <p:cNvPicPr/>
          <p:nvPr/>
        </p:nvPicPr>
        <p:blipFill>
          <a:blip r:embed="rId2"/>
          <a:stretch/>
        </p:blipFill>
        <p:spPr>
          <a:xfrm>
            <a:off x="5638680" y="1905120"/>
            <a:ext cx="3098880" cy="4724280"/>
          </a:xfrm>
          <a:prstGeom prst="rect">
            <a:avLst/>
          </a:prstGeom>
          <a:ln w="0">
            <a:noFill/>
          </a:ln>
        </p:spPr>
      </p:pic>
      <p:sp>
        <p:nvSpPr>
          <p:cNvPr id="111" name=""/>
          <p:cNvSpPr/>
          <p:nvPr/>
        </p:nvSpPr>
        <p:spPr>
          <a:xfrm>
            <a:off x="2209680" y="5791320"/>
            <a:ext cx="335304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00"/>
                </a:solidFill>
                <a:latin typeface="Times New Roman"/>
              </a:rPr>
              <a:t>Folha de rosto das obras de Apolônio, 1537</a:t>
            </a:r>
            <a:endParaRPr b="0" lang="en-US" sz="2400" spc="-1" strike="noStrike">
              <a:solidFill>
                <a:srgbClr val="000000"/>
              </a:solidFill>
              <a:latin typeface="Times New Roman"/>
            </a:endParaRPr>
          </a:p>
        </p:txBody>
      </p:sp>
    </p:spTree>
  </p:cSld>
  <p:transition>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1066680" y="38088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82400"/>
                </a:solidFill>
                <a:latin typeface="Times New Roman"/>
              </a:rPr>
              <a:t>Obras</a:t>
            </a:r>
            <a:endParaRPr b="0" lang="en-US" sz="4400" spc="-1" strike="noStrike">
              <a:solidFill>
                <a:srgbClr val="000000"/>
              </a:solidFill>
              <a:latin typeface="Times New Roman"/>
            </a:endParaRPr>
          </a:p>
        </p:txBody>
      </p:sp>
      <p:sp>
        <p:nvSpPr>
          <p:cNvPr id="113" name=""/>
          <p:cNvSpPr/>
          <p:nvPr/>
        </p:nvSpPr>
        <p:spPr>
          <a:xfrm>
            <a:off x="1066680" y="1828800"/>
            <a:ext cx="487692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ff0000"/>
                </a:solidFill>
                <a:latin typeface="Times New Roman"/>
              </a:rPr>
              <a:t>Secções Cônicas</a:t>
            </a:r>
            <a:r>
              <a:rPr b="1" lang="en-US" sz="2400" spc="-1" strike="noStrike">
                <a:solidFill>
                  <a:srgbClr val="000000"/>
                </a:solidFill>
                <a:latin typeface="Times New Roman"/>
              </a:rPr>
              <a:t>”, uma obra extraordinária, a qual lhe deu o cognome de “O Grande Geômetra”. Secções Cônicas, foi um estudo exaustivo das curvas que eram obtidas das secções cônicas numa única superfície cônica circular genérica de duas folhas, mediante inclinações convenientes dos planos de secções, conseguindo assim um estudo integrado dessas curvas.</a:t>
            </a:r>
            <a:endParaRPr b="0" lang="en-US" sz="2400" spc="-1" strike="noStrike">
              <a:solidFill>
                <a:srgbClr val="000000"/>
              </a:solidFill>
              <a:latin typeface="Times New Roman"/>
            </a:endParaRPr>
          </a:p>
        </p:txBody>
      </p:sp>
      <p:pic>
        <p:nvPicPr>
          <p:cNvPr id="114" name="conica" descr=""/>
          <p:cNvPicPr/>
          <p:nvPr/>
        </p:nvPicPr>
        <p:blipFill>
          <a:blip r:embed="rId2"/>
          <a:stretch/>
        </p:blipFill>
        <p:spPr>
          <a:xfrm>
            <a:off x="5791320" y="1752480"/>
            <a:ext cx="3103560" cy="4737240"/>
          </a:xfrm>
          <a:prstGeom prst="rect">
            <a:avLst/>
          </a:prstGeom>
          <a:ln w="0">
            <a:noFill/>
          </a:ln>
        </p:spPr>
      </p:pic>
    </p:spTree>
  </p:cSld>
  <p:transition>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 name="conica" descr=""/>
          <p:cNvPicPr/>
          <p:nvPr/>
        </p:nvPicPr>
        <p:blipFill>
          <a:blip r:embed="rId2"/>
          <a:stretch/>
        </p:blipFill>
        <p:spPr>
          <a:xfrm>
            <a:off x="2638440" y="228600"/>
            <a:ext cx="4143240" cy="6324480"/>
          </a:xfrm>
          <a:prstGeom prst="rect">
            <a:avLst/>
          </a:prstGeom>
          <a:ln w="0">
            <a:noFill/>
          </a:ln>
        </p:spPr>
      </p:pic>
      <p:sp>
        <p:nvSpPr>
          <p:cNvPr id="116" name=""/>
          <p:cNvSpPr/>
          <p:nvPr/>
        </p:nvSpPr>
        <p:spPr>
          <a:xfrm>
            <a:off x="6248520" y="914400"/>
            <a:ext cx="2286000" cy="459720"/>
          </a:xfrm>
          <a:prstGeom prst="rect">
            <a:avLst/>
          </a:prstGeom>
          <a:solidFill>
            <a:srgbClr val="e7e0d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PÉRBOLE</a:t>
            </a:r>
            <a:endParaRPr b="0" lang="en-US" sz="2400" spc="-1" strike="noStrike">
              <a:solidFill>
                <a:srgbClr val="000000"/>
              </a:solidFill>
              <a:latin typeface="Times New Roman"/>
            </a:endParaRPr>
          </a:p>
        </p:txBody>
      </p:sp>
      <p:sp>
        <p:nvSpPr>
          <p:cNvPr id="117" name=""/>
          <p:cNvSpPr/>
          <p:nvPr/>
        </p:nvSpPr>
        <p:spPr>
          <a:xfrm>
            <a:off x="2438280" y="2057400"/>
            <a:ext cx="1295640" cy="459720"/>
          </a:xfrm>
          <a:prstGeom prst="rect">
            <a:avLst/>
          </a:prstGeom>
          <a:solidFill>
            <a:srgbClr val="e7e0d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IPSE</a:t>
            </a:r>
            <a:endParaRPr b="0" lang="en-US" sz="2400" spc="-1" strike="noStrike">
              <a:solidFill>
                <a:srgbClr val="000000"/>
              </a:solidFill>
              <a:latin typeface="Times New Roman"/>
            </a:endParaRPr>
          </a:p>
        </p:txBody>
      </p:sp>
      <p:sp>
        <p:nvSpPr>
          <p:cNvPr id="118" name=""/>
          <p:cNvSpPr/>
          <p:nvPr/>
        </p:nvSpPr>
        <p:spPr>
          <a:xfrm>
            <a:off x="838080" y="4038480"/>
            <a:ext cx="3048120" cy="459720"/>
          </a:xfrm>
          <a:prstGeom prst="rect">
            <a:avLst/>
          </a:prstGeom>
          <a:solidFill>
            <a:srgbClr val="e7e0d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RCUNFERÊNCIA</a:t>
            </a:r>
            <a:endParaRPr b="0" lang="en-US" sz="2400" spc="-1" strike="noStrike">
              <a:solidFill>
                <a:srgbClr val="000000"/>
              </a:solidFill>
              <a:latin typeface="Times New Roman"/>
            </a:endParaRPr>
          </a:p>
        </p:txBody>
      </p:sp>
      <p:sp>
        <p:nvSpPr>
          <p:cNvPr id="119" name=""/>
          <p:cNvSpPr/>
          <p:nvPr/>
        </p:nvSpPr>
        <p:spPr>
          <a:xfrm>
            <a:off x="6172200" y="5181480"/>
            <a:ext cx="2286000" cy="459720"/>
          </a:xfrm>
          <a:prstGeom prst="rect">
            <a:avLst/>
          </a:prstGeom>
          <a:solidFill>
            <a:srgbClr val="e7e0d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PÉRBOLE</a:t>
            </a:r>
            <a:endParaRPr b="0" lang="en-US" sz="2400" spc="-1" strike="noStrike">
              <a:solidFill>
                <a:srgbClr val="000000"/>
              </a:solidFill>
              <a:latin typeface="Times New Roman"/>
            </a:endParaRPr>
          </a:p>
        </p:txBody>
      </p:sp>
      <p:sp>
        <p:nvSpPr>
          <p:cNvPr id="120" name=""/>
          <p:cNvSpPr/>
          <p:nvPr/>
        </p:nvSpPr>
        <p:spPr>
          <a:xfrm>
            <a:off x="1371600" y="5181480"/>
            <a:ext cx="1905120" cy="459720"/>
          </a:xfrm>
          <a:prstGeom prst="rect">
            <a:avLst/>
          </a:prstGeom>
          <a:solidFill>
            <a:srgbClr val="e7e0d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ÁBOLA</a:t>
            </a:r>
            <a:endParaRPr b="0" lang="en-US" sz="2400" spc="-1" strike="noStrike">
              <a:solidFill>
                <a:srgbClr val="000000"/>
              </a:solidFill>
              <a:latin typeface="Times New Roman"/>
            </a:endParaRPr>
          </a:p>
        </p:txBody>
      </p:sp>
    </p:spTree>
  </p:cSld>
  <p:transition>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conica" descr=""/>
          <p:cNvPicPr/>
          <p:nvPr/>
        </p:nvPicPr>
        <p:blipFill>
          <a:blip r:embed="rId2"/>
          <a:stretch/>
        </p:blipFill>
        <p:spPr>
          <a:xfrm>
            <a:off x="1295280" y="380880"/>
            <a:ext cx="1447920" cy="2210040"/>
          </a:xfrm>
          <a:prstGeom prst="rect">
            <a:avLst/>
          </a:prstGeom>
          <a:ln w="0">
            <a:noFill/>
          </a:ln>
        </p:spPr>
      </p:pic>
      <p:pic>
        <p:nvPicPr>
          <p:cNvPr id="122" name="circunf" descr=""/>
          <p:cNvPicPr/>
          <p:nvPr/>
        </p:nvPicPr>
        <p:blipFill>
          <a:blip r:embed="rId3"/>
          <a:stretch/>
        </p:blipFill>
        <p:spPr>
          <a:xfrm>
            <a:off x="4716360" y="380880"/>
            <a:ext cx="4043520" cy="6172200"/>
          </a:xfrm>
          <a:prstGeom prst="rect">
            <a:avLst/>
          </a:prstGeom>
          <a:ln w="0">
            <a:noFill/>
          </a:ln>
        </p:spPr>
      </p:pic>
      <p:sp>
        <p:nvSpPr>
          <p:cNvPr id="123" name=""/>
          <p:cNvSpPr/>
          <p:nvPr/>
        </p:nvSpPr>
        <p:spPr>
          <a:xfrm rot="16200000">
            <a:off x="-2962800" y="2961360"/>
            <a:ext cx="6568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I R C U N F E R Ê N C I A</a:t>
            </a:r>
            <a:endParaRPr b="0" lang="en-US" sz="3600" spc="-1" strike="noStrike">
              <a:solidFill>
                <a:srgbClr val="000000"/>
              </a:solidFill>
              <a:latin typeface="Times New Roman"/>
            </a:endParaRPr>
          </a:p>
        </p:txBody>
      </p:sp>
    </p:spTree>
  </p:cSld>
  <p:transition>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conica" descr=""/>
          <p:cNvPicPr/>
          <p:nvPr/>
        </p:nvPicPr>
        <p:blipFill>
          <a:blip r:embed="rId2"/>
          <a:stretch/>
        </p:blipFill>
        <p:spPr>
          <a:xfrm>
            <a:off x="1295280" y="382680"/>
            <a:ext cx="1447920" cy="2209680"/>
          </a:xfrm>
          <a:prstGeom prst="rect">
            <a:avLst/>
          </a:prstGeom>
          <a:ln w="0">
            <a:noFill/>
          </a:ln>
        </p:spPr>
      </p:pic>
      <p:sp>
        <p:nvSpPr>
          <p:cNvPr id="125" name=""/>
          <p:cNvSpPr/>
          <p:nvPr/>
        </p:nvSpPr>
        <p:spPr>
          <a:xfrm rot="16200000">
            <a:off x="-2962800" y="2962800"/>
            <a:ext cx="6568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 L I P S E</a:t>
            </a:r>
            <a:endParaRPr b="0" lang="en-US" sz="3600" spc="-1" strike="noStrike">
              <a:solidFill>
                <a:srgbClr val="000000"/>
              </a:solidFill>
              <a:latin typeface="Times New Roman"/>
            </a:endParaRPr>
          </a:p>
        </p:txBody>
      </p:sp>
      <p:pic>
        <p:nvPicPr>
          <p:cNvPr id="126" name="elipse" descr=""/>
          <p:cNvPicPr/>
          <p:nvPr/>
        </p:nvPicPr>
        <p:blipFill>
          <a:blip r:embed="rId3"/>
          <a:stretch/>
        </p:blipFill>
        <p:spPr>
          <a:xfrm>
            <a:off x="4724280" y="380880"/>
            <a:ext cx="4051440" cy="6185160"/>
          </a:xfrm>
          <a:prstGeom prst="rect">
            <a:avLst/>
          </a:prstGeom>
          <a:ln w="0">
            <a:noFill/>
          </a:ln>
        </p:spPr>
      </p:pic>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22:41:38Z</dcterms:created>
  <dc:creator>FUND. EDUC. NORDESTE MINEIRO</dc:creator>
  <dc:description/>
  <dc:language>en-US</dc:language>
  <cp:lastModifiedBy>FENORD</cp:lastModifiedBy>
  <dcterms:modified xsi:type="dcterms:W3CDTF">2002-06-14T19:58:24Z</dcterms:modified>
  <cp:revision>50</cp:revision>
  <dc:subject/>
  <dc:title>APOLÔNIO</dc:title>
</cp:coreProperties>
</file>