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4D6-6825-4C3C-89B0-8DE7DA47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F87-4E88-4F5F-9DB3-4568236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B05-B4C7-46BB-9A47-682C5A05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7CA-DD8B-4A3E-B40A-CCAEFBED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186-2D8E-4450-B927-5C535C3C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132-23E4-49CC-A0B5-59B7F96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097-3C0E-463E-A22C-7805ECAC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5402-215F-4FAB-BF64-4CA72531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194B-5D12-468F-923F-94555FA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A929-2B70-4ED6-96E2-6036ED8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5DB0-4CD5-4721-87F4-6DBFE53C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442-FFDE-49DC-8151-A3ACF2B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5CC5-5558-441F-BAF9-653F42A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97D2-0D8F-4784-B43C-E472FC7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BE36-6059-4E31-AD10-B28AE64F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5E01-F040-4FF1-9830-5EF5BC5C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41C9-ECEB-4F54-8E41-11E19061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792-9F0E-471A-B93D-54CBEF9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439-A1EC-4E5B-9119-B33ADE49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0A7-F96A-4771-92E6-B062CBCB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3B3-B8BC-489F-AACD-AFE3FDBA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1D2-462D-4B89-8EEC-D82F283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919-A7D8-444F-BB97-827B5A34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708-7B14-4D9C-95CD-D967E25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11B-9FE6-4BCB-9204-3708FFF53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25B-A8A9-4142-AFDE-D639D4966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r>
              <a:rPr b="1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pt-BR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 Ahlert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essa Paula Reginat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nadete</a:t>
            </a: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438280" y="1676520"/>
            <a:ext cx="480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nálise Combinatória</a:t>
            </a:r>
            <a:endParaRPr b="0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   Quatro clubes Juventude, Palmeiras e  Esperança e Fluminense disputam as finais de um torneio de futebol. Ao final do certame as classificações possíveis desses clubes são os arranjos simples dos quatro elementos Juventude, Palmeiras, Esperança e Fluminense tomados quatro a quatro. </a:t>
            </a: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69640" y="3809520"/>
            <a:ext cx="77454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  Quais são as possibilidades que podemos encontr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° lugar</a:t>
            </a:r>
            <a:r>
              <a:rPr b="1" lang="pt-B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pt-B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° lugar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° lugar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° luga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0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 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minens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eiras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rança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ventu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743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lmei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91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ranç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8840" y="556272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umine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71600" y="838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  Quantas possibilidades exi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m 24 possibilidad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número de arranjos simples tomados quatro a quatro ( A </a:t>
            </a:r>
            <a:r>
              <a:rPr b="0" lang="pt-BR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, 4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também pode ser calculado pelo princípio fundamental da contag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pt-BR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, 4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4. 3. 2. 1 =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23880" y="11426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Quantas possibilidades há do Flamengo ficar em 1° lug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m 6 possibilidades do Flamengo ficar em primeiro lugar, assim como os demais times também possuem 6 possibilidades de ficar em primeiro lug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Quantos números de dois algarismos (elementos) distintos podem ser forma­dos, usando os algarismos (elementos) 2, 3, 4 e 5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° algarismo 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° algarismo 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úmeros formad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 possibilidades)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 possibitidades)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2 números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9810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e-se observar que os grupos (números ou elementos) obtidos diferem entre 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pela ordem dos elementos (23 e 32, por exemp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grupos assim obtidos são denominados arranjos simples dos 4  elementos tomados 2 a 2 e são indicados A </a:t>
            </a:r>
            <a:r>
              <a:rPr b="0" lang="pt-PT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, 2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. 3 =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balho feito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ce Ahl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nessa Paula Reginat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nad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antes do curso de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ências Exata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jeado - 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BS00554_" descr=""/>
          <p:cNvPicPr/>
          <p:nvPr/>
        </p:nvPicPr>
        <p:blipFill>
          <a:blip r:embed="rId1"/>
          <a:stretch/>
        </p:blipFill>
        <p:spPr>
          <a:xfrm>
            <a:off x="7391520" y="5181480"/>
            <a:ext cx="1523880" cy="13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ÁLISE COMBINATÓ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análise combinatória é a parte da matemática que estuda o número de possibilidades de ocorrência de um  determinado acontecimen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AÇÃO 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ação simp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o tipo de agrupamento sem repetição em que um grupo é diferente de outro apenas pela natureza dos elementos compon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47560" y="3049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mplo: Quantas comissões de dois podem ser formados com 5 alunos ( A, B, C, D e E) de uma classe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° aluno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ª aluno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° de comissõ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5 possibilidades)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4 possibilidades)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  comissões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 = AB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 = A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B = B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= A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 = B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= C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 = A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B = B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 = 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just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 =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286000"/>
            <a:ext cx="3809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4648320"/>
            <a:ext cx="3733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23880" y="38088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ÓRMULA DA COMBINAÇÃO SIMP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emplo anterior, para descobrirmos o número de combinações, basta calcular o número de arranjos e dividir o resultado por 2 ( 20 : 2 = 10 ), </a:t>
            </a:r>
            <a:r>
              <a:rPr b="0" lang="pt-BR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e é o fatorial do número de elementos que compõe cada comissão ( 2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número de combinações de n elementos de grupos de p elementos é igual ao número de arranjos de n elementos tomados p a p divididos por p!, isto é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n, p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n   !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! ( n – p)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, 2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5 !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. 4. 3. 2.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! ( 5 – 2) !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2! 3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5, 2</a:t>
            </a:r>
            <a:r>
              <a:rPr b="0" lang="pt-BR" sz="2000" spc="-1" strike="noStrike" u="sng" baseline="-30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120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120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</a:t>
            </a:r>
            <a:r>
              <a:rPr b="0" lang="pt-BR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3.2.1          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1148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137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12800" y="3048120"/>
            <a:ext cx="392364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n= elementos distintos, quantidades de cois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: 5 alunos (A, B, C, D e 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= agrupamentos possíve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: duplas ou tomados dois a doi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371240" y="914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UTAÇÃO SI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utações simples de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ementos distintos são os agrupamentos formados com todos os 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ementos e que diferem uns dos outros pela ordem de seus elementos. 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pt-BR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n!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600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Ex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os são os anagramas da palavra AMOR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M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A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MO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MRO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MRA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MA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MA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AM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A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M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M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R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O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O M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O A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A O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A M 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M A 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pt-B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M O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838080"/>
            <a:ext cx="281916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 </a:t>
            </a:r>
            <a:r>
              <a:rPr b="1" lang="en-US" sz="1600" spc="-1" strike="noStrike" baseline="-30000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= 4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 = 4. 3. 2. 1 =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emos 24 possibilidades de escrever a palavra am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 a 1ª letra da palavra amor, (A) , consigo obter  6 possi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18960" y="9140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 2 - Quantos são os anagramas da palavra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SO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SOS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OSO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OSS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SOO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O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</a:t>
            </a:r>
            <a:r>
              <a:rPr b="0" lang="pt-BR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, 2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6 permutações ou ana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NJOS 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njos simp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é o tipo de agrupamento em que um grupo é diferente de outro pela ordem ou pela natureza dos elementos compon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20:47:57Z</dcterms:created>
  <dc:creator>Alan Rafael Ahlert</dc:creator>
  <dc:description/>
  <dc:language>en-US</dc:language>
  <cp:lastModifiedBy>Alan Rafael Ahlert</cp:lastModifiedBy>
  <dcterms:modified xsi:type="dcterms:W3CDTF">2005-02-16T20:03:51Z</dcterms:modified>
  <cp:revision>27</cp:revision>
  <dc:subject/>
  <dc:title>                       Alice Ahlert  Vanessa Paula Reginatto  Bernadete </dc:title>
</cp:coreProperties>
</file>