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59F-0B2E-4DD5-9FBA-D1584376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A49-D1F0-4749-B53B-59A5CA6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BC4-5D41-4740-A3F5-E5F6561A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F5D-5DA4-4B7C-B6F5-39D27002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686C-CAB3-45A2-AFC0-19343B44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FE00-2045-49C3-B7DE-5B7142B9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868-C463-4FE6-B29E-F2225A3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F35-BB0E-4D56-B55B-3C5496D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93C-4B07-42CE-9A1E-5DB62D7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DE0-A1AD-4CF8-B9C8-23AA9EE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EB7-FF27-499E-8110-ED35507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24F-4FBB-4562-A775-F5733AD3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F052-DE74-4780-BFF1-0BBEAFD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889-4567-46C3-908B-B3131927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900F-5A7B-4C27-87B1-6F91C0B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A0E-3555-403B-8546-76347A2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946C-FEBA-4ED3-BB81-CACE70C4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091-7474-4579-B039-8132675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2F-E4E1-4034-AC04-8D9BDBC0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AE0-9948-4830-82C8-3A0A34D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C3C-8D4B-4F89-846D-757627EC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260-AA84-4C46-B816-A967B47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A37-C526-495F-9168-307A5D9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D88-3FCE-4FBB-B255-AA8E6AA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57400"/>
            <a:ext cx="1676520" cy="373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INICI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APRESENTAÇÃ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CIRCUIT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SÉRI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PARALEL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SÉRIE I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PARALELO I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DEPEÊNC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DEP.  SÉRI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DEP.  PARALEL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DISTRIBUTIVIDAD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3300"/>
                </a:solidFill>
                <a:uFillTx/>
                <a:latin typeface="Times New Roman"/>
              </a:rPr>
              <a:t>EXEMPL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C961-3736-4C86-9D83-62B9C4076BD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09D1-5A56-4184-AC46-BEF9C2F97E8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1447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ÁLGEBRA E CIRCUITOS LÓG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962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UNO: EDGAR G. DE ABRE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IENTADORA: PROFª. MARIA LUI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29200" y="21337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1295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42900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400920" y="178632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3280" y="172656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162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2743200"/>
            <a:ext cx="38124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09040" y="1729080"/>
            <a:ext cx="77364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5200" y="17172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821480" y="1688760"/>
            <a:ext cx="523440" cy="52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9160" y="20534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454440" y="21758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25426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2000" y="24991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20760" y="2495880"/>
            <a:ext cx="532800" cy="3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733920" y="4038480"/>
          <a:ext cx="3047760" cy="2589120"/>
        </p:xfrm>
        <a:graphic>
          <a:graphicData uri="http://schemas.openxmlformats.org/drawingml/2006/table">
            <a:tbl>
              <a:tblPr/>
              <a:tblGrid>
                <a:gridCol w="96012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29200" y="21337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1295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2900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400920" y="178632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43280" y="172656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162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0552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743200"/>
            <a:ext cx="38124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09040" y="1729080"/>
            <a:ext cx="77364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45200" y="17172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821120" y="1691640"/>
            <a:ext cx="514800" cy="48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49160" y="20534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54440" y="21758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48440" y="25426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2000" y="24991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821840" y="2290680"/>
            <a:ext cx="57024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733920" y="4038480"/>
          <a:ext cx="3047760" cy="2589120"/>
        </p:xfrm>
        <a:graphic>
          <a:graphicData uri="http://schemas.openxmlformats.org/drawingml/2006/table">
            <a:tbl>
              <a:tblPr/>
              <a:tblGrid>
                <a:gridCol w="96012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29200" y="21337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1295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42900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400920" y="178632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43280" y="172656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162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0552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2743200"/>
            <a:ext cx="38124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09040" y="1729080"/>
            <a:ext cx="77364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45200" y="17172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22920" y="1495440"/>
            <a:ext cx="495000" cy="246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9160" y="20534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54440" y="21758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48440" y="25426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2000" y="24991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821840" y="2290680"/>
            <a:ext cx="57024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733920" y="4038480"/>
          <a:ext cx="3047760" cy="2589120"/>
        </p:xfrm>
        <a:graphic>
          <a:graphicData uri="http://schemas.openxmlformats.org/drawingml/2006/table">
            <a:tbl>
              <a:tblPr/>
              <a:tblGrid>
                <a:gridCol w="96012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029200" y="21337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1295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42900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400920" y="178632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43280" y="172656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162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0552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0280" y="2743200"/>
            <a:ext cx="38124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109040" y="1729080"/>
            <a:ext cx="77364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45200" y="17172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822920" y="1495440"/>
            <a:ext cx="495000" cy="246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9160" y="20534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454440" y="21758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8440" y="25426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2000" y="24991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20040" y="2496240"/>
            <a:ext cx="553320" cy="3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733920" y="4038480"/>
          <a:ext cx="3047760" cy="2589120"/>
        </p:xfrm>
        <a:graphic>
          <a:graphicData uri="http://schemas.openxmlformats.org/drawingml/2006/table">
            <a:tbl>
              <a:tblPr/>
              <a:tblGrid>
                <a:gridCol w="96012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629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CÊ DEVE ESTAR SE PERGUNTANDO... ONDE ESTÁ  A LÓGICA? NÃO ENXERGOU? ENTÃO EXPERIMENTE ESSAS ALTERAÇÕ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666880" y="4267080"/>
          <a:ext cx="5562720" cy="177804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V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4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o ficaria o Circuito em séri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63868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286000" y="3962520"/>
          <a:ext cx="3200400" cy="260820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345200" y="2030760"/>
            <a:ext cx="609120" cy="37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6320" y="2033280"/>
            <a:ext cx="532080" cy="4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28600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563868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345560" y="2033640"/>
            <a:ext cx="532080" cy="3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28600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563868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28600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63868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69920" y="2024640"/>
            <a:ext cx="604440" cy="52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28600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63868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PRESENTA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209680"/>
            <a:ext cx="6096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ÁLGEBRA D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BOOLE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É ULTILIZADA EM: CONSTRUÇÃO DE REDES DE ENERGIA ELÉTRICA, CENTRAIS TELEFÔNICAS, COMPUTADORES E ETC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CÊ SABIA DISS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vo 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20574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 compararmos também a tabela do circuito paralelo com a tabela da disjunção veremos o segui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981080" y="3581280"/>
          <a:ext cx="304812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5410080" y="3581280"/>
          <a:ext cx="3048120" cy="258948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Lucida Sans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Euclid Symbol"/>
                          <a:ea typeface="Euclid 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pendência De Interrupto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505320" y="1905120"/>
          <a:ext cx="2895480" cy="19191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’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286000" y="4648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a-se que a definição de interruptores dependentes é a “mesma” definição de negação de uma proposi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pendência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71800" y="19810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1981080"/>
            <a:ext cx="533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9810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22860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902680" y="21146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28600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22360" y="2253240"/>
            <a:ext cx="604080" cy="52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48320" y="2286000"/>
            <a:ext cx="1066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71500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38098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38098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3848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65760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2895480"/>
            <a:ext cx="38088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41148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4114800"/>
            <a:ext cx="533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81080" y="4419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441972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898000" y="4395600"/>
            <a:ext cx="531720" cy="38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4197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123800" y="4244040"/>
            <a:ext cx="439200" cy="19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15000" y="4419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5943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38480" y="5943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5029200"/>
            <a:ext cx="38088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010280" y="1828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so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so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172200" y="2590920"/>
          <a:ext cx="2438280" cy="9111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.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6400800" y="58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tradi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172200" y="4572000"/>
          <a:ext cx="2438280" cy="9111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.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581280" y="3809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pendência em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10280" y="1828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so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so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68680" y="2286000"/>
            <a:ext cx="5461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8680" y="14479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9684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940400" y="1938600"/>
            <a:ext cx="751680" cy="33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82760" y="187884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70240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68480" y="38098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25880" y="38098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2588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4500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49760" y="2895480"/>
            <a:ext cx="381240" cy="38124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648520" y="1882080"/>
            <a:ext cx="773640" cy="47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84680" y="1869120"/>
            <a:ext cx="123156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362400" y="1648080"/>
            <a:ext cx="495000" cy="246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88640" y="220572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993920" y="232812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87920" y="2694600"/>
            <a:ext cx="123156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71480" y="2651760"/>
            <a:ext cx="775080" cy="19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9520" y="2648880"/>
            <a:ext cx="553320" cy="32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464832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905120" y="46479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876680" y="4300560"/>
            <a:ext cx="752040" cy="33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19400" y="424116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638680" y="46479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617220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617220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6019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581280" y="5943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5257800"/>
            <a:ext cx="38088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585160" y="4243680"/>
            <a:ext cx="77328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21320" y="42318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296880" y="4206240"/>
            <a:ext cx="514800" cy="48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24920" y="45680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930560" y="46904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24560" y="50572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8120" y="50137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216960" y="4817880"/>
            <a:ext cx="57024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autolog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6172200" y="2590920"/>
          <a:ext cx="2438280" cy="9111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+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172200" y="4572000"/>
          <a:ext cx="2438280" cy="9129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X+X’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38862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15238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PRIEDAD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81480" y="22096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9684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940400" y="1938600"/>
            <a:ext cx="751680" cy="33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3000" y="1977480"/>
            <a:ext cx="52020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3244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68480" y="38098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3809880"/>
            <a:ext cx="22986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2588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64500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2895480"/>
            <a:ext cx="38088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48160" y="1928160"/>
            <a:ext cx="475920" cy="5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22160" y="1922040"/>
            <a:ext cx="389880" cy="9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050280" y="1779120"/>
            <a:ext cx="363240" cy="17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8640" y="220572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83488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17480" y="268992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84800" y="2647440"/>
            <a:ext cx="569160" cy="1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110040" y="2532960"/>
            <a:ext cx="385560" cy="11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733920" y="2362320"/>
            <a:ext cx="304560" cy="380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1905120"/>
            <a:ext cx="22860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2362320"/>
            <a:ext cx="3812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6880" y="2004840"/>
            <a:ext cx="475920" cy="5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19920" y="1786320"/>
            <a:ext cx="332640" cy="2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50040" y="2684160"/>
            <a:ext cx="569520" cy="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092560" y="2467800"/>
            <a:ext cx="360720" cy="213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2362320"/>
            <a:ext cx="152280" cy="304560"/>
          </a:xfrm>
          <a:prstGeom prst="line">
            <a:avLst/>
          </a:prstGeom>
          <a:ln w="442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419720" y="1980720"/>
            <a:ext cx="228600" cy="381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424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4240" y="2006640"/>
            <a:ext cx="39024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2860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05520" y="46483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892160" y="4724280"/>
            <a:ext cx="0" cy="1524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864080" y="437724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46680" y="441576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6248520" y="4724280"/>
            <a:ext cx="0" cy="1524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92160" y="624852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49560" y="6248520"/>
            <a:ext cx="22989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49560" y="6095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568680" y="6019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5334120"/>
            <a:ext cx="38124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570040" y="4359960"/>
            <a:ext cx="1321200" cy="5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254120" y="4370040"/>
            <a:ext cx="1170720" cy="24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825000" y="4218120"/>
            <a:ext cx="363600" cy="17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11600" y="4644000"/>
            <a:ext cx="710640" cy="4543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758200" y="4744800"/>
            <a:ext cx="511920" cy="343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4520" y="5063040"/>
            <a:ext cx="486000" cy="24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033720" y="4971960"/>
            <a:ext cx="385920" cy="113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14600" y="5089320"/>
            <a:ext cx="1622880" cy="28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016240" y="4906080"/>
            <a:ext cx="360720" cy="213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07920" y="5054400"/>
            <a:ext cx="393480" cy="10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43840" y="4371840"/>
            <a:ext cx="452160" cy="78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4724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8168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X + Y).(X + Z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X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Y) </a:t>
            </a:r>
            <a:r>
              <a:rPr b="1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X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Z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5486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X + ( Y. Z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86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( Y </a:t>
            </a:r>
            <a:r>
              <a:rPr b="1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Z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stributiv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72400" y="3886200"/>
            <a:ext cx="184320" cy="441360"/>
          </a:xfrm>
          <a:prstGeom prst="downArrow">
            <a:avLst>
              <a:gd name="adj1" fmla="val 50000"/>
              <a:gd name="adj2" fmla="val 5986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867280" y="1600200"/>
            <a:ext cx="68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Y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67280" y="228600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9144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228600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4382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702160" y="1938240"/>
            <a:ext cx="752040" cy="334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84760" y="197748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7467480" y="2361960"/>
            <a:ext cx="7632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3809880"/>
            <a:ext cx="19684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3809880"/>
            <a:ext cx="275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41972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2819520"/>
            <a:ext cx="38088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26480" y="1932840"/>
            <a:ext cx="457560" cy="15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76000" y="1974600"/>
            <a:ext cx="1776240" cy="11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812400" y="1779120"/>
            <a:ext cx="363240" cy="17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62920" y="2219760"/>
            <a:ext cx="709920" cy="470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659700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244040" y="2657160"/>
            <a:ext cx="1634040" cy="4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338280" y="2648520"/>
            <a:ext cx="576720" cy="33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871440" y="2448360"/>
            <a:ext cx="445320" cy="196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80880" y="1411200"/>
            <a:ext cx="424080" cy="90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881680" y="1786680"/>
            <a:ext cx="33012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653200" y="1439280"/>
            <a:ext cx="722880" cy="779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854320" y="2467800"/>
            <a:ext cx="360720" cy="213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636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46360" y="2006640"/>
            <a:ext cx="38988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334680" y="1444680"/>
            <a:ext cx="1398600" cy="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6640" y="1423800"/>
            <a:ext cx="150264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673520" y="1171440"/>
            <a:ext cx="405000" cy="259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427120" y="2233440"/>
            <a:ext cx="316080" cy="3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70760" y="2330280"/>
            <a:ext cx="398160" cy="56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981080" y="4191120"/>
          <a:ext cx="5486400" cy="243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3047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981080" y="4191120"/>
          <a:ext cx="5486400" cy="243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3047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5867280" y="1600200"/>
            <a:ext cx="68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Y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228600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9144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228600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098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4382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2160" y="1938240"/>
            <a:ext cx="752040" cy="334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84760" y="197748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7467480" y="2361960"/>
            <a:ext cx="7632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38280" y="3809880"/>
            <a:ext cx="19684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88000" y="3809880"/>
            <a:ext cx="275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8800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41972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391520" y="2819520"/>
            <a:ext cx="38088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426480" y="1932840"/>
            <a:ext cx="457560" cy="15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76000" y="1974600"/>
            <a:ext cx="1776240" cy="11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11680" y="1949760"/>
            <a:ext cx="419040" cy="53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62920" y="2219760"/>
            <a:ext cx="709920" cy="470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59700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244040" y="2657160"/>
            <a:ext cx="1634040" cy="4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338280" y="2648520"/>
            <a:ext cx="576720" cy="33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871440" y="2448360"/>
            <a:ext cx="445320" cy="196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80880" y="1411200"/>
            <a:ext cx="424080" cy="90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881680" y="1786680"/>
            <a:ext cx="33012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653200" y="1439280"/>
            <a:ext cx="722880" cy="779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853240" y="2593440"/>
            <a:ext cx="483840" cy="86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4636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46360" y="2006640"/>
            <a:ext cx="38988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334680" y="1444680"/>
            <a:ext cx="1398600" cy="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56640" y="1423800"/>
            <a:ext cx="150264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672080" y="1379160"/>
            <a:ext cx="510840" cy="50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427120" y="2233440"/>
            <a:ext cx="316080" cy="3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0760" y="2330280"/>
            <a:ext cx="398160" cy="56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981080" y="4191120"/>
          <a:ext cx="5486400" cy="243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3047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5867280" y="1600200"/>
            <a:ext cx="68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Y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28600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00600" y="9144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228600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4382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702160" y="1938240"/>
            <a:ext cx="752040" cy="334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584760" y="197748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7467480" y="2361960"/>
            <a:ext cx="7632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38280" y="3809880"/>
            <a:ext cx="19684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3809880"/>
            <a:ext cx="275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8800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41972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91520" y="2819520"/>
            <a:ext cx="38088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426480" y="1932840"/>
            <a:ext cx="457560" cy="15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76000" y="1974600"/>
            <a:ext cx="1776240" cy="11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11680" y="1949760"/>
            <a:ext cx="419040" cy="53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62920" y="2219760"/>
            <a:ext cx="709920" cy="470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59700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244040" y="2657160"/>
            <a:ext cx="1634040" cy="4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338280" y="2648520"/>
            <a:ext cx="576720" cy="33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871440" y="2448360"/>
            <a:ext cx="445320" cy="196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0880" y="1411200"/>
            <a:ext cx="424080" cy="90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81680" y="1946520"/>
            <a:ext cx="406440" cy="56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653200" y="1439280"/>
            <a:ext cx="722880" cy="779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854320" y="2467800"/>
            <a:ext cx="360720" cy="213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4636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46360" y="2006640"/>
            <a:ext cx="38988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34680" y="1444680"/>
            <a:ext cx="1398600" cy="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56640" y="1423800"/>
            <a:ext cx="150264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670640" y="1375920"/>
            <a:ext cx="510840" cy="51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427120" y="2233440"/>
            <a:ext cx="316080" cy="3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70760" y="2330280"/>
            <a:ext cx="398160" cy="56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981080" y="4191120"/>
          <a:ext cx="5486400" cy="243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3047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5867280" y="1600200"/>
            <a:ext cx="68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Y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228600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9144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228600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24382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702160" y="1938240"/>
            <a:ext cx="752040" cy="334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84760" y="197748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7467480" y="2361960"/>
            <a:ext cx="7632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38280" y="3809880"/>
            <a:ext cx="19684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88000" y="3809880"/>
            <a:ext cx="275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8800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41972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91520" y="2819520"/>
            <a:ext cx="38088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426480" y="1932840"/>
            <a:ext cx="457560" cy="15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76000" y="1974600"/>
            <a:ext cx="1776240" cy="11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812400" y="1779120"/>
            <a:ext cx="363240" cy="17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62920" y="2219760"/>
            <a:ext cx="709920" cy="470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59700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244040" y="2657160"/>
            <a:ext cx="1634040" cy="4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338280" y="2648520"/>
            <a:ext cx="576720" cy="33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870360" y="2621160"/>
            <a:ext cx="419040" cy="2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80880" y="1411200"/>
            <a:ext cx="424080" cy="90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81680" y="1946520"/>
            <a:ext cx="406440" cy="56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653200" y="1439280"/>
            <a:ext cx="722880" cy="779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854320" y="2467800"/>
            <a:ext cx="360720" cy="213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4636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46360" y="2006640"/>
            <a:ext cx="38988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334680" y="1444680"/>
            <a:ext cx="1398600" cy="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56640" y="1423800"/>
            <a:ext cx="150264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673520" y="1171440"/>
            <a:ext cx="405000" cy="259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427120" y="2233440"/>
            <a:ext cx="316080" cy="3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70760" y="2330280"/>
            <a:ext cx="398160" cy="56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1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981080" y="4191120"/>
          <a:ext cx="5486400" cy="243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3047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5867280" y="1600200"/>
            <a:ext cx="685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Y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67280" y="228600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00600" y="91440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2286000"/>
            <a:ext cx="457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’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1523880"/>
            <a:ext cx="3812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438280" y="22856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702160" y="1938240"/>
            <a:ext cx="752040" cy="334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84760" y="1977480"/>
            <a:ext cx="520560" cy="315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7467480" y="2361960"/>
            <a:ext cx="7632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38280" y="3809880"/>
            <a:ext cx="19684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88000" y="3809880"/>
            <a:ext cx="275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88000" y="36576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419720" y="3581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91520" y="2819520"/>
            <a:ext cx="38088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426480" y="1932840"/>
            <a:ext cx="457560" cy="15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76000" y="1974600"/>
            <a:ext cx="1776240" cy="11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812400" y="1779120"/>
            <a:ext cx="363240" cy="17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62920" y="2219760"/>
            <a:ext cx="709920" cy="470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597000" y="2324880"/>
            <a:ext cx="517320" cy="325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244040" y="2657160"/>
            <a:ext cx="1634040" cy="4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338280" y="2648520"/>
            <a:ext cx="576720" cy="33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70000" y="2645640"/>
            <a:ext cx="511920" cy="31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680880" y="1411200"/>
            <a:ext cx="424080" cy="90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881680" y="1786680"/>
            <a:ext cx="33012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653200" y="1439280"/>
            <a:ext cx="722880" cy="779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853600" y="2611800"/>
            <a:ext cx="410040" cy="69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46360" y="2615400"/>
            <a:ext cx="393120" cy="10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46360" y="2006640"/>
            <a:ext cx="389880" cy="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3334680" y="1444680"/>
            <a:ext cx="1398600" cy="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56640" y="1423800"/>
            <a:ext cx="1502640" cy="61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673520" y="1171440"/>
            <a:ext cx="405000" cy="259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427120" y="2233440"/>
            <a:ext cx="316080" cy="3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70760" y="2330280"/>
            <a:ext cx="398160" cy="56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2590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133720"/>
            <a:ext cx="1066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88480" y="1962360"/>
            <a:ext cx="442800" cy="19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2133720"/>
            <a:ext cx="1143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133720"/>
            <a:ext cx="1066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324480" y="31240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65760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65760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CUI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66880" y="48765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487692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708000" y="4809960"/>
            <a:ext cx="578880" cy="7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876920"/>
            <a:ext cx="1143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4876920"/>
            <a:ext cx="1066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48765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6400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6400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6248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43400" y="61722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24480" y="2133360"/>
            <a:ext cx="0" cy="68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743200"/>
            <a:ext cx="38088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5486400"/>
            <a:ext cx="380880" cy="38088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2590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erto “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348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chado “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200400"/>
            <a:ext cx="914400" cy="99072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886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nte: bateria, pilha, energia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5"/>
            <a:endCxn id="134" idx="1"/>
          </p:cNvCxnSpPr>
          <p:nvPr/>
        </p:nvCxnSpPr>
        <p:spPr>
          <a:xfrm>
            <a:off x="4819320" y="4061880"/>
            <a:ext cx="1810440" cy="23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438280" y="15228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que as tabelas abaixo são idênticas... Coincidênc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2362320" y="1447920"/>
          <a:ext cx="6324480" cy="2374920"/>
        </p:xfrm>
        <a:graphic>
          <a:graphicData uri="http://schemas.openxmlformats.org/drawingml/2006/table">
            <a:tbl>
              <a:tblPr/>
              <a:tblGrid>
                <a:gridCol w="1608120"/>
                <a:gridCol w="1603440"/>
                <a:gridCol w="311292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(X.Y’) + (X’.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3581280" y="4114800"/>
          <a:ext cx="3657600" cy="2278080"/>
        </p:xfrm>
        <a:graphic>
          <a:graphicData uri="http://schemas.openxmlformats.org/drawingml/2006/table">
            <a:tbl>
              <a:tblPr/>
              <a:tblGrid>
                <a:gridCol w="1152720"/>
                <a:gridCol w="1106280"/>
                <a:gridCol w="1398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981080" y="685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ro que não. O circuito mencionado pode ser “equacionado” da seguinte form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86000" y="1752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(X.Y’) + (X’.Y) =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(X  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¬Y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¬X 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24382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QUE QUANDO SIMPLIFICADO E COM AS PROPRIEDADES ESTUDADAS EM  LÓGICA, RESULTA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909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 X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Y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14800" y="3733920"/>
            <a:ext cx="1828800" cy="30456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7220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 X +Y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400920" y="4038480"/>
            <a:ext cx="3990600" cy="2590920"/>
            <a:chOff x="3400920" y="4038480"/>
            <a:chExt cx="3990600" cy="2590920"/>
          </a:xfrm>
        </p:grpSpPr>
        <p:sp>
          <p:nvSpPr>
            <p:cNvPr id="739" name=""/>
            <p:cNvSpPr/>
            <p:nvPr/>
          </p:nvSpPr>
          <p:spPr>
            <a:xfrm>
              <a:off x="5029200" y="4038480"/>
              <a:ext cx="38088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3400920" y="4238640"/>
              <a:ext cx="3990600" cy="2390760"/>
              <a:chOff x="3400920" y="4238640"/>
              <a:chExt cx="3990600" cy="2390760"/>
            </a:xfrm>
          </p:grpSpPr>
          <p:sp>
            <p:nvSpPr>
              <p:cNvPr id="741" name=""/>
              <p:cNvSpPr/>
              <p:nvPr/>
            </p:nvSpPr>
            <p:spPr>
              <a:xfrm>
                <a:off x="5029200" y="4876920"/>
                <a:ext cx="380880" cy="8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3429000" y="4876560"/>
                <a:ext cx="0" cy="152388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3400920" y="4529520"/>
                <a:ext cx="751680" cy="33408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43280" y="4469760"/>
                <a:ext cx="738720" cy="4158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162920" y="4876560"/>
                <a:ext cx="0" cy="152388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429000" y="6400800"/>
                <a:ext cx="16765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6400" y="6400800"/>
                <a:ext cx="16765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6400" y="6248520"/>
                <a:ext cx="0" cy="30456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105520" y="6172200"/>
                <a:ext cx="0" cy="4572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486400"/>
                <a:ext cx="381240" cy="380880"/>
              </a:xfrm>
              <a:prstGeom prst="flowChartSummingJunction">
                <a:avLst/>
              </a:prstGeom>
              <a:solidFill>
                <a:srgbClr val="eaeaea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4109040" y="4472280"/>
                <a:ext cx="773640" cy="4788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45200" y="4460400"/>
                <a:ext cx="1231560" cy="576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4822920" y="4238640"/>
                <a:ext cx="495000" cy="246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49160" y="4796640"/>
                <a:ext cx="623520" cy="4860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6454440" y="4919040"/>
                <a:ext cx="738360" cy="41544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248440" y="5285880"/>
                <a:ext cx="1231560" cy="576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032000" y="5242320"/>
                <a:ext cx="775080" cy="1908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4821840" y="5033880"/>
                <a:ext cx="570240" cy="206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3312000" y="2133720"/>
            <a:ext cx="3990600" cy="2554920"/>
            <a:chOff x="3312000" y="2133720"/>
            <a:chExt cx="3990600" cy="2554920"/>
          </a:xfrm>
        </p:grpSpPr>
        <p:sp>
          <p:nvSpPr>
            <p:cNvPr id="760" name=""/>
            <p:cNvSpPr/>
            <p:nvPr/>
          </p:nvSpPr>
          <p:spPr>
            <a:xfrm>
              <a:off x="5702400" y="2971800"/>
              <a:ext cx="4572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Y’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83080" y="2971800"/>
              <a:ext cx="4572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X’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83080" y="2133720"/>
              <a:ext cx="4572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02400" y="2133720"/>
              <a:ext cx="4572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340080" y="2936880"/>
              <a:ext cx="0" cy="1523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312000" y="2589120"/>
              <a:ext cx="751680" cy="3344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4360" y="2529720"/>
              <a:ext cx="738720" cy="4154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074000" y="2936880"/>
              <a:ext cx="0" cy="1523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40080" y="4460760"/>
              <a:ext cx="1676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97480" y="4460760"/>
              <a:ext cx="1676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97480" y="4308480"/>
              <a:ext cx="0" cy="304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016600" y="4231800"/>
              <a:ext cx="0" cy="4568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21720" y="3546360"/>
              <a:ext cx="380880" cy="380520"/>
            </a:xfrm>
            <a:prstGeom prst="flowChartSummingJunction">
              <a:avLst/>
            </a:prstGeom>
            <a:solidFill>
              <a:srgbClr val="eaeaea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017240" y="2542680"/>
              <a:ext cx="469800" cy="363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77560" y="2539800"/>
              <a:ext cx="932040" cy="18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426920" y="2384640"/>
              <a:ext cx="345600" cy="157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60600" y="2855880"/>
              <a:ext cx="622800" cy="486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365160" y="2944440"/>
              <a:ext cx="712800" cy="4489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43080" y="3326040"/>
              <a:ext cx="543960" cy="64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419720" y="3089520"/>
              <a:ext cx="336600" cy="227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636160" y="3155760"/>
              <a:ext cx="351360" cy="164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781520" y="3320640"/>
              <a:ext cx="857520" cy="50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654880" y="2392560"/>
              <a:ext cx="347400" cy="162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5997960" y="3350880"/>
              <a:ext cx="394560" cy="486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07320" y="2513880"/>
              <a:ext cx="385560" cy="349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emplo 2 (modelo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ixto Rios – Matemática Finita –  (Madrid, 1972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Denis-Papin, Kaufmam Faure – Cours de Calcul Booleien (París, 1963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D.K Gordon – Introduction to Mathematical Structures (Dickinson, 1967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rge Bo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9" name="foto-boole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4233960" cy="46479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4452840" y="62326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5 - 186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77320" y="6095880"/>
            <a:ext cx="609480" cy="381240"/>
          </a:xfrm>
          <a:custGeom>
            <a:avLst/>
            <a:gdLst>
              <a:gd name="textAreaLeft" fmla="*/ 82440 w 609480"/>
              <a:gd name="textAreaRight" fmla="*/ 527040 w 609480"/>
              <a:gd name="textAreaTop" fmla="*/ 82440 h 381240"/>
              <a:gd name="textAreaBottom" fmla="*/ 29880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29839" y="4680"/>
                </a:lnTo>
                <a:lnTo>
                  <a:pt x="4680" y="468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29839" y="16920"/>
                </a:lnTo>
                <a:lnTo>
                  <a:pt x="29839" y="468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4680" y="16920"/>
                </a:lnTo>
                <a:lnTo>
                  <a:pt x="29839" y="1692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4680" y="4680"/>
                </a:lnTo>
                <a:lnTo>
                  <a:pt x="4680" y="16920"/>
                </a:lnTo>
                <a:close/>
              </a:path>
              <a:path fill="darken" w="34519" h="21600">
                <a:moveTo>
                  <a:pt x="12698" y="10800"/>
                </a:moveTo>
                <a:lnTo>
                  <a:pt x="21821" y="6238"/>
                </a:lnTo>
                <a:lnTo>
                  <a:pt x="21821" y="1536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73392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5200" y="2030760"/>
            <a:ext cx="609120" cy="37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66320" y="2033280"/>
            <a:ext cx="532080" cy="4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73392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5560" y="2033640"/>
            <a:ext cx="532080" cy="3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3392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571720" y="1881720"/>
            <a:ext cx="43920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73392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1972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7524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2900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50600" y="1886040"/>
            <a:ext cx="442800" cy="189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05740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569920" y="2024640"/>
            <a:ext cx="604440" cy="52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62920" y="205704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358128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429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05520" y="33526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em sér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2666880"/>
            <a:ext cx="381240" cy="38124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733920" y="3962520"/>
          <a:ext cx="3200400" cy="2589120"/>
        </p:xfrm>
        <a:graphic>
          <a:graphicData uri="http://schemas.openxmlformats.org/drawingml/2006/table">
            <a:tbl>
              <a:tblPr/>
              <a:tblGrid>
                <a:gridCol w="960480"/>
                <a:gridCol w="92232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029200" y="213372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295280"/>
            <a:ext cx="3808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IRCUITO PARALE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2900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400920" y="1786320"/>
            <a:ext cx="751680" cy="33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280" y="1726560"/>
            <a:ext cx="738720" cy="415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162920" y="2133360"/>
            <a:ext cx="0" cy="1523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36576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105520" y="34290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2743200"/>
            <a:ext cx="381240" cy="380880"/>
          </a:xfrm>
          <a:prstGeom prst="flowChartSummingJunction">
            <a:avLst/>
          </a:prstGeom>
          <a:solidFill>
            <a:srgbClr val="eaea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09040" y="1729080"/>
            <a:ext cx="773640" cy="47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0" y="171720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822920" y="1495440"/>
            <a:ext cx="495000" cy="246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49160" y="2053440"/>
            <a:ext cx="623520" cy="48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54440" y="2175840"/>
            <a:ext cx="738360" cy="415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8440" y="2542680"/>
            <a:ext cx="1231560" cy="5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2000" y="2499120"/>
            <a:ext cx="775080" cy="19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21840" y="2290680"/>
            <a:ext cx="57024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733920" y="4038480"/>
          <a:ext cx="3047760" cy="2589120"/>
        </p:xfrm>
        <a:graphic>
          <a:graphicData uri="http://schemas.openxmlformats.org/drawingml/2006/table">
            <a:tbl>
              <a:tblPr/>
              <a:tblGrid>
                <a:gridCol w="960120"/>
                <a:gridCol w="922320"/>
                <a:gridCol w="116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+ 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763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35:03Z</dcterms:created>
  <dc:creator>ELETRONICA</dc:creator>
  <dc:description/>
  <dc:language>en-US</dc:language>
  <cp:lastModifiedBy>FACULDADE DE MATEMATICA</cp:lastModifiedBy>
  <dcterms:modified xsi:type="dcterms:W3CDTF">2003-10-03T21:01:22Z</dcterms:modified>
  <cp:revision>44</cp:revision>
  <dc:subject/>
  <dc:title>CIRCUITOS</dc:title>
</cp:coreProperties>
</file>