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21.wmf" ContentType="image/x-wmf"/>
  <Override PartName="/ppt/media/image10.png" ContentType="image/png"/>
  <Override PartName="/ppt/media/image20.wmf" ContentType="image/x-wmf"/>
  <Override PartName="/ppt/media/image3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6.wmf" ContentType="image/x-wmf"/>
  <Override PartName="/ppt/media/image1.wmf" ContentType="image/x-wmf"/>
  <Override PartName="/ppt/media/image2.wmf" ContentType="image/x-wmf"/>
  <Override PartName="/ppt/media/image14.wmf" ContentType="image/x-wmf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E87-44FD-464E-B7CD-63A2A6B3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E070-7242-4FF8-A69B-EB055A30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1D5-43CD-474D-A66B-0BFD0D07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13C-7F7E-4444-8FAE-D1FCC908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9B15-BFF2-4175-B9AB-C00A3433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1E8F-CD0D-43E0-8B92-48E369C0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3996-97BE-4C49-B525-FEE6FEB7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D8DF-E37F-4641-8FF8-8B6A9803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1612-6A2E-409D-A2B7-F44E1650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D93F-FBD5-459F-82CA-0B40CECD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028A-C248-49BD-8C49-91803FD4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CC3-B5DC-4650-952D-72B373D6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75F9-A276-4997-B32E-F4CA0BE9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C3AE-D272-4E11-A50D-DB685191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06BE-2673-4382-ACA9-F19B4ED1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157B-DE55-4243-A2B0-46F8FEAB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E490-A4B2-4B9C-B691-BC44233F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291-8D1F-4AB9-BF48-64F72267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27B-FBE9-4AF2-A5A1-56EC39FA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E71-14B2-4F09-96EA-7E2BEBA2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C71F-AA74-42EC-A299-7ACCABCB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A057-FFCB-4CDC-9FF9-770FDAEA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B65-0135-49AE-86FD-B491C3F0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24F-9A91-478E-BC06-6105B366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ACB9-6087-4974-926B-A95D7A06CE4C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7A5A-C6BB-49CF-B1B2-C782C8E488DD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Funções Trigonométricas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90800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os Ger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85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valores d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teram os valores de 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nstant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tera o período da função, ou seja, “estica” ou “esmaga” a função n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rizont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&gt;0, esmaga a fun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&lt;c&lt;1, es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&lt;0, simétrica em relação ao eixo do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565360" y="151128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5360" y="15112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f(x)=sen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4000" y="1220760"/>
            <a:ext cx="83818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ecff"/>
                </a:solidFill>
                <a:latin typeface="Arial"/>
              </a:rPr>
              <a:t>f(x)=sen(2x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77920" y="1322280"/>
            <a:ext cx="8686800" cy="527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ecff"/>
                </a:solidFill>
                <a:latin typeface="Arial"/>
              </a:rPr>
              <a:t>f(x)=sen(1/2x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0920" y="1281240"/>
            <a:ext cx="8650080" cy="53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ccecff"/>
                </a:solidFill>
                <a:latin typeface="Arial"/>
              </a:rPr>
              <a:t>f(x)=sen(-1/2x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1349280"/>
            <a:ext cx="86868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 calcular o período de uma função qualquer basta us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íodo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068720" y="2781360"/>
          <a:ext cx="201600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8720" y="2781360"/>
                    <a:ext cx="201600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e o período das fun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116000" y="2276640"/>
          <a:ext cx="2716200" cy="84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276640"/>
                    <a:ext cx="271620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684360" y="3573360"/>
          <a:ext cx="34923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3573360"/>
                    <a:ext cx="3492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5508720" y="2276640"/>
          <a:ext cx="1982520" cy="86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8720" y="2276640"/>
                    <a:ext cx="198252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1905120" y="1511280"/>
          <a:ext cx="914400" cy="19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15112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859280" y="3716280"/>
          <a:ext cx="3600360" cy="136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9280" y="3716280"/>
                    <a:ext cx="36003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4427640" y="220500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nstant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d faz com que o gráfico ande |d/c| pa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reita, se d&lt;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squerda, se d&gt;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ercíci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(UFRGS) Se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f(x)=a+b.senx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m como gráf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ntão, qual o valor de a e 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17672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ndo o gráfico da função seno na origem, ele vale 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á o gráfico da questão, ele começa no 1. É como se ele tivesse subido 1 unid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o, a=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050920" y="3141720"/>
            <a:ext cx="489744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s funções do tipo trigonométricas são escritas na form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411280" y="2205000"/>
          <a:ext cx="489600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205000"/>
                    <a:ext cx="489600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332000" y="3789360"/>
            <a:ext cx="619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, b, c e d são constantes,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com b e c diferentes de z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trig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é uma das funções estud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imeira concavidade da função seno é voltada para baixo. Já no gráfico, ela é voltada para cima, ou seja, houve uma translação em relação ao eixo do 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do isso acontece é porque o b é negativ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ora, qual o valor de 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nalisando a função seno novamente, a distância do começo do gráfico (x=0) até o valor máximo e mínimo é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que é lógico porque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f(x)=senx=1.sen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á no gráfico da questão, a distância do início até o valor máximo e mínimo são 2 un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o, b= 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843280" y="1628640"/>
            <a:ext cx="5256000" cy="34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814716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(Faap - SP) Considerando x entre 0° e 360°, o gráfico a seguir corresponde 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y= sen(x+1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y= 1+sen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y= sen x + cos 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) y= 1-cos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140360" y="2708280"/>
            <a:ext cx="5003640" cy="325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"/>
          <p:cNvGraphicFramePr/>
          <p:nvPr/>
        </p:nvGraphicFramePr>
        <p:xfrm>
          <a:off x="1905120" y="151128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112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971640" y="2997360"/>
          <a:ext cx="2808360" cy="56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2997360"/>
                    <a:ext cx="2808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dúvida é: a função é seno ou cossen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única alternativa que traz cosseno o valor de b vale -1 e a=1. O que não é verd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abemos pelas alternativas que a função é a se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período não mudou, logo c=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distância do começo do gráfico até seus pontos de máximo e mínimo é 1, logo  a=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m relação ao eixo do x o gráfico do seno não andou, logo d=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ssim,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f(x)=1+sen 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Alternativa: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empl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11280" y="2349360"/>
          <a:ext cx="803592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49360"/>
                    <a:ext cx="803592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áfic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 valores d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lteram os valores de 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valor d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z com que o gráfico “suba”, para a&gt;0, e “desça”, para a&lt;0, |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|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Exemplo: </a:t>
            </a:r>
            <a:r>
              <a:rPr b="0" i="1" lang="pt-BR" sz="4400" spc="-1" strike="noStrike">
                <a:solidFill>
                  <a:srgbClr val="ccecff"/>
                </a:solidFill>
                <a:latin typeface="Arial"/>
              </a:rPr>
              <a:t>f(x)=2+sen(x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73040" y="1239840"/>
            <a:ext cx="813132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valor d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 “esmaga” ou “estica” a função n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er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 b&gt;0, es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 0&lt;b&lt;1, esma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 b&lt;0, fica simétrico em relação ao eixo x, ou seja, troca de posição e es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ecff"/>
                </a:solidFill>
                <a:latin typeface="Arial"/>
              </a:rPr>
              <a:t>Exemplo: </a:t>
            </a:r>
            <a:r>
              <a:rPr b="0" i="1" lang="pt-BR" sz="4000" spc="-1" strike="noStrike">
                <a:solidFill>
                  <a:srgbClr val="ccecff"/>
                </a:solidFill>
                <a:latin typeface="Arial"/>
              </a:rPr>
              <a:t>f(x)= 3.senx,                    b maior que zero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4000" y="952560"/>
            <a:ext cx="83818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ecff"/>
                </a:solidFill>
                <a:latin typeface="Arial"/>
              </a:rPr>
              <a:t>Exemplo: </a:t>
            </a:r>
            <a:r>
              <a:rPr b="0" i="1" lang="pt-BR" sz="4000" spc="-1" strike="noStrike">
                <a:solidFill>
                  <a:srgbClr val="ccecff"/>
                </a:solidFill>
                <a:latin typeface="Arial"/>
              </a:rPr>
              <a:t>f(x)= (1/3).senx,                    0&lt;b&lt;1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952560"/>
            <a:ext cx="83818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Exemplo: </a:t>
            </a:r>
            <a:r>
              <a:rPr b="0" i="1" lang="pt-BR" sz="4400" spc="-1" strike="noStrike">
                <a:solidFill>
                  <a:srgbClr val="ccecff"/>
                </a:solidFill>
                <a:latin typeface="Arial"/>
              </a:rPr>
              <a:t>f(x)= -3.senx, b&lt;0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4000" y="1149480"/>
            <a:ext cx="83818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16:52:24Z</dcterms:created>
  <dc:creator>.</dc:creator>
  <dc:description/>
  <dc:language>en-US</dc:language>
  <cp:lastModifiedBy>.</cp:lastModifiedBy>
  <dcterms:modified xsi:type="dcterms:W3CDTF">2006-03-26T16:34:20Z</dcterms:modified>
  <cp:revision>14</cp:revision>
  <dc:subject/>
  <dc:title>Funções Trigonométricas </dc:title>
</cp:coreProperties>
</file>