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9838-6F1A-4D72-B673-6FE4F423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1C4C-D6ED-48BD-B3C3-08DA3578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78C6-E23A-485F-8736-3AC68278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FA92-1165-42D0-BCE5-36794231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EA68-890B-4FE9-9433-7BD5FB32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49DF-F686-4CD4-BB7F-20127800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0083-0539-405C-B416-2381F2A5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9FB5-5658-4EE2-AF13-04415215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99D8-9BAF-4904-AA0D-76FACC6E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D6C0-B4EF-463E-BC56-5F2C38C0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4C1A-1AE9-48D1-A96A-45997C2A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6299-A938-4FDA-8147-7C6BF06A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9342-B9D2-434A-97EA-BA33610A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BB97-C395-440C-A3FE-2FE91311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9121-B5A4-415A-A950-2B516B6F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61B0-98C2-4D5A-88B6-B2C0CC08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5569-2FA2-4104-8ED0-BD55A8F8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CCA1-E071-4710-83D8-E31B301E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E0BC-29EC-4D90-9CB2-C654EB5A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9472-CE0D-4C27-AE51-A8B8AA3F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9D8E-8E53-4415-9A7A-1DE859E8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9213-50EF-4195-AF0C-F3AC506E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2C94-E3EA-4E76-86B5-6591A22C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CFE0-BEC9-42F7-9C14-057888A5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A99A-A1AB-4227-B528-F22A54EBD6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3D36-64D6-4522-A613-F62E5C96BA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gráfico de função"/>
          <p:cNvPicPr/>
          <p:nvPr/>
        </p:nvPicPr>
        <p:blipFill>
          <a:blip r:embed="rId2"/>
          <a:stretch/>
        </p:blipFill>
        <p:spPr>
          <a:xfrm>
            <a:off x="1835280" y="404640"/>
            <a:ext cx="5905440" cy="5461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unçõ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Existem dois métodos para resolver esse sistema: ADIÇÃO E SUBSTITUIÇÃO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° ADIÇÃO: Multiplicar a primeira equação por      (-1) e somar as equaç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85960" y="2614680"/>
          <a:ext cx="2430360" cy="232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5960" y="2614680"/>
                    <a:ext cx="2430360" cy="23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797360" y="2689200"/>
          <a:ext cx="2319480" cy="2254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97360" y="2689200"/>
                    <a:ext cx="2319480" cy="22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2° SUBSTITUIÇÃO: Escolhe uma equação isolando uma letra e depois substitui essa letra isolada na equação que sobrou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042920" y="1773360"/>
          <a:ext cx="6767640" cy="481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773360"/>
                    <a:ext cx="6767640" cy="48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o, a função é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(x)= 2x – 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ssim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(1/2)=2.(1/2) - 1 = 1 –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(1/2)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10920" y="620640"/>
            <a:ext cx="7993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á uma outra forma de resolver esse tipo de exercício que se conhece os valores de uma função em dois pontos distin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ta usar a fórm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411280" y="2984400"/>
          <a:ext cx="4032360" cy="256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2984400"/>
                    <a:ext cx="403236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68360" y="333000"/>
            <a:ext cx="8136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tando a questão, quem seria esses valor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os qu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(3) = 5 e f(-2) = -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ntã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908000" y="1989000"/>
          <a:ext cx="2808360" cy="127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1989000"/>
                    <a:ext cx="280836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468360" y="3357720"/>
            <a:ext cx="81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og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619280" y="4255920"/>
          <a:ext cx="6121440" cy="1998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19280" y="4255920"/>
                    <a:ext cx="612144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ráfico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 gráfico de uma função do 1° grau é um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t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udaremos como essa reta vai se comportar através de cada funçã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mo fazer um gráfic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° métod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achar o gráfico de qualquer função, basta achar dois pontos qualquer dela e passar uma reta entre essas ret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(x) = x –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50920" y="3068640"/>
          <a:ext cx="2233440" cy="1800360"/>
        </p:xfrm>
        <a:graphic>
          <a:graphicData uri="http://schemas.openxmlformats.org/drawingml/2006/table">
            <a:tbl>
              <a:tblPr/>
              <a:tblGrid>
                <a:gridCol w="1117440"/>
                <a:gridCol w="11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635280" y="2039760"/>
            <a:ext cx="4753080" cy="4195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635280" y="2060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1680" y="404640"/>
            <a:ext cx="8540640" cy="56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° métod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° passo: iguale a função a zero. O valor de x que você achar é que passará no eixo do 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° passo: o valor de b é o ponto que toca no eixo do 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– 2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=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 = - 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203640" y="2421000"/>
            <a:ext cx="4741920" cy="4184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132000" y="2349360"/>
            <a:ext cx="48247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Gráfico de uma função definida por mais de uma sentenç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50920" y="1773360"/>
          <a:ext cx="3065400" cy="105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773360"/>
                    <a:ext cx="306540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24000" y="4437000"/>
          <a:ext cx="2155680" cy="1687680"/>
        </p:xfrm>
        <a:graphic>
          <a:graphicData uri="http://schemas.openxmlformats.org/drawingml/2006/table">
            <a:tbl>
              <a:tblPr/>
              <a:tblGrid>
                <a:gridCol w="1077840"/>
                <a:gridCol w="107784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50920" y="3789360"/>
          <a:ext cx="2514600" cy="406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3789360"/>
                    <a:ext cx="25146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3924360" y="2133720"/>
            <a:ext cx="4932360" cy="4354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3924360" y="2133720"/>
            <a:ext cx="48909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remos estudar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ção do 1° gr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ção do 2° gr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nen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arítm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gonométrica (2° an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Crescimento de decrescimento de uma função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ma função será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rescen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quand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&gt;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ma função será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crescen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quand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&lt;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(x) = 2x+1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= 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resc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(x) = -3x+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= -3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cresc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1680" y="333360"/>
            <a:ext cx="854064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33200" y="1096920"/>
            <a:ext cx="4438800" cy="3994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843440" y="1135080"/>
            <a:ext cx="421164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7e7ff"/>
                </a:solidFill>
                <a:latin typeface="Arial"/>
              </a:rPr>
              <a:t>Qual o valor de a para que </a:t>
            </a:r>
            <a:br>
              <a:rPr sz="4000"/>
            </a:br>
            <a:r>
              <a:rPr b="0" i="1" lang="en-US" sz="4000" spc="-1" strike="noStrike">
                <a:solidFill>
                  <a:srgbClr val="b7e7ff"/>
                </a:solidFill>
                <a:latin typeface="Arial"/>
              </a:rPr>
              <a:t>f(x) =(2.a - 3)x+2 seja crescente? </a:t>
            </a:r>
            <a:br>
              <a:rPr sz="4000"/>
            </a:br>
            <a:r>
              <a:rPr b="0" i="1" lang="en-US" sz="4000" spc="-1" strike="noStrike">
                <a:solidFill>
                  <a:srgbClr val="b7e7ff"/>
                </a:solidFill>
                <a:latin typeface="Arial"/>
              </a:rPr>
              <a:t>E decrescente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2.a – 3&gt;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&gt;3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2.a – 3&lt;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&lt;3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ronograma por assunt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efini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Gráf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Zero da Fun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ariação do s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equ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unções Polinomiais do 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1º Grau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unção Afi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ré-requisito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quações do primeiro gr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equações do primeiro gr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terva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iste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finiçã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81565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oda função polinomial da for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) = ax + b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      , é dita função do 1° gra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.: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f(x) = 3x – 2; a = 3 e b = -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f(x) = - x + ½; a = -1 e b = 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f(x) = -2x; a = -2 e b 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133640" y="2689200"/>
          <a:ext cx="1015920" cy="47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3640" y="2689200"/>
                    <a:ext cx="101592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asos Especiai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unção linear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b = 0, p.e.,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f(x) = 3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unção Identidade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b = 0 e a = 1, ou seja,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f(x) =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unção constante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   a = 0, p.e.,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f(x) =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1989000"/>
            <a:ext cx="720720" cy="71640"/>
          </a:xfrm>
          <a:prstGeom prst="rightArrow">
            <a:avLst>
              <a:gd name="adj1" fmla="val 50000"/>
              <a:gd name="adj2" fmla="val 25150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40360" y="2565360"/>
            <a:ext cx="720720" cy="71640"/>
          </a:xfrm>
          <a:prstGeom prst="rightArrow">
            <a:avLst>
              <a:gd name="adj1" fmla="val 50000"/>
              <a:gd name="adj2" fmla="val 25150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95640" y="3645000"/>
            <a:ext cx="720720" cy="71280"/>
          </a:xfrm>
          <a:prstGeom prst="rightArrow">
            <a:avLst>
              <a:gd name="adj1" fmla="val 50000"/>
              <a:gd name="adj2" fmla="val 25277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xercício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1°) Dada a função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f(x) = ax + 2,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termine o valor de a para que se tenha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f(4)=2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31960" y="2689200"/>
          <a:ext cx="5232240" cy="32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1960" y="2689200"/>
                    <a:ext cx="5232240" cy="32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7e7ff"/>
                </a:solidFill>
                <a:latin typeface="Arial"/>
              </a:rPr>
              <a:t>2°) Dada a função </a:t>
            </a:r>
            <a:r>
              <a:rPr b="0" i="1" lang="pt-BR" sz="3200" spc="-1" strike="noStrike">
                <a:solidFill>
                  <a:srgbClr val="b7e7ff"/>
                </a:solidFill>
                <a:latin typeface="Arial"/>
              </a:rPr>
              <a:t>f(x) = ax + b, com a diferente de zero, sendo f(3) = 5 e f(-2) = - 5, calcule f(1/2).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12480" y="1984320"/>
            <a:ext cx="8529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(3)=5: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.3 + b =5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(-2) = - 5: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a.(-2) + b = -5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3860640"/>
            <a:ext cx="82296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57336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104920" y="3814920"/>
          <a:ext cx="2865600" cy="138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04920" y="3814920"/>
                    <a:ext cx="28656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12:19:57Z</dcterms:created>
  <dc:creator>.</dc:creator>
  <dc:description/>
  <dc:language>en-US</dc:language>
  <cp:lastModifiedBy>.</cp:lastModifiedBy>
  <dcterms:modified xsi:type="dcterms:W3CDTF">2006-04-25T10:05:34Z</dcterms:modified>
  <cp:revision>12</cp:revision>
  <dc:subject/>
  <dc:title>Funções</dc:title>
</cp:coreProperties>
</file>