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2A16-157B-4502-9322-1965A17D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0DD6-E3C5-450C-AB02-706EECE4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B715-A65F-4844-BEB1-43ECC30D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461B-CCE1-4D98-B96F-2E338602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F404-F1E4-44E4-8196-4FAEB8CA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5A67-D615-44BA-976A-3B4B0A7F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D490-B286-488E-B709-2A43B2C8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49CC-554B-426E-9B17-472E45F3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AC09-9B58-4127-B8A2-35AFFA58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D655-A347-4EB4-AFE4-80409A42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E568-E42F-4411-A927-165D2459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2F77-B79F-4879-AFF5-0D8B5A65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0CCF-C15D-4281-86FB-D33B4228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D0E4-88CC-44E4-80FF-F8754F5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AB0D-807A-4551-BB5B-EC243E8C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104B-A759-4707-BA1F-B1F8C509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1B37-48FF-4C4F-88A3-FBC5A02F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C75E-4C51-45B2-BE96-2875CA8B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143A6-3B05-4748-9FD5-5F9F3668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C66C-0600-437B-8604-C6DAFF0F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6A77-9551-4C0C-B6C2-38F2E3F1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B0A0-85F2-4C98-A12F-C320B9CD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5F82-BBB3-466C-A04A-D8B77C21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51F1-7F15-4022-8F56-1002036E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AE58-0EB6-4FA5-873F-A5B600C0A0B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93D3-3AFE-49C7-B886-0A7C3C135F6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elechargement.linternaute.com/fiche/5565/2/declic/" TargetMode="External"/><Relationship Id="rId2" Type="http://schemas.openxmlformats.org/officeDocument/2006/relationships/hyperlink" Target="http://emmanuel.ostenne.free.fr/linux/declic.htm" TargetMode="External"/><Relationship Id="rId3" Type="http://schemas.openxmlformats.org/officeDocument/2006/relationships/hyperlink" Target="http://www.declic-marketing.com/gestion_de_contact.htm?maj_declic_prospection.htm" TargetMode="External"/><Relationship Id="rId4" Type="http://schemas.openxmlformats.org/officeDocument/2006/relationships/hyperlink" Target="http://www.mathsgeo.net/zip/fichier_zip.html" TargetMode="External"/><Relationship Id="rId5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rial"/>
              </a:rPr>
              <a:t>As mais bonitas figur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7640" y="4266720"/>
            <a:ext cx="7083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Por: Pedro Julio Silva Ciprian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25-12-200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950080"/>
            <a:ext cx="676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tas figuras nescessitan do programa Déc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 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último tópico dessa apresent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enta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7280" y="105264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enta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Traçar um pentagono ABCDE em um circulo de centro 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Traçar as retas ligando dois à dois as pontas consécutivas do pentagono ABC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Elas se cortam em F,G,H,I,J, e formam uma estrela à cinco pontas do pentagono regular FGH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Ligar as pontas do pentagrama que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o as pontas do pentagono régularFGH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Traçar um circulo de centro O passando por 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pentagono FGHIJ é inscrito em um circu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Ligar os pontos A e C,B e D,C e E,D e A,E e 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Traçar a reta paraléla à cada lado do pentagono ABCDE passando pelo lado opos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sas retas formam um novo penta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.Os lados do pentagono precedente  cortam os lados do pentagono FGHIJ.marcar os pontos de intersec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Ligando dois à dois os pontos de intersec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o precedentes, a gente constrói cinco novos pentagra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0.Traçar os pentagonos contendo os pentagramas prece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piral de Fibonac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1392120"/>
            <a:ext cx="7417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piral de Finobac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Traçar um quadrado ABCD,e o quadrado CDE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Traçar o quarto de circulo de centro D,e de raio DC,de C à 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Traçar o quadrado AEGH,no exterior dos quadrados précé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Traçar o quarto de circulo de centro A e de raio AE,de E à 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Traçar o quadrado BHJI,no exterior dos quadrados précé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Traçar o quarto de circulo de centro B,e de raio BH,de H à 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Traçar o quadrado FILK,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terior dos quadrados précédentes,depois traçar o quarto de circulo de centro F e de raio FI,de I à 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.Traçar o quadrado KGMN,no exterior dos quadrados précédentes,depois traçar o quarto de circulo de centro G e de raio GK,de K à 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Traçar o quadrado JMPO,no exterior dos quadrados précédentes,depois traçar o quarto de circulo de centro J e de raio JM,de M à 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0.Traçar o quadrado LORQ,no exterior dos quadrados précédentes,depois traçar o quarto de circulo de centro L e de raio LO,de O à 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piral  do cara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26904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piral de Cara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.Traçar uma reta e marcar um ponto A nessa reta.Traçar um demi-circulo de centro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le corta a reta na reta B e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.Traçar um demi-circulo de centro B passando em C do outro lado dessa r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la corta na reta em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.Traçar um demi-circulo de centro C passando em D do outro lado dessa r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la corta essa reta em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4.Traçar um demi-circulo de centro D passando em E do outro lado dessa r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la corta essa reta em 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ó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32000" y="1523880"/>
            <a:ext cx="7127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ó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1.Traçar um circulo de centro 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Traçar o di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êtro [AB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.Traçar o 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âmetro [CD] perpendicular à [AB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.Traçar a reta (D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.Traçar a reta (C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.Traçar o arco do circulo de centro D,de raio CD,de C à reta(DB).Ele corta o (DB) em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7.Traçar o arco do circulo de centro C,de raio CD,de D à reta(CB).Ele corta o (CB) em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.Traçar o arco do circulo de centro B,de raio BE,de E à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tes para 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981080"/>
          <a:ext cx="8229600" cy="2070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1"/>
                        </a:rPr>
                        <a:t>Déc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2"/>
                        </a:rPr>
                        <a:t>Déclic para linu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3"/>
                        </a:rPr>
                        <a:t>Ultima amelioraçao do Déc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4"/>
                        </a:rPr>
                        <a:t>Site do déc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felizmente,esses sites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 em fr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 ajudar o maximo possivel, download em frances é « télécharg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esse programa,apertando o lado direito do mouse e apertando encima de qualquer objeto( retas,circulos,pontos,segmentos...)existe uma op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 « invisivel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o o meu teclado nao é brasileiro,certos acentos ru nao consigo escr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iangulo infi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84360" y="-171360"/>
            <a:ext cx="12025440" cy="899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iangulo infi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.Traçar um triangulo equilatéral ABC,na oitava da largura do segmento(AB=8xA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Remportar AE sobre [BC] à partir de C, a gente obtém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.Traçar o triangulo équilatéral EF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.Recomeçar essa opéra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ão desse triangulo(pegar um ponto no oitavo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:Com o Déclic voce pode salvar como um macro e recomeçar essa op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5280" y="616572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sa figura nescessita do programa déc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adrado sem f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189080" y="115920"/>
            <a:ext cx="13320720" cy="985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adrado sem f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sse quadrado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o tem nada de diferente do triangulo sem f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000" y="609300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sa figura nescessita do programa décl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uz bas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10225080" cy="765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uz bas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.Traçar duas retas perpendiculares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sécantes em um ponto O.Marcar um ponto A na reta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.Pegar um encartamento do compasso a distancia OA e raportar essa distancia à partir de A para obter  o ponto C e finalmente à partir de C para obter o ponto 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.Colocando a ponta do compasso em O, raportar a distancia O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m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m F, depois em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em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4.Colocando a ponta do compasso em O, raportar a distancia OB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m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m H,depois em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m I e depois em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m 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5.Colocando a ponta do compasso em O, raportar a distancia O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m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m K,depois em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m L e depois em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m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.Traçar um circulo de centro O e de raio O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le corta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m Q e corta d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m P e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7.Traçar um demi-circulo de centro A e de raio OA no quarto do plano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çar um demi-circulo de centro C e de     mesmo raio no quarto do plano R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çar um demi-circulo de centro B e de raio OB no quarto do plano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.Traçar um demi-circulo de centro E e de raio OE no quarto do plano PO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çar um demi-circulo de centro K e de     mesmo raio no quarto do plano PO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çar um demi-circulo de centro H e de raio OH no quarto do plano PO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9.Traçar um demi-circulo de centro F e de raio OF no quarto do plano Q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çar um demi-circulo de centro L e de     mesmo raio no quarto do plano PO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çar um demi-circulo de centro I e de raio OI no quarto do plano Q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.Traçar um demi-circulo de centro G e de raio OG no quarto do plano R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çar um demi-circulo de centro M e de     mesmo raio no quarto do plano Q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çar um demi-circulo de centro J e de raio OJ no quarto do plano R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s t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ês lu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612720" y="765000"/>
            <a:ext cx="10879200" cy="813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s tres lu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sas luas foi modificadas e eu nao posso dar a explica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8:46:10Z</dcterms:created>
  <dc:creator>Pedro</dc:creator>
  <dc:description/>
  <dc:language>en-US</dc:language>
  <cp:lastModifiedBy>Pedro</cp:lastModifiedBy>
  <dcterms:modified xsi:type="dcterms:W3CDTF">2005-12-28T13:26:47Z</dcterms:modified>
  <cp:revision>9</cp:revision>
  <dc:subject/>
  <dc:title>Figuras com déclic</dc:title>
</cp:coreProperties>
</file>