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743-C717-4F75-BA9D-EBBCF523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3C8-BB2F-480B-B37C-8C08286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F45-16B8-41EA-A113-7412F6AE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592-D719-456C-9B59-364A47C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5CA-23F2-4A4E-89B7-81C1BB7D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0DC-096D-4778-8E69-DB35AAC6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D6F-EBAA-4FEC-B974-DC0C4525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357-1507-444A-9C10-F98F981C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B33-AD0F-41E8-8E41-F696C4F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3C3-9739-45ED-94FC-FBD10C8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143-8011-4535-87D4-FB48725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480-53CC-4E80-B1CA-9EFC8A8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E053-A924-45CE-8772-B5E8B09C6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5335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quações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19509600">
            <a:off x="304920" y="3123720"/>
            <a:ext cx="2543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 +2 = -2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 rot="2680200">
            <a:off x="1752120" y="4495680"/>
            <a:ext cx="2514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x + y = 15</a:t>
            </a:r>
            <a:endParaRPr b="1" lang="en-US" sz="2400" spc="1" strike="noStrike">
              <a:ln w="1260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800600" y="2286000"/>
            <a:ext cx="35812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Impact"/>
              </a:rPr>
              <a:t>x² + 3x -12 = 0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76720" y="3581280"/>
            <a:ext cx="33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+ 5 = 8 - 5a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3619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2860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raduzindo para linguagem mat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836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dobr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06064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dobro de um número adicionado 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484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triplo de um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2360" y="2781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quadrad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ubtraído 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429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cub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ais o dobr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857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Vamos exerc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005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m número adicionado de seu tri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65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quíntupl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ubtraído do sêxtuplo d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537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m número adicionado de outro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22860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Traduzindo problemas para linguagem mate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457200"/>
            <a:ext cx="8534520" cy="557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45720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Exempl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1)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 A soma das idades de André e Carlos é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22 anos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. Descubra as idades de cada um deles, sabendo-se que André é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4 anos mais novo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 do que Carl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457200"/>
            <a:ext cx="8534520" cy="5575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720" y="51912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Solução: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Primeiro passamos o problema para a linguagem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matemática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Vamos tomar a letra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 para a idade de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Carlos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 e a letra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     para a idade de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André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419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1148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Agora vamos escrever o problema na linguagem matemática usando esta le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765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+ a = 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+ (c - 4) = 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c - 4 = 2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c - 4 + 4 = 22 +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c = 26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=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1981080" cy="1738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511956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spost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Carlos tem 13 anos e André tem 13-4=9 an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28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solu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44792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A população de uma cidade A é o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tripl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a população da cidade B. Se as duas cidades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un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êm uma população d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0.0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abitantes, quantos habitantes tem a cidade 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905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oluç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Identificaremos a população da cidade A com a letra a e a população da cidade B com a letra b. Assumiremos que a=3b. Dessa forma, poderemos escrev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8380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57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rimeiro passamos o problema para a linguagem matemát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267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gora escreva e equação que representa o probl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98100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+ b = 100.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b + b = 100.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b = 100.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= 25.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396252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Resposta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o a=3b, então a população de A corresponde a: a=3×25.000=75.000 habita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380880"/>
            <a:ext cx="586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28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solu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3924360" y="587700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18625" y="10800"/>
                </a:moveTo>
                <a:lnTo>
                  <a:pt x="32638" y="3794"/>
                </a:lnTo>
                <a:lnTo>
                  <a:pt x="3263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5335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quações do 1º Grau</a:t>
            </a:r>
            <a:endParaRPr b="1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1337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666880"/>
            <a:ext cx="6934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Defin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É uma Sentença matemática aberta que expressa uma igual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425600" cy="1251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35053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360" y="33336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ação do 1º gra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mamos equação do 1º grau na incógnita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oda equação que pode ser escrita na for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 , ond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é diferente de 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869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X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ão números reais 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é diferente de 0 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838080"/>
            <a:ext cx="81374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Uma ou mais letras indicando valores desconhecidos, que são denominadas </a:t>
            </a:r>
            <a:r>
              <a:rPr b="0" lang="pt-BR" sz="3600" spc="-1" strike="noStrike">
                <a:solidFill>
                  <a:srgbClr val="ff3300"/>
                </a:solidFill>
                <a:latin typeface="Monotype Corsiva"/>
              </a:rPr>
              <a:t>variáveis</a:t>
            </a: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 ou </a:t>
            </a:r>
            <a:r>
              <a:rPr b="0" lang="pt-BR" sz="3600" spc="-1" strike="noStrike">
                <a:solidFill>
                  <a:srgbClr val="ff3300"/>
                </a:solidFill>
                <a:latin typeface="Monotype Corsiva"/>
              </a:rPr>
              <a:t>incognitas</a:t>
            </a: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Um sinal de igualdade, denotado por </a:t>
            </a:r>
            <a:r>
              <a:rPr b="1" lang="pt-BR" sz="4400" spc="-1" strike="noStrike">
                <a:solidFill>
                  <a:srgbClr val="ff3300"/>
                </a:solidFill>
                <a:latin typeface="Monotype Corsiva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Uma expressão à esquerda da igualdade, denominada </a:t>
            </a:r>
            <a:r>
              <a:rPr b="0" lang="pt-BR" sz="3600" spc="-1" strike="noStrike">
                <a:solidFill>
                  <a:srgbClr val="ff3300"/>
                </a:solidFill>
                <a:latin typeface="Monotype Corsiva"/>
              </a:rPr>
              <a:t>primeiro membro</a:t>
            </a: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 ou membro da esquerd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Uma expressão à direita da igualdade, denominada </a:t>
            </a:r>
            <a:r>
              <a:rPr b="0" lang="pt-BR" sz="3600" spc="-1" strike="noStrike">
                <a:solidFill>
                  <a:srgbClr val="ff3300"/>
                </a:solidFill>
                <a:latin typeface="Monotype Corsiva"/>
              </a:rPr>
              <a:t>segundo membro</a:t>
            </a:r>
            <a:r>
              <a:rPr b="0" lang="pt-BR" sz="3600" spc="-1" strike="noStrike">
                <a:solidFill>
                  <a:srgbClr val="3333cc"/>
                </a:solidFill>
                <a:latin typeface="Monotype Corsiva"/>
              </a:rPr>
              <a:t> ou membro da dire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2860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Monotype Corsiva"/>
              </a:rPr>
              <a:t>Podemos ver que toda equação 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0920" y="2349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X+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233028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2349360"/>
            <a:ext cx="129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148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76500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alor desconhe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5013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º 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32360" y="9079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gual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501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º 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716000" y="1413000"/>
            <a:ext cx="863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357720"/>
            <a:ext cx="1079640" cy="1223640"/>
          </a:xfrm>
          <a:prstGeom prst="downArrow">
            <a:avLst>
              <a:gd name="adj1" fmla="val 50000"/>
              <a:gd name="adj2" fmla="val 283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19640" y="3357720"/>
            <a:ext cx="1079640" cy="1223640"/>
          </a:xfrm>
          <a:prstGeom prst="downArrow">
            <a:avLst>
              <a:gd name="adj1" fmla="val 50000"/>
              <a:gd name="adj2" fmla="val 283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143000" y="3124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3048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Qual será o valor de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 para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nter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a balança em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equilíbrio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31050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668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3048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891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Qual será o valor de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 para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nter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 a balança em </a:t>
            </a: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equilíbrio</a:t>
            </a: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10500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1240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858000" y="18288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276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2767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6708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bserve que o valor de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or um número maior que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a balança desequili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641520"/>
          <a:ext cx="9144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1520"/>
                    <a:ext cx="9144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04000" y="411804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24922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57200" y="253368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890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bserve que o valor de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for um número menor que 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a balança desequili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0:48:50Z</dcterms:created>
  <dc:creator>COMP05</dc:creator>
  <dc:description/>
  <dc:language>en-US</dc:language>
  <cp:lastModifiedBy>usuario</cp:lastModifiedBy>
  <dcterms:modified xsi:type="dcterms:W3CDTF">2006-09-01T18:08:20Z</dcterms:modified>
  <cp:revision>35</cp:revision>
  <dc:subject/>
  <dc:title>Apresentação do PowerPoint</dc:title>
</cp:coreProperties>
</file>