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092-C1D3-4508-98E8-305AE0E2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140-D003-4A77-B33B-F521139A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CF85-6C9A-4F88-8C3F-FD317ED8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A0C-1DD3-45F4-9720-23629993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787B-3BAB-4761-A6FA-EE9787E1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0806-263E-4413-8935-A3BF5FCB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5E44-095A-4796-84D4-6F444193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7694-8F52-40DC-8E96-1B00F887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958C-0333-48D7-AF64-F7FF754A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922F-7A05-4AE8-A749-3C1E805F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375D-8866-48F7-AA5E-C6258885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D34-C6A5-4592-A965-B069B057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0F25-D4C0-43F1-AD12-834F8E8A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7B3C-9339-4A15-AC26-1835A76E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9718-0D37-4BF6-938A-863E4FA0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6898-FD7B-4154-A949-5A019455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BF47-B68D-4881-AAC0-5418BF7F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B64F-65EA-4F4B-809E-AFBE2CB5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71EF-A469-47DF-9913-C3EA6187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3F55-157A-41E5-B521-A6E4AC8E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3C4-5DCE-490E-AF2E-441749FC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293B-9909-466F-AF7B-961AA582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8CD-BA9B-4C03-96F4-58F83601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DEC-4A01-47F5-BC61-9952D9F8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A1E3-7D7B-40B6-BCC6-DA3AF8472FD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BE7B-9214-4CBA-AA74-9D74CD130C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t.wikipedia.org/wiki/An&#225;lise_combinat&#243;ria" TargetMode="External"/><Relationship Id="rId2" Type="http://schemas.openxmlformats.org/officeDocument/2006/relationships/hyperlink" Target="http://pt.wikipedia.org/wiki/Teoria_dos_grafos" TargetMode="External"/><Relationship Id="rId3" Type="http://schemas.openxmlformats.org/officeDocument/2006/relationships/hyperlink" Target="http://pt.wikipedia.org/wiki/Teoria_dos_n&#250;meros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95280" y="333360"/>
            <a:ext cx="5148360" cy="1727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NIVERSIDADE ESTADUAL VALE DO ACARAÚ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39280" y="2354040"/>
            <a:ext cx="82803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b200"/>
                </a:solidFill>
                <a:latin typeface="Comic Sans MS"/>
              </a:rPr>
              <a:t>História da Matemática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30faf"/>
                </a:solidFill>
                <a:latin typeface="Comic Sans MS"/>
              </a:rPr>
              <a:t>Análise Combinatória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Aluno: Geneflides Torres Coelh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Comic Sans MS"/>
              </a:rPr>
              <a:t>Professora: Luzia Hipólito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Uruburetam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arço / 20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3284640"/>
            <a:ext cx="82803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221000"/>
            <a:ext cx="82803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5877000"/>
            <a:ext cx="446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763272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pt-BR" sz="4400" spc="-1" strike="noStrike">
                <a:solidFill>
                  <a:srgbClr val="ff0000"/>
                </a:solidFill>
                <a:latin typeface="Comic Sans MS"/>
              </a:rPr>
              <a:t>Pierre de Ferma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3771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2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200"/>
                </a:solidFill>
                <a:latin typeface="Comic Sans MS"/>
              </a:rPr>
              <a:t>Francê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Nasceu em 160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a80aa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80aa8"/>
                </a:solidFill>
                <a:latin typeface="Comic Sans MS"/>
              </a:rPr>
              <a:t>Morreu em 166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b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b800"/>
                </a:solidFill>
                <a:latin typeface="Comic Sans MS"/>
              </a:rPr>
              <a:t>Fundou a teoria matemática das </a:t>
            </a:r>
            <a:r>
              <a:rPr b="1" i="1" lang="en-US" sz="2800" spc="-1" strike="noStrike">
                <a:solidFill>
                  <a:srgbClr val="117121"/>
                </a:solidFill>
                <a:latin typeface="Comic Sans MS"/>
              </a:rPr>
              <a:t>probabilidades,</a:t>
            </a:r>
            <a:r>
              <a:rPr b="1" i="1" lang="en-US" sz="2800" spc="-1" strike="noStrike">
                <a:solidFill>
                  <a:srgbClr val="ffb800"/>
                </a:solidFill>
                <a:latin typeface="Comic Sans MS"/>
              </a:rPr>
              <a:t> com base na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Analise Combinatória. 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34578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600" spc="-1" strike="noStrike">
                <a:solidFill>
                  <a:srgbClr val="ff0000"/>
                </a:solidFill>
                <a:latin typeface="Comic Sans MS"/>
              </a:rPr>
              <a:t>Blaise Pascal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43923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200"/>
                </a:solidFill>
                <a:latin typeface="Comic Sans MS"/>
              </a:rPr>
              <a:t>Francê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Nasceu em 162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80a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80aa8"/>
                </a:solidFill>
                <a:latin typeface="Comic Sans MS"/>
              </a:rPr>
              <a:t>Morreu em 166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b8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b800"/>
                </a:solidFill>
                <a:latin typeface="Comic Sans MS"/>
              </a:rPr>
              <a:t>Inventou a Calculado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Criou o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"Triângulo aritmético",ou triangulo de Pascal,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 publicado em 1654, usando diversas propriedades do triângulo e aplicando-as no estudo das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robabilidades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59280" y="1197000"/>
            <a:ext cx="3384720" cy="2384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31308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ff0000"/>
                </a:solidFill>
                <a:latin typeface="Comic Sans MS"/>
              </a:rPr>
              <a:t>Percy Alexander MacMah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75272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2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200"/>
                </a:solidFill>
                <a:latin typeface="Comic Sans MS"/>
              </a:rPr>
              <a:t>Inglê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Nasceu em 185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80aa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80aa8"/>
                </a:solidFill>
                <a:latin typeface="Comic Sans MS"/>
              </a:rPr>
              <a:t>Morreu em192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O assunto ganhou notoriedade após a publicação de dois trabalhos sobre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“Analise Combinatória”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um em 1915 e o outro no ano seguin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226120" y="2031840"/>
            <a:ext cx="3090960" cy="42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ff0000"/>
                </a:solidFill>
                <a:latin typeface="Comic Sans MS"/>
              </a:rPr>
              <a:t>Gian Carlo Rota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3640" y="1828800"/>
            <a:ext cx="48243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71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7121"/>
                </a:solidFill>
                <a:latin typeface="Comic Sans MS"/>
              </a:rPr>
              <a:t>Italia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sceu em 193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a80aa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0aa8"/>
                </a:solidFill>
                <a:latin typeface="Comic Sans MS"/>
              </a:rPr>
              <a:t>Morreu em 199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Na década de 1960 ajudou a formalizar o assunto d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b200"/>
                </a:solidFill>
                <a:latin typeface="Comic Sans MS"/>
              </a:rPr>
              <a:t>Analise Combinatóri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2952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ff0000"/>
                </a:solidFill>
                <a:latin typeface="Comic Sans MS"/>
              </a:rPr>
              <a:t>Paul Erdo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5113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03dff"/>
                </a:solidFill>
                <a:latin typeface="Comic Sans MS"/>
              </a:rPr>
              <a:t>Húngar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Nasceu 191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b800"/>
                </a:solidFill>
                <a:latin typeface="Comic Sans MS"/>
              </a:rPr>
              <a:t>Morreu 1996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s problemas que mais o atraiam eram problemas de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análise combinatóri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,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teoria dos grafo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e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teoria dos número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508720" y="1700280"/>
            <a:ext cx="2879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920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0000"/>
                </a:solidFill>
                <a:latin typeface="Comic Sans MS"/>
              </a:rPr>
              <a:t>Parte da Analise  Combinatória 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Combinatória Enumerativa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46083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Se preocupa em particular, com a </a:t>
            </a:r>
            <a:r>
              <a:rPr b="1" i="1" lang="en-US" sz="4400" spc="-1" strike="noStrike">
                <a:solidFill>
                  <a:srgbClr val="00b200"/>
                </a:solidFill>
                <a:latin typeface="Comic Sans MS"/>
              </a:rPr>
              <a:t>contagem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 de  objetos em 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coleções especificas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3829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Combinatória Extrema  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4608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Se preocupa em particular, com a </a:t>
            </a:r>
            <a:r>
              <a:rPr b="1" i="1" lang="en-US" sz="4400" spc="-1" strike="noStrike">
                <a:solidFill>
                  <a:srgbClr val="00b200"/>
                </a:solidFill>
                <a:latin typeface="Comic Sans MS"/>
              </a:rPr>
              <a:t>decisão 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se certo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objeto ótimo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 exis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60036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Combinatória Algébrica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489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Se preocupa em particular, com as </a:t>
            </a:r>
            <a:r>
              <a:rPr b="1" i="1" lang="en-US" sz="4400" spc="-1" strike="noStrike">
                <a:solidFill>
                  <a:srgbClr val="00b200"/>
                </a:solidFill>
                <a:latin typeface="Comic Sans MS"/>
              </a:rPr>
              <a:t>estruturas algébricas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 que esses objetos possam ter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330880" y="1700280"/>
            <a:ext cx="3057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i="1" lang="en-US" sz="8800" spc="-1" strike="noStrike">
                <a:solidFill>
                  <a:srgbClr val="ff0000"/>
                </a:solidFill>
                <a:latin typeface="Comic Sans MS"/>
              </a:rPr>
              <a:t>Exemplos  práticos de Analise Combinatória 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Comic Sans MS"/>
              </a:rPr>
              <a:t>Apresentação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200"/>
                </a:solidFill>
                <a:latin typeface="Comic Sans MS"/>
              </a:rPr>
              <a:t>O trabalho que apresentarei irá obordar o estudo da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História da Analise Combinatória</a:t>
            </a:r>
            <a:r>
              <a:rPr b="1" i="1" lang="en-US" sz="4000" spc="-1" strike="noStrike">
                <a:solidFill>
                  <a:srgbClr val="00b200"/>
                </a:solidFill>
                <a:latin typeface="Comic Sans MS"/>
              </a:rPr>
              <a:t> como um importante ramo da </a:t>
            </a:r>
            <a:r>
              <a:rPr b="1" i="1" lang="en-US" sz="4000" spc="-1" strike="noStrike">
                <a:solidFill>
                  <a:srgbClr val="030faf"/>
                </a:solidFill>
                <a:latin typeface="Comic Sans MS"/>
              </a:rPr>
              <a:t>Matemática</a:t>
            </a:r>
            <a:r>
              <a:rPr b="1" i="1" lang="en-US" sz="4000" spc="-1" strike="noStrike">
                <a:solidFill>
                  <a:srgbClr val="00b200"/>
                </a:solidFill>
                <a:latin typeface="Comic Sans MS"/>
              </a:rPr>
              <a:t>, desde os tempos antigos, até os dias atuais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7777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so você resolva sair p/ uma festa e precise escolher que roupa usar, você separa duas calças e três camisas, que considera próprias para a ocasião. De quantas maneiras diferentes você consegue se vestir?Quantos conjuntos você pode formar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324000" y="151920"/>
            <a:ext cx="77040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1º Ex: Saída para uma fest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68389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Como temos: 2 cal. e 3 Ca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175280" cy="31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da calça forma 3 conjuntos, uma com cada camisa, como são duas calças temo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2x3=6 conjun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4284720" y="1341360"/>
            <a:ext cx="41749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 você se dispõe de 2 pares de sapatos, o número ainda vai ficar multiplicado por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35280" y="4653000"/>
            <a:ext cx="70578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 calças x 3 camisas x 2 pares de sapatos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2x3x2=12 maneiras de se vest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-541440" y="1341360"/>
            <a:ext cx="54738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agine um saque num caixa eletrônico, no valor de R$ 100,00. De quantas formas diferentes a maquina pode efetuar o pagamento, admitindo que só existam notas de    R$ 5,00 e R$ 10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2º Ex: No Caixa eletrônic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148360" y="1052640"/>
          <a:ext cx="2879640" cy="5540400"/>
        </p:xfrm>
        <a:graphic>
          <a:graphicData uri="http://schemas.openxmlformats.org/drawingml/2006/table">
            <a:tbl>
              <a:tblPr/>
              <a:tblGrid>
                <a:gridCol w="1008000"/>
                <a:gridCol w="914400"/>
                <a:gridCol w="957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$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$ 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5148360" y="141300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º    1   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48360" y="1989000"/>
            <a:ext cx="28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º    2   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48360" y="2492280"/>
            <a:ext cx="28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º    3   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48360" y="2997360"/>
            <a:ext cx="2808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º    4   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48360" y="3500280"/>
            <a:ext cx="28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º    5   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8360" y="4149720"/>
            <a:ext cx="28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°      °   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8360" y="4653000"/>
            <a:ext cx="28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°      °   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48360" y="537372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°      °   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48360" y="5589720"/>
            <a:ext cx="28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º  10    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48360" y="6093000"/>
            <a:ext cx="28083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1º   Ñ  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200"/>
                </a:solidFill>
                <a:latin typeface="Comic Sans MS"/>
              </a:rPr>
              <a:t>A importância da ordem</a:t>
            </a:r>
            <a:r>
              <a:rPr b="1" i="1" lang="en-US" sz="44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6960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Vamos fazer dois sorteios, 1º de um carro e depois de uma bicicleta, entre 10 pessoa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2421000"/>
            <a:ext cx="7696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10 possíveis ganhadores p/ o ca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2997360"/>
            <a:ext cx="7696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9 possíveis ganhadores p/ a bicic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3573360"/>
            <a:ext cx="73454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Como são prêmios distintos, te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10x9=90 possíveis duplas de ganh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5157720"/>
            <a:ext cx="5543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200"/>
                </a:solidFill>
                <a:latin typeface="Comic Sans MS"/>
              </a:rPr>
              <a:t>OBS: Neste caso a ordem importa e chamamos de </a:t>
            </a:r>
            <a:r>
              <a:rPr b="1" i="1" lang="en-US" sz="3200" spc="-1" strike="noStrike">
                <a:solidFill>
                  <a:srgbClr val="703dff"/>
                </a:solidFill>
                <a:latin typeface="Comic Sans MS"/>
              </a:rPr>
              <a:t>Arranjos</a:t>
            </a:r>
            <a:r>
              <a:rPr b="1" i="1" lang="en-US" sz="32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759132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200"/>
                </a:solidFill>
                <a:latin typeface="Comic Sans MS"/>
              </a:rPr>
              <a:t>Quando a ordem não impor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 o sorteio fosse de dois carro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ríamo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10x9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=45 possíveis duplas de ganhado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1692360" y="4076640"/>
            <a:ext cx="10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5496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3º Ex: No Ônibus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6960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um ônibus, ficaram vagos 5 lugares e há 7 pessoas em pé, entre elas uma gestante. Por educação, um dos lugares vagos foi cedido à senhora gestante. De quantas maneiras diferentes os outros passageiros podem ocupar os demais lugares vagos, ficando, obviamente, 2 em pé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2050920" y="4724280"/>
            <a:ext cx="6616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ste caso a ordem importa, então terem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24000" y="5921280"/>
            <a:ext cx="647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29080" y="5921280"/>
            <a:ext cx="647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32000" y="5921280"/>
            <a:ext cx="648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35280" y="5921280"/>
            <a:ext cx="647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40360" y="5921280"/>
            <a:ext cx="273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60 manei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8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200"/>
                </a:solidFill>
                <a:latin typeface="Comic Sans MS"/>
              </a:rPr>
              <a:t>Usando a Formula do Arranjo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696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pt-BR" sz="3200" spc="-1" strike="noStrike" baseline="-25000">
                <a:solidFill>
                  <a:srgbClr val="000000"/>
                </a:solidFill>
                <a:latin typeface="Comic Sans MS"/>
              </a:rPr>
              <a:t>6,4  </a:t>
            </a: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=&gt; Arranjos de 6 pessoas em grupo de 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Temo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pt-BR" sz="3200" spc="-1" strike="noStrike" baseline="-25000">
                <a:solidFill>
                  <a:srgbClr val="000000"/>
                </a:solidFill>
                <a:latin typeface="Comic Sans MS"/>
              </a:rPr>
              <a:t>6,4</a:t>
            </a: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pt-BR" sz="3200" spc="-1" strike="noStrike" u="sng">
                <a:solidFill>
                  <a:srgbClr val="000000"/>
                </a:solidFill>
                <a:uFillTx/>
                <a:latin typeface="Comic Sans MS"/>
              </a:rPr>
              <a:t> 6!  </a:t>
            </a: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 =&gt; </a:t>
            </a:r>
            <a:r>
              <a:rPr b="1" lang="pt-BR" sz="3200" spc="-1" strike="noStrike" u="sng">
                <a:solidFill>
                  <a:srgbClr val="000000"/>
                </a:solidFill>
                <a:uFillTx/>
                <a:latin typeface="Comic Sans MS"/>
              </a:rPr>
              <a:t>6x5x4x3x</a:t>
            </a:r>
            <a:r>
              <a:rPr b="1" lang="pt-BR" sz="3200" spc="-1" strike="noStrike" u="sng">
                <a:solidFill>
                  <a:srgbClr val="ff0000"/>
                </a:solidFill>
                <a:uFillTx/>
                <a:latin typeface="Comic Sans MS"/>
              </a:rPr>
              <a:t>2!</a:t>
            </a: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 =36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2122560" y="4581360"/>
            <a:ext cx="1395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6-4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86200" y="4653000"/>
            <a:ext cx="7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2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08000" y="5300640"/>
            <a:ext cx="619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0000"/>
                </a:solidFill>
                <a:latin typeface="Comic Sans MS"/>
              </a:rPr>
              <a:t>Formula: </a:t>
            </a:r>
            <a:r>
              <a:rPr b="1" lang="pt-BR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pt-BR" sz="3600" spc="-1" strike="noStrike" baseline="-25000">
                <a:solidFill>
                  <a:srgbClr val="000000"/>
                </a:solidFill>
                <a:latin typeface="Comic Sans MS"/>
              </a:rPr>
              <a:t>n,k</a:t>
            </a:r>
            <a:r>
              <a:rPr b="1" lang="pt-BR" sz="36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1" lang="pt-BR" sz="3600" spc="-1" strike="noStrike" u="sng">
                <a:solidFill>
                  <a:srgbClr val="000000"/>
                </a:solidFill>
                <a:uFillTx/>
                <a:latin typeface="Comic Sans MS"/>
              </a:rPr>
              <a:t>  n!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92720" y="5877000"/>
            <a:ext cx="14400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(n-k)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27092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 se for 5 pessoas em 5 lugares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mo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x4x3x2x1 =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5!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 120 manei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3860640"/>
            <a:ext cx="769608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bs: Arranjos como esse são chamados d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Permu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200"/>
                </a:solidFill>
                <a:latin typeface="Comic Sans MS"/>
              </a:rPr>
              <a:t>Ex: </a:t>
            </a:r>
            <a:r>
              <a:rPr b="1" lang="en-US" sz="4400" spc="-1" strike="noStrike" u="sng">
                <a:solidFill>
                  <a:srgbClr val="00b200"/>
                </a:solidFill>
                <a:uFillTx/>
                <a:latin typeface="Comic Sans MS"/>
              </a:rPr>
              <a:t>Combinaçã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7850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 setor de emergência de um hospital conta, para plantões noturnos, com 3 pediatras, 4 Clínicos gerais e 5 enfermeiros. As equipes de plantão deverão ser constituídas por 1 pediatra, 1 clínico geral e 2 enfermeiro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1915920"/>
            <a:ext cx="64818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omic Sans MS"/>
              </a:rPr>
              <a:t>5,2 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Comic Sans MS"/>
              </a:rPr>
              <a:t>5x4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Comic Sans MS"/>
              </a:rPr>
              <a:t>5x4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Comic Sans MS"/>
              </a:rPr>
              <a:t>20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pt-BR" sz="2800" spc="-1" strike="noStrike">
                <a:solidFill>
                  <a:srgbClr val="ff0000"/>
                </a:solidFill>
                <a:latin typeface="Comic Sans MS"/>
              </a:rPr>
              <a:t>10 dupl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189000"/>
            <a:ext cx="792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mic Sans MS"/>
              </a:rPr>
              <a:t>Quantos pares distintos de enfermeiros podem ser formad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Comic Sans MS"/>
              </a:rPr>
              <a:t>5,2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=&gt; Combinação de 5 enfermeiros em grupos de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19280" y="2349360"/>
            <a:ext cx="72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2349360"/>
            <a:ext cx="72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2997360"/>
            <a:ext cx="83534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) Quantos equipes de plantão distintas podem ser form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mos: 3 pediatras, 4 clínicos e 5 enfermei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da equipe deve ter: 1 pediatra, 1 clínico e 2 enfermei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= 3x4x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mic Sans MS"/>
              </a:rPr>
              <a:t>5,2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=3x4x10 =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20 equi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24360" y="2349360"/>
            <a:ext cx="72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8000" y="5373720"/>
            <a:ext cx="6767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bs: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mbinaçõ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ão os Arranjos descontando as permutações. E as combinações a ordem não impo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6870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Comic Sans MS"/>
              </a:rPr>
              <a:t>Objetivo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45840" y="1341360"/>
            <a:ext cx="8497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Mostrar a evolução do processo de </a:t>
            </a:r>
            <a:r>
              <a:rPr b="1" i="1" lang="en-US" sz="3600" spc="-1" strike="noStrike">
                <a:solidFill>
                  <a:srgbClr val="ffb800"/>
                </a:solidFill>
                <a:latin typeface="Comic Sans MS"/>
              </a:rPr>
              <a:t>contagem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, através do estudo da </a:t>
            </a:r>
            <a:r>
              <a:rPr b="1" i="1" lang="en-US" sz="3600" spc="-1" strike="noStrike">
                <a:solidFill>
                  <a:srgbClr val="030faf"/>
                </a:solidFill>
                <a:latin typeface="Comic Sans MS"/>
              </a:rPr>
              <a:t>Analise Combinatória,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 ressaltando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200"/>
                </a:solidFill>
                <a:latin typeface="Comic Sans MS"/>
              </a:rPr>
              <a:t>O conceito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ffb800"/>
                </a:solidFill>
                <a:latin typeface="Comic Sans MS"/>
              </a:rPr>
              <a:t>O surgimento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03dff"/>
                </a:solidFill>
                <a:latin typeface="Comic Sans MS"/>
              </a:rPr>
              <a:t>Os principais matemáticos;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80aa8"/>
                </a:solidFill>
                <a:latin typeface="Comic Sans MS"/>
              </a:rPr>
              <a:t>As partes da Analise Combinatória;</a:t>
            </a: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E exemplos práticos no cotidian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342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ff0000"/>
                </a:solidFill>
                <a:latin typeface="Comic Sans MS"/>
              </a:rPr>
              <a:t>FIM</a:t>
            </a:r>
            <a:endParaRPr b="0" lang="en-US" sz="2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Comic Sans MS"/>
              </a:rPr>
              <a:t>Conceito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amo da </a:t>
            </a:r>
            <a:r>
              <a:rPr b="1" lang="en-US" sz="4000" spc="-1" strike="noStrike">
                <a:solidFill>
                  <a:srgbClr val="ffb800"/>
                </a:solidFill>
                <a:latin typeface="Comic Sans MS"/>
              </a:rPr>
              <a:t>Matemátic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que estuda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COLEÇÕES FINITAS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de objetos que satisfaça certos </a:t>
            </a: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CRITÉRIOS ESPECÍFICOS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, e se preocupa em particular, com a </a:t>
            </a:r>
            <a:r>
              <a:rPr b="1" lang="en-US" sz="4000" spc="-1" strike="noStrike">
                <a:solidFill>
                  <a:srgbClr val="030faf"/>
                </a:solidFill>
                <a:latin typeface="Comic Sans MS"/>
              </a:rPr>
              <a:t>CONTAGEM.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Como surgiu a Analise Combinatória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516720" y="3429000"/>
            <a:ext cx="2087640" cy="1104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443640" y="2133720"/>
            <a:ext cx="2232000" cy="11048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612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a necessidade que os homens tiveram em </a:t>
            </a:r>
            <a:r>
              <a:rPr b="1" i="1" lang="en-US" sz="3200" spc="-1" strike="noStrike">
                <a:solidFill>
                  <a:srgbClr val="00b200"/>
                </a:solidFill>
                <a:latin typeface="Comic Sans MS"/>
              </a:rPr>
              <a:t>calcular maneiras segura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de ganharem em certos </a:t>
            </a:r>
            <a:r>
              <a:rPr b="1" i="1" lang="en-US" sz="3600" spc="-1" strike="noStrike">
                <a:solidFill>
                  <a:srgbClr val="030faf"/>
                </a:solidFill>
                <a:latin typeface="Comic Sans MS"/>
              </a:rPr>
              <a:t>jogos de azar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Tais como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 Sans MS"/>
              </a:rPr>
              <a:t>Baralho, Dados e Moedas</a:t>
            </a:r>
            <a:r>
              <a:rPr b="1" i="1" lang="en-US" sz="3600" spc="-1" strike="noStrike">
                <a:solidFill>
                  <a:srgbClr val="030fa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516720" y="4653000"/>
            <a:ext cx="2087640" cy="1409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880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Grande precursor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752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0000"/>
                </a:solidFill>
                <a:latin typeface="Comic Sans MS"/>
              </a:rPr>
              <a:t>Arquime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30fa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30faf"/>
                </a:solidFill>
                <a:latin typeface="Comic Sans MS"/>
              </a:rPr>
              <a:t>Século III a.C</a:t>
            </a:r>
            <a:r>
              <a:rPr b="1" i="1" lang="pt-BR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0000"/>
                </a:solidFill>
                <a:latin typeface="Comic Sans MS"/>
              </a:rPr>
              <a:t>Jogo </a:t>
            </a:r>
            <a:r>
              <a:rPr b="1" i="1" lang="pt-BR" sz="2400" spc="-1" strike="noStrike">
                <a:solidFill>
                  <a:srgbClr val="000000"/>
                </a:solidFill>
                <a:latin typeface="Comic Sans MS"/>
              </a:rPr>
              <a:t>Stomach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mic Sans MS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1171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17121"/>
                </a:solidFill>
                <a:latin typeface="Comic Sans MS"/>
              </a:rPr>
              <a:t>Saber de quantas formas suas partes menores poderiam formam o mesmo quadrad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703dff"/>
                </a:solidFill>
                <a:latin typeface="Comic Sans MS"/>
              </a:rPr>
              <a:t>Resposta = 17152 vez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mic Sans MS"/>
              </a:rPr>
              <a:t>Outra descober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b8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b800"/>
                </a:solidFill>
                <a:latin typeface="Comic Sans MS"/>
              </a:rPr>
              <a:t>Que o quociente entre a </a:t>
            </a:r>
            <a:r>
              <a:rPr b="1" i="1" lang="pt-BR" sz="2400" spc="-1" strike="noStrike">
                <a:solidFill>
                  <a:srgbClr val="ff0000"/>
                </a:solidFill>
                <a:latin typeface="Comic Sans MS"/>
              </a:rPr>
              <a:t>área de cada peça e a área do quadrado total</a:t>
            </a:r>
            <a:r>
              <a:rPr b="1" i="1" lang="pt-BR" sz="2400" spc="-1" strike="noStrike">
                <a:solidFill>
                  <a:srgbClr val="ffb800"/>
                </a:solidFill>
                <a:latin typeface="Comic Sans MS"/>
              </a:rPr>
              <a:t> é um número </a:t>
            </a:r>
            <a:r>
              <a:rPr b="1" i="1" lang="pt-BR" sz="2400" spc="-1" strike="noStrike">
                <a:solidFill>
                  <a:srgbClr val="ff0000"/>
                </a:solidFill>
                <a:latin typeface="Comic Sans MS"/>
              </a:rPr>
              <a:t>raciona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148360" y="1413000"/>
            <a:ext cx="3097080" cy="2232000"/>
            <a:chOff x="5148360" y="1413000"/>
            <a:chExt cx="3097080" cy="223200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148360" y="1413000"/>
              <a:ext cx="309708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 txBox="1"/>
            <p:nvPr/>
          </p:nvSpPr>
          <p:spPr>
            <a:xfrm>
              <a:off x="5148360" y="1413000"/>
              <a:ext cx="3097080" cy="22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72" name="" descr="[tabuleiro]"/>
          <p:cNvPicPr/>
          <p:nvPr/>
        </p:nvPicPr>
        <p:blipFill>
          <a:blip r:embed="rId2"/>
          <a:stretch/>
        </p:blipFill>
        <p:spPr>
          <a:xfrm>
            <a:off x="5219640" y="3933720"/>
            <a:ext cx="2952720" cy="251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23096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studiosos do Stomach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5976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0000"/>
                </a:solidFill>
                <a:latin typeface="Comic Sans MS"/>
              </a:rPr>
              <a:t>Historiador: </a:t>
            </a:r>
            <a:r>
              <a:rPr b="1" i="1" lang="pt-BR" sz="3600" spc="-1" strike="noStrike">
                <a:solidFill>
                  <a:srgbClr val="00b200"/>
                </a:solidFill>
                <a:latin typeface="Comic Sans MS"/>
              </a:rPr>
              <a:t>Reviel Netz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0000"/>
                </a:solidFill>
                <a:latin typeface="Comic Sans MS"/>
              </a:rPr>
              <a:t>Amigos: </a:t>
            </a:r>
            <a:r>
              <a:rPr b="1" i="1" lang="pt-BR" sz="3600" spc="-1" strike="noStrike">
                <a:solidFill>
                  <a:srgbClr val="00b200"/>
                </a:solidFill>
                <a:latin typeface="Comic Sans MS"/>
              </a:rPr>
              <a:t>Persi Diaconis, Susan Holmes, Ronald Grahan e Fan Chung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b800"/>
                </a:solidFill>
                <a:latin typeface="Comic Sans MS"/>
              </a:rPr>
              <a:t>Resposta confirmada: 17152 vez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30fa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30faf"/>
                </a:solidFill>
                <a:latin typeface="Comic Sans MS"/>
              </a:rPr>
              <a:t>Tempo:6 semanas</a:t>
            </a:r>
            <a:r>
              <a:rPr b="1" i="1" lang="pt-BR" sz="3600" spc="-1" strike="noStrike">
                <a:solidFill>
                  <a:srgbClr val="030fa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3213000"/>
            <a:ext cx="4311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4149720"/>
            <a:ext cx="4022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8000" y="1484280"/>
            <a:ext cx="813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227640" y="1844640"/>
            <a:ext cx="23050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7920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Comic Sans MS"/>
              </a:rPr>
              <a:t>Outros </a:t>
            </a: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Matemáticos</a:t>
            </a:r>
            <a:r>
              <a:rPr b="1" i="1" lang="en-US" sz="6600" spc="-1" strike="noStrike">
                <a:solidFill>
                  <a:srgbClr val="ff0000"/>
                </a:solidFill>
                <a:latin typeface="Comic Sans MS"/>
              </a:rPr>
              <a:t> que contribuirão para a evolução do estudo da </a:t>
            </a: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Analise Combinatória</a:t>
            </a:r>
            <a:r>
              <a:rPr b="1" i="1" lang="en-US" sz="6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7416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pt-BR" sz="4800" spc="-1" strike="noStrike">
                <a:solidFill>
                  <a:srgbClr val="ff0000"/>
                </a:solidFill>
                <a:latin typeface="Comic Sans MS"/>
              </a:rPr>
              <a:t>Niccollo Fontan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3640" y="1828440"/>
            <a:ext cx="413388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b200"/>
                </a:solidFill>
                <a:latin typeface="Comic Sans MS"/>
              </a:rPr>
              <a:t>Italia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Comic Sans MS"/>
              </a:rPr>
              <a:t>Nasceu em 149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a80aa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a80aa8"/>
                </a:solidFill>
                <a:latin typeface="Comic Sans MS"/>
              </a:rPr>
              <a:t>Morreu em 155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b800"/>
                </a:solidFill>
                <a:latin typeface="Comic Sans MS"/>
              </a:rPr>
              <a:t>Conhecido como Tartaglia = Gago</a:t>
            </a:r>
            <a:r>
              <a:rPr b="1" i="1" lang="pt-B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2880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2:48:18Z</dcterms:created>
  <dc:creator>Geneflides Torres</dc:creator>
  <dc:description/>
  <dc:language>en-US</dc:language>
  <cp:lastModifiedBy>Jaydê</cp:lastModifiedBy>
  <dcterms:modified xsi:type="dcterms:W3CDTF">2008-04-01T10:41:54Z</dcterms:modified>
  <cp:revision>36</cp:revision>
  <dc:subject/>
  <dc:title>UNIVERSIDADE ESTADUAL VALE DO ACARAÚ</dc:title>
</cp:coreProperties>
</file>